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042-E9B9-4F4F-B9AB-8410287F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245-B8CF-475F-B503-1DE87038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ED0-0595-44BA-ADC8-0AD7C6A8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14D-AD38-4028-9309-A0EBF0DF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551-8B55-406C-B5E3-5095B41F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D4D-C165-4730-8F6B-8E50626F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6B9-4CFE-4746-8372-435755E3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9F9-88D9-42D4-9A91-4C4C068A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ADD-D789-4AB7-9E66-4EF09EAF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D5D-708D-4FB6-B43D-89CB9B40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2EF-B959-4385-BFCC-B9472AA1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AB4-37B4-474E-A156-23334030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2BD3-A401-4FCD-9E97-42526CD24C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nday, October 6t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back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4120" y="2571840"/>
            <a:ext cx="2438280" cy="920520"/>
          </a:xfrm>
          <a:custGeom>
            <a:avLst/>
            <a:gdLst/>
            <a:ahLst/>
            <a:rect l="l" t="t" r="r" b="b"/>
            <a:pathLst>
              <a:path w="6772" h="2556">
                <a:moveTo>
                  <a:pt x="1116" y="7640"/>
                </a:moveTo>
                <a:cubicBezTo>
                  <a:pt x="1087" y="7678"/>
                  <a:pt x="1091" y="7691"/>
                  <a:pt x="1091" y="7739"/>
                </a:cubicBezTo>
                <a:cubicBezTo>
                  <a:pt x="1091" y="7802"/>
                  <a:pt x="1067" y="7843"/>
                  <a:pt x="1067" y="7913"/>
                </a:cubicBezTo>
                <a:cubicBezTo>
                  <a:pt x="1067" y="8095"/>
                  <a:pt x="1067" y="8276"/>
                  <a:pt x="1067" y="8458"/>
                </a:cubicBezTo>
              </a:path>
              <a:path w="6772" h="2556">
                <a:moveTo>
                  <a:pt x="1265" y="8434"/>
                </a:moveTo>
                <a:cubicBezTo>
                  <a:pt x="1257" y="8434"/>
                  <a:pt x="1248" y="8434"/>
                  <a:pt x="1240" y="8434"/>
                </a:cubicBezTo>
              </a:path>
              <a:path w="6772" h="2556">
                <a:moveTo>
                  <a:pt x="1836" y="7739"/>
                </a:moveTo>
                <a:cubicBezTo>
                  <a:pt x="1887" y="7732"/>
                  <a:pt x="1909" y="7714"/>
                  <a:pt x="1960" y="7714"/>
                </a:cubicBezTo>
                <a:cubicBezTo>
                  <a:pt x="2089" y="7714"/>
                  <a:pt x="2208" y="7706"/>
                  <a:pt x="2332" y="7689"/>
                </a:cubicBezTo>
                <a:cubicBezTo>
                  <a:pt x="2427" y="7676"/>
                  <a:pt x="2532" y="7689"/>
                  <a:pt x="2629" y="7689"/>
                </a:cubicBezTo>
                <a:cubicBezTo>
                  <a:pt x="2620" y="7725"/>
                  <a:pt x="2587" y="7756"/>
                  <a:pt x="2580" y="7789"/>
                </a:cubicBezTo>
                <a:cubicBezTo>
                  <a:pt x="2569" y="7841"/>
                  <a:pt x="2540" y="7891"/>
                  <a:pt x="2530" y="7938"/>
                </a:cubicBezTo>
                <a:cubicBezTo>
                  <a:pt x="2516" y="8006"/>
                  <a:pt x="2505" y="8064"/>
                  <a:pt x="2505" y="8136"/>
                </a:cubicBezTo>
                <a:cubicBezTo>
                  <a:pt x="2505" y="8195"/>
                  <a:pt x="2463" y="8234"/>
                  <a:pt x="2456" y="8285"/>
                </a:cubicBezTo>
                <a:cubicBezTo>
                  <a:pt x="2446" y="8350"/>
                  <a:pt x="2424" y="8416"/>
                  <a:pt x="2456" y="8384"/>
                </a:cubicBezTo>
              </a:path>
              <a:path w="6772" h="2556">
                <a:moveTo>
                  <a:pt x="2877" y="7789"/>
                </a:moveTo>
                <a:cubicBezTo>
                  <a:pt x="2951" y="7769"/>
                  <a:pt x="3047" y="7743"/>
                  <a:pt x="3125" y="7764"/>
                </a:cubicBezTo>
                <a:cubicBezTo>
                  <a:pt x="3202" y="7784"/>
                  <a:pt x="3266" y="7789"/>
                  <a:pt x="3349" y="7789"/>
                </a:cubicBezTo>
                <a:cubicBezTo>
                  <a:pt x="3390" y="7789"/>
                  <a:pt x="3432" y="7789"/>
                  <a:pt x="3473" y="7789"/>
                </a:cubicBezTo>
              </a:path>
              <a:path w="6772" h="2556">
                <a:moveTo>
                  <a:pt x="3051" y="7789"/>
                </a:moveTo>
                <a:cubicBezTo>
                  <a:pt x="3044" y="7868"/>
                  <a:pt x="3026" y="7931"/>
                  <a:pt x="3026" y="8012"/>
                </a:cubicBezTo>
                <a:cubicBezTo>
                  <a:pt x="3026" y="8094"/>
                  <a:pt x="3019" y="8158"/>
                  <a:pt x="3001" y="8235"/>
                </a:cubicBezTo>
                <a:cubicBezTo>
                  <a:pt x="2992" y="8274"/>
                  <a:pt x="2988" y="8300"/>
                  <a:pt x="2977" y="8334"/>
                </a:cubicBezTo>
                <a:cubicBezTo>
                  <a:pt x="2977" y="8342"/>
                  <a:pt x="2977" y="8351"/>
                  <a:pt x="2977" y="8359"/>
                </a:cubicBezTo>
              </a:path>
              <a:path w="6772" h="2556">
                <a:moveTo>
                  <a:pt x="3349" y="7863"/>
                </a:moveTo>
                <a:cubicBezTo>
                  <a:pt x="3328" y="7951"/>
                  <a:pt x="3279" y="8048"/>
                  <a:pt x="3274" y="8136"/>
                </a:cubicBezTo>
                <a:cubicBezTo>
                  <a:pt x="3269" y="8221"/>
                  <a:pt x="3281" y="8281"/>
                  <a:pt x="3299" y="8359"/>
                </a:cubicBezTo>
                <a:cubicBezTo>
                  <a:pt x="3311" y="8409"/>
                  <a:pt x="3311" y="8496"/>
                  <a:pt x="3274" y="8508"/>
                </a:cubicBezTo>
              </a:path>
              <a:path w="6772" h="2556">
                <a:moveTo>
                  <a:pt x="2257" y="8582"/>
                </a:moveTo>
                <a:cubicBezTo>
                  <a:pt x="2328" y="8612"/>
                  <a:pt x="2352" y="8629"/>
                  <a:pt x="2431" y="8632"/>
                </a:cubicBezTo>
                <a:cubicBezTo>
                  <a:pt x="2698" y="8643"/>
                  <a:pt x="2963" y="8623"/>
                  <a:pt x="3225" y="8657"/>
                </a:cubicBezTo>
                <a:cubicBezTo>
                  <a:pt x="3276" y="8664"/>
                  <a:pt x="3360" y="8673"/>
                  <a:pt x="3373" y="8632"/>
                </a:cubicBezTo>
              </a:path>
              <a:path w="6772" h="2556">
                <a:moveTo>
                  <a:pt x="2406" y="8930"/>
                </a:moveTo>
                <a:cubicBezTo>
                  <a:pt x="2406" y="9099"/>
                  <a:pt x="2408" y="9265"/>
                  <a:pt x="2381" y="9426"/>
                </a:cubicBezTo>
                <a:cubicBezTo>
                  <a:pt x="2371" y="9483"/>
                  <a:pt x="2371" y="9525"/>
                  <a:pt x="2356" y="9575"/>
                </a:cubicBezTo>
                <a:cubicBezTo>
                  <a:pt x="2344" y="9614"/>
                  <a:pt x="2355" y="9615"/>
                  <a:pt x="2381" y="9624"/>
                </a:cubicBezTo>
              </a:path>
              <a:path w="6772" h="2556">
                <a:moveTo>
                  <a:pt x="2828" y="9079"/>
                </a:moveTo>
                <a:cubicBezTo>
                  <a:pt x="2780" y="9082"/>
                  <a:pt x="2623" y="9062"/>
                  <a:pt x="2654" y="9178"/>
                </a:cubicBezTo>
                <a:cubicBezTo>
                  <a:pt x="2679" y="9270"/>
                  <a:pt x="2749" y="9353"/>
                  <a:pt x="2803" y="9426"/>
                </a:cubicBezTo>
                <a:cubicBezTo>
                  <a:pt x="2842" y="9479"/>
                  <a:pt x="2897" y="9556"/>
                  <a:pt x="2902" y="9624"/>
                </a:cubicBezTo>
                <a:cubicBezTo>
                  <a:pt x="2902" y="9666"/>
                  <a:pt x="2902" y="9674"/>
                  <a:pt x="2902" y="9699"/>
                </a:cubicBezTo>
                <a:cubicBezTo>
                  <a:pt x="2849" y="9699"/>
                  <a:pt x="2841" y="9687"/>
                  <a:pt x="2803" y="9649"/>
                </a:cubicBezTo>
                <a:cubicBezTo>
                  <a:pt x="2774" y="9620"/>
                  <a:pt x="2764" y="9568"/>
                  <a:pt x="2778" y="9525"/>
                </a:cubicBezTo>
                <a:cubicBezTo>
                  <a:pt x="2804" y="9447"/>
                  <a:pt x="2888" y="9380"/>
                  <a:pt x="2927" y="9302"/>
                </a:cubicBezTo>
                <a:cubicBezTo>
                  <a:pt x="2959" y="9239"/>
                  <a:pt x="3028" y="9184"/>
                  <a:pt x="3076" y="9128"/>
                </a:cubicBezTo>
              </a:path>
              <a:path w="6772" h="2556">
                <a:moveTo>
                  <a:pt x="3969" y="7764"/>
                </a:moveTo>
                <a:cubicBezTo>
                  <a:pt x="3921" y="7867"/>
                  <a:pt x="3897" y="7986"/>
                  <a:pt x="3845" y="8086"/>
                </a:cubicBezTo>
                <a:cubicBezTo>
                  <a:pt x="3782" y="8207"/>
                  <a:pt x="3710" y="8326"/>
                  <a:pt x="3671" y="8458"/>
                </a:cubicBezTo>
                <a:cubicBezTo>
                  <a:pt x="3630" y="8598"/>
                  <a:pt x="3599" y="8740"/>
                  <a:pt x="3572" y="8880"/>
                </a:cubicBezTo>
                <a:cubicBezTo>
                  <a:pt x="3546" y="9019"/>
                  <a:pt x="3538" y="9142"/>
                  <a:pt x="3547" y="9277"/>
                </a:cubicBezTo>
                <a:cubicBezTo>
                  <a:pt x="3555" y="9391"/>
                  <a:pt x="3593" y="9450"/>
                  <a:pt x="3646" y="9550"/>
                </a:cubicBezTo>
                <a:cubicBezTo>
                  <a:pt x="3696" y="9643"/>
                  <a:pt x="3744" y="9649"/>
                  <a:pt x="3845" y="9649"/>
                </a:cubicBezTo>
              </a:path>
              <a:path w="6772" h="2556">
                <a:moveTo>
                  <a:pt x="4465" y="7938"/>
                </a:moveTo>
                <a:cubicBezTo>
                  <a:pt x="4465" y="8019"/>
                  <a:pt x="4451" y="8083"/>
                  <a:pt x="4440" y="8161"/>
                </a:cubicBezTo>
                <a:cubicBezTo>
                  <a:pt x="4430" y="8228"/>
                  <a:pt x="4436" y="8295"/>
                  <a:pt x="4415" y="8359"/>
                </a:cubicBezTo>
                <a:cubicBezTo>
                  <a:pt x="4405" y="8389"/>
                  <a:pt x="4399" y="8522"/>
                  <a:pt x="4390" y="8533"/>
                </a:cubicBezTo>
                <a:cubicBezTo>
                  <a:pt x="4362" y="8533"/>
                  <a:pt x="4357" y="8530"/>
                  <a:pt x="4390" y="8508"/>
                </a:cubicBezTo>
              </a:path>
              <a:path w="6772" h="2556">
                <a:moveTo>
                  <a:pt x="4961" y="7962"/>
                </a:moveTo>
                <a:cubicBezTo>
                  <a:pt x="4931" y="7873"/>
                  <a:pt x="4918" y="7924"/>
                  <a:pt x="4837" y="7938"/>
                </a:cubicBezTo>
                <a:cubicBezTo>
                  <a:pt x="4746" y="7954"/>
                  <a:pt x="4752" y="7969"/>
                  <a:pt x="4713" y="8037"/>
                </a:cubicBezTo>
                <a:cubicBezTo>
                  <a:pt x="4672" y="8107"/>
                  <a:pt x="4731" y="8145"/>
                  <a:pt x="4762" y="8210"/>
                </a:cubicBezTo>
                <a:cubicBezTo>
                  <a:pt x="4796" y="8282"/>
                  <a:pt x="4869" y="8354"/>
                  <a:pt x="4887" y="8434"/>
                </a:cubicBezTo>
                <a:cubicBezTo>
                  <a:pt x="4902" y="8499"/>
                  <a:pt x="4901" y="8527"/>
                  <a:pt x="4887" y="8582"/>
                </a:cubicBezTo>
                <a:cubicBezTo>
                  <a:pt x="4833" y="8582"/>
                  <a:pt x="4815" y="8571"/>
                  <a:pt x="4762" y="8558"/>
                </a:cubicBezTo>
                <a:cubicBezTo>
                  <a:pt x="4668" y="8535"/>
                  <a:pt x="4679" y="8507"/>
                  <a:pt x="4688" y="8434"/>
                </a:cubicBezTo>
                <a:cubicBezTo>
                  <a:pt x="4701" y="8330"/>
                  <a:pt x="4785" y="8301"/>
                  <a:pt x="4862" y="8235"/>
                </a:cubicBezTo>
                <a:cubicBezTo>
                  <a:pt x="4916" y="8189"/>
                  <a:pt x="4930" y="8151"/>
                  <a:pt x="4986" y="8111"/>
                </a:cubicBezTo>
              </a:path>
              <a:path w="6772" h="2556">
                <a:moveTo>
                  <a:pt x="5159" y="8086"/>
                </a:moveTo>
                <a:cubicBezTo>
                  <a:pt x="5120" y="8165"/>
                  <a:pt x="5074" y="8249"/>
                  <a:pt x="5060" y="8334"/>
                </a:cubicBezTo>
                <a:cubicBezTo>
                  <a:pt x="5055" y="8366"/>
                  <a:pt x="5078" y="8442"/>
                  <a:pt x="5110" y="8458"/>
                </a:cubicBezTo>
                <a:cubicBezTo>
                  <a:pt x="5163" y="8484"/>
                  <a:pt x="5206" y="8493"/>
                  <a:pt x="5259" y="8458"/>
                </a:cubicBezTo>
                <a:cubicBezTo>
                  <a:pt x="5324" y="8415"/>
                  <a:pt x="5348" y="8381"/>
                  <a:pt x="5383" y="8310"/>
                </a:cubicBezTo>
                <a:cubicBezTo>
                  <a:pt x="5418" y="8239"/>
                  <a:pt x="5415" y="8182"/>
                  <a:pt x="5383" y="8111"/>
                </a:cubicBezTo>
                <a:cubicBezTo>
                  <a:pt x="5351" y="8040"/>
                  <a:pt x="5285" y="7962"/>
                  <a:pt x="5209" y="7938"/>
                </a:cubicBezTo>
                <a:cubicBezTo>
                  <a:pt x="5192" y="7938"/>
                  <a:pt x="5176" y="7938"/>
                  <a:pt x="5159" y="7938"/>
                </a:cubicBezTo>
              </a:path>
              <a:path w="6772" h="2556">
                <a:moveTo>
                  <a:pt x="4266" y="8657"/>
                </a:moveTo>
                <a:cubicBezTo>
                  <a:pt x="4541" y="8657"/>
                  <a:pt x="4816" y="8661"/>
                  <a:pt x="5085" y="8632"/>
                </a:cubicBezTo>
                <a:cubicBezTo>
                  <a:pt x="5182" y="8622"/>
                  <a:pt x="5285" y="8632"/>
                  <a:pt x="5383" y="8632"/>
                </a:cubicBezTo>
              </a:path>
              <a:path w="6772" h="2556">
                <a:moveTo>
                  <a:pt x="4440" y="8880"/>
                </a:moveTo>
                <a:cubicBezTo>
                  <a:pt x="4497" y="8866"/>
                  <a:pt x="4543" y="8838"/>
                  <a:pt x="4614" y="8855"/>
                </a:cubicBezTo>
                <a:cubicBezTo>
                  <a:pt x="4701" y="8876"/>
                  <a:pt x="4796" y="8892"/>
                  <a:pt x="4887" y="8905"/>
                </a:cubicBezTo>
                <a:cubicBezTo>
                  <a:pt x="4971" y="8917"/>
                  <a:pt x="5054" y="8942"/>
                  <a:pt x="5135" y="8954"/>
                </a:cubicBezTo>
                <a:cubicBezTo>
                  <a:pt x="5165" y="8959"/>
                  <a:pt x="5203" y="8954"/>
                  <a:pt x="5234" y="8954"/>
                </a:cubicBezTo>
              </a:path>
              <a:path w="6772" h="2556">
                <a:moveTo>
                  <a:pt x="4614" y="8979"/>
                </a:moveTo>
                <a:cubicBezTo>
                  <a:pt x="4599" y="9064"/>
                  <a:pt x="4569" y="9166"/>
                  <a:pt x="4564" y="9252"/>
                </a:cubicBezTo>
                <a:cubicBezTo>
                  <a:pt x="4561" y="9307"/>
                  <a:pt x="4539" y="9346"/>
                  <a:pt x="4539" y="9401"/>
                </a:cubicBezTo>
                <a:cubicBezTo>
                  <a:pt x="4539" y="9452"/>
                  <a:pt x="4547" y="9353"/>
                  <a:pt x="4564" y="9327"/>
                </a:cubicBezTo>
                <a:cubicBezTo>
                  <a:pt x="4572" y="9319"/>
                  <a:pt x="4581" y="9310"/>
                  <a:pt x="4589" y="9302"/>
                </a:cubicBezTo>
              </a:path>
              <a:path w="6772" h="2556">
                <a:moveTo>
                  <a:pt x="4862" y="8979"/>
                </a:moveTo>
                <a:cubicBezTo>
                  <a:pt x="4847" y="9078"/>
                  <a:pt x="4817" y="9181"/>
                  <a:pt x="4812" y="9277"/>
                </a:cubicBezTo>
                <a:cubicBezTo>
                  <a:pt x="4809" y="9336"/>
                  <a:pt x="4787" y="9363"/>
                  <a:pt x="4787" y="9426"/>
                </a:cubicBezTo>
                <a:cubicBezTo>
                  <a:pt x="4787" y="9451"/>
                  <a:pt x="4787" y="9459"/>
                  <a:pt x="4812" y="9451"/>
                </a:cubicBezTo>
              </a:path>
              <a:path w="6772" h="2556">
                <a:moveTo>
                  <a:pt x="5606" y="7739"/>
                </a:moveTo>
                <a:cubicBezTo>
                  <a:pt x="5753" y="7937"/>
                  <a:pt x="5828" y="8030"/>
                  <a:pt x="5879" y="8260"/>
                </a:cubicBezTo>
                <a:cubicBezTo>
                  <a:pt x="5922" y="8455"/>
                  <a:pt x="5931" y="8657"/>
                  <a:pt x="5904" y="8855"/>
                </a:cubicBezTo>
                <a:cubicBezTo>
                  <a:pt x="5885" y="8993"/>
                  <a:pt x="5850" y="9134"/>
                  <a:pt x="5779" y="9252"/>
                </a:cubicBezTo>
                <a:cubicBezTo>
                  <a:pt x="5721" y="9348"/>
                  <a:pt x="5658" y="9444"/>
                  <a:pt x="5581" y="9525"/>
                </a:cubicBezTo>
                <a:cubicBezTo>
                  <a:pt x="5524" y="9585"/>
                  <a:pt x="5473" y="9630"/>
                  <a:pt x="5407" y="9674"/>
                </a:cubicBezTo>
              </a:path>
              <a:path w="6772" h="2556">
                <a:moveTo>
                  <a:pt x="4390" y="9351"/>
                </a:moveTo>
                <a:cubicBezTo>
                  <a:pt x="4497" y="9342"/>
                  <a:pt x="4608" y="9308"/>
                  <a:pt x="4713" y="9277"/>
                </a:cubicBezTo>
                <a:cubicBezTo>
                  <a:pt x="4827" y="9243"/>
                  <a:pt x="4950" y="9213"/>
                  <a:pt x="5060" y="9178"/>
                </a:cubicBezTo>
                <a:cubicBezTo>
                  <a:pt x="5104" y="9164"/>
                  <a:pt x="5150" y="9132"/>
                  <a:pt x="5159" y="9103"/>
                </a:cubicBezTo>
              </a:path>
              <a:path w="6772" h="2556">
                <a:moveTo>
                  <a:pt x="2927" y="8260"/>
                </a:moveTo>
                <a:cubicBezTo>
                  <a:pt x="2935" y="8229"/>
                  <a:pt x="2976" y="8181"/>
                  <a:pt x="3001" y="8161"/>
                </a:cubicBezTo>
                <a:cubicBezTo>
                  <a:pt x="3054" y="8119"/>
                  <a:pt x="3139" y="8064"/>
                  <a:pt x="3200" y="8037"/>
                </a:cubicBezTo>
                <a:cubicBezTo>
                  <a:pt x="3273" y="8005"/>
                  <a:pt x="3349" y="7967"/>
                  <a:pt x="3423" y="7938"/>
                </a:cubicBezTo>
                <a:cubicBezTo>
                  <a:pt x="3437" y="7933"/>
                  <a:pt x="3584" y="7888"/>
                  <a:pt x="3522" y="7888"/>
                </a:cubicBezTo>
              </a:path>
              <a:path w="6772" h="2556">
                <a:moveTo>
                  <a:pt x="2059" y="9575"/>
                </a:moveTo>
                <a:cubicBezTo>
                  <a:pt x="2112" y="9529"/>
                  <a:pt x="2162" y="9502"/>
                  <a:pt x="2232" y="9475"/>
                </a:cubicBezTo>
                <a:cubicBezTo>
                  <a:pt x="2322" y="9440"/>
                  <a:pt x="2413" y="9407"/>
                  <a:pt x="2505" y="9376"/>
                </a:cubicBezTo>
                <a:cubicBezTo>
                  <a:pt x="2597" y="9345"/>
                  <a:pt x="2690" y="9319"/>
                  <a:pt x="2778" y="9277"/>
                </a:cubicBezTo>
                <a:cubicBezTo>
                  <a:pt x="2835" y="9250"/>
                  <a:pt x="2876" y="9260"/>
                  <a:pt x="2902" y="9227"/>
                </a:cubicBezTo>
                <a:cubicBezTo>
                  <a:pt x="2910" y="9219"/>
                  <a:pt x="2919" y="9211"/>
                  <a:pt x="2927" y="9203"/>
                </a:cubicBezTo>
              </a:path>
              <a:path w="6772" h="2556">
                <a:moveTo>
                  <a:pt x="4242" y="8558"/>
                </a:moveTo>
                <a:cubicBezTo>
                  <a:pt x="4242" y="8508"/>
                  <a:pt x="4247" y="8508"/>
                  <a:pt x="4291" y="8483"/>
                </a:cubicBezTo>
                <a:cubicBezTo>
                  <a:pt x="4374" y="8436"/>
                  <a:pt x="4457" y="8446"/>
                  <a:pt x="4539" y="8409"/>
                </a:cubicBezTo>
                <a:cubicBezTo>
                  <a:pt x="4655" y="8356"/>
                  <a:pt x="4766" y="8324"/>
                  <a:pt x="4887" y="8285"/>
                </a:cubicBezTo>
                <a:cubicBezTo>
                  <a:pt x="4961" y="8261"/>
                  <a:pt x="5018" y="8237"/>
                  <a:pt x="5085" y="8210"/>
                </a:cubicBezTo>
                <a:cubicBezTo>
                  <a:pt x="5125" y="8194"/>
                  <a:pt x="5128" y="8172"/>
                  <a:pt x="5159" y="8161"/>
                </a:cubicBezTo>
                <a:cubicBezTo>
                  <a:pt x="5130" y="8131"/>
                  <a:pt x="5122" y="8120"/>
                  <a:pt x="5085" y="8111"/>
                </a:cubicBezTo>
              </a:path>
              <a:path w="6772" h="2556">
                <a:moveTo>
                  <a:pt x="4564" y="7144"/>
                </a:moveTo>
                <a:cubicBezTo>
                  <a:pt x="4564" y="7238"/>
                  <a:pt x="4544" y="7305"/>
                  <a:pt x="4539" y="7392"/>
                </a:cubicBezTo>
                <a:cubicBezTo>
                  <a:pt x="4536" y="7450"/>
                  <a:pt x="4529" y="7534"/>
                  <a:pt x="4514" y="7590"/>
                </a:cubicBezTo>
                <a:cubicBezTo>
                  <a:pt x="4500" y="7643"/>
                  <a:pt x="4470" y="7690"/>
                  <a:pt x="4465" y="7739"/>
                </a:cubicBezTo>
                <a:cubicBezTo>
                  <a:pt x="4463" y="7759"/>
                  <a:pt x="4440" y="7808"/>
                  <a:pt x="4440" y="7764"/>
                </a:cubicBezTo>
                <a:cubicBezTo>
                  <a:pt x="4440" y="7756"/>
                  <a:pt x="4440" y="7747"/>
                  <a:pt x="4440" y="7739"/>
                </a:cubicBezTo>
              </a:path>
              <a:path w="6772" h="2556">
                <a:moveTo>
                  <a:pt x="4738" y="7392"/>
                </a:moveTo>
                <a:cubicBezTo>
                  <a:pt x="4722" y="7484"/>
                  <a:pt x="4713" y="7550"/>
                  <a:pt x="4713" y="7640"/>
                </a:cubicBezTo>
                <a:cubicBezTo>
                  <a:pt x="4713" y="7675"/>
                  <a:pt x="4735" y="7711"/>
                  <a:pt x="4762" y="7714"/>
                </a:cubicBezTo>
                <a:cubicBezTo>
                  <a:pt x="4813" y="7720"/>
                  <a:pt x="4851" y="7721"/>
                  <a:pt x="4887" y="7689"/>
                </a:cubicBezTo>
                <a:cubicBezTo>
                  <a:pt x="4918" y="7661"/>
                  <a:pt x="4976" y="7583"/>
                  <a:pt x="4986" y="7541"/>
                </a:cubicBezTo>
                <a:cubicBezTo>
                  <a:pt x="5005" y="7463"/>
                  <a:pt x="5005" y="7448"/>
                  <a:pt x="4986" y="7367"/>
                </a:cubicBezTo>
                <a:cubicBezTo>
                  <a:pt x="4978" y="7331"/>
                  <a:pt x="4948" y="7264"/>
                  <a:pt x="4911" y="7243"/>
                </a:cubicBezTo>
                <a:cubicBezTo>
                  <a:pt x="4906" y="7240"/>
                  <a:pt x="4812" y="7193"/>
                  <a:pt x="4812" y="7193"/>
                </a:cubicBezTo>
                <a:cubicBezTo>
                  <a:pt x="4789" y="7216"/>
                  <a:pt x="4785" y="7224"/>
                  <a:pt x="4762" y="7218"/>
                </a:cubicBezTo>
              </a:path>
              <a:path w="6772" h="2556">
                <a:moveTo>
                  <a:pt x="6102" y="8161"/>
                </a:moveTo>
                <a:cubicBezTo>
                  <a:pt x="6191" y="8161"/>
                  <a:pt x="6264" y="8180"/>
                  <a:pt x="6350" y="8186"/>
                </a:cubicBezTo>
                <a:cubicBezTo>
                  <a:pt x="6383" y="8188"/>
                  <a:pt x="6416" y="8186"/>
                  <a:pt x="6449" y="8186"/>
                </a:cubicBezTo>
              </a:path>
              <a:path w="6772" h="2556">
                <a:moveTo>
                  <a:pt x="6102" y="8384"/>
                </a:moveTo>
                <a:cubicBezTo>
                  <a:pt x="6172" y="8410"/>
                  <a:pt x="6224" y="8409"/>
                  <a:pt x="6300" y="8409"/>
                </a:cubicBezTo>
                <a:cubicBezTo>
                  <a:pt x="6350" y="8409"/>
                  <a:pt x="6383" y="8409"/>
                  <a:pt x="6424" y="8409"/>
                </a:cubicBezTo>
              </a:path>
              <a:path w="6772" h="2556">
                <a:moveTo>
                  <a:pt x="6697" y="7913"/>
                </a:moveTo>
                <a:cubicBezTo>
                  <a:pt x="6756" y="7888"/>
                  <a:pt x="6813" y="7882"/>
                  <a:pt x="6871" y="7863"/>
                </a:cubicBezTo>
                <a:cubicBezTo>
                  <a:pt x="6940" y="7840"/>
                  <a:pt x="6995" y="7838"/>
                  <a:pt x="7069" y="7838"/>
                </a:cubicBezTo>
                <a:cubicBezTo>
                  <a:pt x="7102" y="7838"/>
                  <a:pt x="7136" y="7838"/>
                  <a:pt x="7169" y="7838"/>
                </a:cubicBezTo>
                <a:cubicBezTo>
                  <a:pt x="7140" y="7877"/>
                  <a:pt x="7119" y="7915"/>
                  <a:pt x="7094" y="7962"/>
                </a:cubicBezTo>
                <a:cubicBezTo>
                  <a:pt x="7061" y="8024"/>
                  <a:pt x="7053" y="8139"/>
                  <a:pt x="7045" y="8210"/>
                </a:cubicBezTo>
                <a:cubicBezTo>
                  <a:pt x="7037" y="8279"/>
                  <a:pt x="7054" y="8594"/>
                  <a:pt x="7069" y="8558"/>
                </a:cubicBezTo>
                <a:cubicBezTo>
                  <a:pt x="7069" y="8550"/>
                  <a:pt x="7069" y="8541"/>
                  <a:pt x="7069" y="8533"/>
                </a:cubicBezTo>
              </a:path>
              <a:path w="6772" h="2556">
                <a:moveTo>
                  <a:pt x="7441" y="8062"/>
                </a:moveTo>
                <a:cubicBezTo>
                  <a:pt x="7423" y="8110"/>
                  <a:pt x="7308" y="8320"/>
                  <a:pt x="7342" y="8409"/>
                </a:cubicBezTo>
                <a:cubicBezTo>
                  <a:pt x="7356" y="8445"/>
                  <a:pt x="7372" y="8512"/>
                  <a:pt x="7417" y="8533"/>
                </a:cubicBezTo>
                <a:cubicBezTo>
                  <a:pt x="7493" y="8568"/>
                  <a:pt x="7557" y="8561"/>
                  <a:pt x="7640" y="8533"/>
                </a:cubicBezTo>
                <a:cubicBezTo>
                  <a:pt x="7698" y="8514"/>
                  <a:pt x="7760" y="8434"/>
                  <a:pt x="7789" y="8384"/>
                </a:cubicBezTo>
                <a:cubicBezTo>
                  <a:pt x="7838" y="8300"/>
                  <a:pt x="7851" y="8259"/>
                  <a:pt x="7813" y="8161"/>
                </a:cubicBezTo>
                <a:cubicBezTo>
                  <a:pt x="7795" y="8116"/>
                  <a:pt x="7735" y="8028"/>
                  <a:pt x="7689" y="8012"/>
                </a:cubicBezTo>
                <a:cubicBezTo>
                  <a:pt x="7636" y="7994"/>
                  <a:pt x="7573" y="7992"/>
                  <a:pt x="7516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7840" y="3679920"/>
            <a:ext cx="2563920" cy="1241280"/>
          </a:xfrm>
          <a:custGeom>
            <a:avLst/>
            <a:gdLst/>
            <a:ahLst/>
            <a:rect l="l" t="t" r="r" b="b"/>
            <a:pathLst>
              <a:path w="7120" h="3448">
                <a:moveTo>
                  <a:pt x="496" y="10567"/>
                </a:moveTo>
                <a:cubicBezTo>
                  <a:pt x="530" y="10541"/>
                  <a:pt x="558" y="10533"/>
                  <a:pt x="595" y="10517"/>
                </a:cubicBezTo>
                <a:cubicBezTo>
                  <a:pt x="658" y="10490"/>
                  <a:pt x="701" y="10492"/>
                  <a:pt x="769" y="10492"/>
                </a:cubicBezTo>
                <a:cubicBezTo>
                  <a:pt x="815" y="10492"/>
                  <a:pt x="892" y="10521"/>
                  <a:pt x="918" y="10567"/>
                </a:cubicBezTo>
                <a:cubicBezTo>
                  <a:pt x="948" y="10621"/>
                  <a:pt x="870" y="10687"/>
                  <a:pt x="843" y="10716"/>
                </a:cubicBezTo>
                <a:cubicBezTo>
                  <a:pt x="800" y="10763"/>
                  <a:pt x="722" y="10793"/>
                  <a:pt x="670" y="10815"/>
                </a:cubicBezTo>
                <a:cubicBezTo>
                  <a:pt x="629" y="10835"/>
                  <a:pt x="623" y="10844"/>
                  <a:pt x="595" y="10840"/>
                </a:cubicBezTo>
                <a:cubicBezTo>
                  <a:pt x="615" y="10878"/>
                  <a:pt x="668" y="10901"/>
                  <a:pt x="719" y="10914"/>
                </a:cubicBezTo>
                <a:cubicBezTo>
                  <a:pt x="777" y="10929"/>
                  <a:pt x="824" y="10994"/>
                  <a:pt x="868" y="11038"/>
                </a:cubicBezTo>
                <a:cubicBezTo>
                  <a:pt x="911" y="11081"/>
                  <a:pt x="903" y="11143"/>
                  <a:pt x="868" y="11187"/>
                </a:cubicBezTo>
                <a:cubicBezTo>
                  <a:pt x="811" y="11259"/>
                  <a:pt x="743" y="11261"/>
                  <a:pt x="670" y="11286"/>
                </a:cubicBezTo>
                <a:cubicBezTo>
                  <a:pt x="589" y="11313"/>
                  <a:pt x="591" y="11294"/>
                  <a:pt x="521" y="11286"/>
                </a:cubicBezTo>
                <a:cubicBezTo>
                  <a:pt x="496" y="11286"/>
                  <a:pt x="488" y="11286"/>
                  <a:pt x="496" y="11261"/>
                </a:cubicBezTo>
              </a:path>
              <a:path w="7120" h="3448">
                <a:moveTo>
                  <a:pt x="1116" y="11361"/>
                </a:moveTo>
                <a:cubicBezTo>
                  <a:pt x="1116" y="11403"/>
                  <a:pt x="1122" y="11361"/>
                  <a:pt x="1141" y="11336"/>
                </a:cubicBezTo>
              </a:path>
              <a:path w="7120" h="3448">
                <a:moveTo>
                  <a:pt x="2034" y="10517"/>
                </a:moveTo>
                <a:cubicBezTo>
                  <a:pt x="1981" y="10601"/>
                  <a:pt x="1949" y="10675"/>
                  <a:pt x="1910" y="10765"/>
                </a:cubicBezTo>
                <a:cubicBezTo>
                  <a:pt x="1878" y="10839"/>
                  <a:pt x="1863" y="10932"/>
                  <a:pt x="1860" y="11013"/>
                </a:cubicBezTo>
                <a:cubicBezTo>
                  <a:pt x="1856" y="11098"/>
                  <a:pt x="1859" y="11165"/>
                  <a:pt x="1910" y="11237"/>
                </a:cubicBezTo>
                <a:cubicBezTo>
                  <a:pt x="1951" y="11295"/>
                  <a:pt x="1993" y="11332"/>
                  <a:pt x="2059" y="11336"/>
                </a:cubicBezTo>
                <a:cubicBezTo>
                  <a:pt x="2158" y="11342"/>
                  <a:pt x="2219" y="11305"/>
                  <a:pt x="2307" y="11261"/>
                </a:cubicBezTo>
                <a:cubicBezTo>
                  <a:pt x="2374" y="11228"/>
                  <a:pt x="2400" y="11181"/>
                  <a:pt x="2406" y="11112"/>
                </a:cubicBezTo>
                <a:cubicBezTo>
                  <a:pt x="2409" y="11072"/>
                  <a:pt x="2397" y="11032"/>
                  <a:pt x="2356" y="11013"/>
                </a:cubicBezTo>
                <a:cubicBezTo>
                  <a:pt x="2317" y="10995"/>
                  <a:pt x="2276" y="11034"/>
                  <a:pt x="2257" y="11063"/>
                </a:cubicBezTo>
                <a:cubicBezTo>
                  <a:pt x="2233" y="11100"/>
                  <a:pt x="2217" y="11167"/>
                  <a:pt x="2232" y="11212"/>
                </a:cubicBezTo>
                <a:cubicBezTo>
                  <a:pt x="2255" y="11279"/>
                  <a:pt x="2277" y="11354"/>
                  <a:pt x="2307" y="11410"/>
                </a:cubicBezTo>
                <a:cubicBezTo>
                  <a:pt x="2315" y="11427"/>
                  <a:pt x="2324" y="11443"/>
                  <a:pt x="2332" y="11460"/>
                </a:cubicBezTo>
              </a:path>
              <a:path w="7120" h="3448">
                <a:moveTo>
                  <a:pt x="3299" y="10418"/>
                </a:moveTo>
                <a:cubicBezTo>
                  <a:pt x="3283" y="10477"/>
                  <a:pt x="3274" y="10534"/>
                  <a:pt x="3249" y="10592"/>
                </a:cubicBezTo>
                <a:cubicBezTo>
                  <a:pt x="3203" y="10698"/>
                  <a:pt x="3154" y="10773"/>
                  <a:pt x="3125" y="10889"/>
                </a:cubicBezTo>
                <a:cubicBezTo>
                  <a:pt x="3091" y="11024"/>
                  <a:pt x="3045" y="11156"/>
                  <a:pt x="3001" y="11286"/>
                </a:cubicBezTo>
                <a:cubicBezTo>
                  <a:pt x="2943" y="11456"/>
                  <a:pt x="2909" y="11629"/>
                  <a:pt x="2877" y="11807"/>
                </a:cubicBezTo>
                <a:cubicBezTo>
                  <a:pt x="2845" y="11987"/>
                  <a:pt x="2808" y="12169"/>
                  <a:pt x="2828" y="12353"/>
                </a:cubicBezTo>
                <a:cubicBezTo>
                  <a:pt x="2844" y="12502"/>
                  <a:pt x="2861" y="12654"/>
                  <a:pt x="2902" y="12799"/>
                </a:cubicBezTo>
                <a:cubicBezTo>
                  <a:pt x="2924" y="12877"/>
                  <a:pt x="2965" y="12973"/>
                  <a:pt x="3051" y="12998"/>
                </a:cubicBezTo>
                <a:cubicBezTo>
                  <a:pt x="3076" y="12998"/>
                  <a:pt x="3100" y="12998"/>
                  <a:pt x="3125" y="12998"/>
                </a:cubicBezTo>
              </a:path>
              <a:path w="7120" h="3448">
                <a:moveTo>
                  <a:pt x="3671" y="10765"/>
                </a:moveTo>
                <a:cubicBezTo>
                  <a:pt x="3671" y="10936"/>
                  <a:pt x="3664" y="11092"/>
                  <a:pt x="3646" y="11261"/>
                </a:cubicBezTo>
                <a:cubicBezTo>
                  <a:pt x="3643" y="11288"/>
                  <a:pt x="3636" y="11413"/>
                  <a:pt x="3621" y="11435"/>
                </a:cubicBezTo>
                <a:cubicBezTo>
                  <a:pt x="3621" y="11435"/>
                  <a:pt x="3552" y="11483"/>
                  <a:pt x="3621" y="11435"/>
                </a:cubicBezTo>
              </a:path>
              <a:path w="7120" h="3448">
                <a:moveTo>
                  <a:pt x="4142" y="10716"/>
                </a:moveTo>
                <a:cubicBezTo>
                  <a:pt x="4026" y="10742"/>
                  <a:pt x="3993" y="10736"/>
                  <a:pt x="3969" y="10864"/>
                </a:cubicBezTo>
                <a:cubicBezTo>
                  <a:pt x="3950" y="10964"/>
                  <a:pt x="4031" y="11055"/>
                  <a:pt x="4068" y="11137"/>
                </a:cubicBezTo>
                <a:cubicBezTo>
                  <a:pt x="4081" y="11167"/>
                  <a:pt x="4147" y="11311"/>
                  <a:pt x="4142" y="11336"/>
                </a:cubicBezTo>
                <a:cubicBezTo>
                  <a:pt x="4120" y="11358"/>
                  <a:pt x="4112" y="11363"/>
                  <a:pt x="4118" y="11385"/>
                </a:cubicBezTo>
                <a:cubicBezTo>
                  <a:pt x="4057" y="11370"/>
                  <a:pt x="4050" y="11347"/>
                  <a:pt x="3994" y="11311"/>
                </a:cubicBezTo>
                <a:cubicBezTo>
                  <a:pt x="3943" y="11278"/>
                  <a:pt x="3894" y="11263"/>
                  <a:pt x="3919" y="11187"/>
                </a:cubicBezTo>
                <a:cubicBezTo>
                  <a:pt x="3956" y="11076"/>
                  <a:pt x="4085" y="11032"/>
                  <a:pt x="4167" y="10964"/>
                </a:cubicBezTo>
                <a:cubicBezTo>
                  <a:pt x="4213" y="10918"/>
                  <a:pt x="4225" y="10903"/>
                  <a:pt x="4266" y="10889"/>
                </a:cubicBezTo>
              </a:path>
              <a:path w="7120" h="3448">
                <a:moveTo>
                  <a:pt x="4440" y="10765"/>
                </a:moveTo>
                <a:cubicBezTo>
                  <a:pt x="4490" y="10832"/>
                  <a:pt x="4428" y="10840"/>
                  <a:pt x="4415" y="10914"/>
                </a:cubicBezTo>
                <a:cubicBezTo>
                  <a:pt x="4401" y="10996"/>
                  <a:pt x="4370" y="11078"/>
                  <a:pt x="4366" y="11162"/>
                </a:cubicBezTo>
                <a:cubicBezTo>
                  <a:pt x="4362" y="11233"/>
                  <a:pt x="4393" y="11264"/>
                  <a:pt x="4440" y="11311"/>
                </a:cubicBezTo>
                <a:cubicBezTo>
                  <a:pt x="4492" y="11363"/>
                  <a:pt x="4500" y="11370"/>
                  <a:pt x="4564" y="11336"/>
                </a:cubicBezTo>
                <a:cubicBezTo>
                  <a:pt x="4622" y="11305"/>
                  <a:pt x="4676" y="11259"/>
                  <a:pt x="4688" y="11187"/>
                </a:cubicBezTo>
                <a:cubicBezTo>
                  <a:pt x="4704" y="11092"/>
                  <a:pt x="4710" y="11007"/>
                  <a:pt x="4688" y="10914"/>
                </a:cubicBezTo>
                <a:cubicBezTo>
                  <a:pt x="4661" y="10798"/>
                  <a:pt x="4605" y="10792"/>
                  <a:pt x="4539" y="10716"/>
                </a:cubicBezTo>
                <a:cubicBezTo>
                  <a:pt x="4482" y="10650"/>
                  <a:pt x="4491" y="10666"/>
                  <a:pt x="4390" y="10666"/>
                </a:cubicBezTo>
              </a:path>
              <a:path w="7120" h="3448">
                <a:moveTo>
                  <a:pt x="3522" y="11807"/>
                </a:moveTo>
                <a:cubicBezTo>
                  <a:pt x="3676" y="11807"/>
                  <a:pt x="3818" y="11794"/>
                  <a:pt x="3969" y="11782"/>
                </a:cubicBezTo>
                <a:cubicBezTo>
                  <a:pt x="4257" y="11760"/>
                  <a:pt x="5027" y="11782"/>
                  <a:pt x="4738" y="11782"/>
                </a:cubicBezTo>
              </a:path>
              <a:path w="7120" h="3448">
                <a:moveTo>
                  <a:pt x="3621" y="12030"/>
                </a:moveTo>
                <a:cubicBezTo>
                  <a:pt x="3741" y="12054"/>
                  <a:pt x="3846" y="12055"/>
                  <a:pt x="3969" y="12055"/>
                </a:cubicBezTo>
                <a:cubicBezTo>
                  <a:pt x="4047" y="12055"/>
                  <a:pt x="4150" y="12062"/>
                  <a:pt x="4192" y="12030"/>
                </a:cubicBezTo>
              </a:path>
              <a:path w="7120" h="3448">
                <a:moveTo>
                  <a:pt x="3944" y="12105"/>
                </a:moveTo>
                <a:cubicBezTo>
                  <a:pt x="3908" y="12207"/>
                  <a:pt x="3875" y="12294"/>
                  <a:pt x="3870" y="12402"/>
                </a:cubicBezTo>
                <a:cubicBezTo>
                  <a:pt x="3867" y="12468"/>
                  <a:pt x="3870" y="12535"/>
                  <a:pt x="3870" y="12601"/>
                </a:cubicBezTo>
              </a:path>
              <a:path w="7120" h="3448">
                <a:moveTo>
                  <a:pt x="4118" y="12055"/>
                </a:moveTo>
                <a:cubicBezTo>
                  <a:pt x="4118" y="12240"/>
                  <a:pt x="4115" y="12424"/>
                  <a:pt x="4142" y="12601"/>
                </a:cubicBezTo>
                <a:cubicBezTo>
                  <a:pt x="4153" y="12672"/>
                  <a:pt x="4166" y="12699"/>
                  <a:pt x="4217" y="12750"/>
                </a:cubicBezTo>
              </a:path>
              <a:path w="7120" h="3448">
                <a:moveTo>
                  <a:pt x="4738" y="10244"/>
                </a:moveTo>
                <a:cubicBezTo>
                  <a:pt x="4864" y="10284"/>
                  <a:pt x="4832" y="10217"/>
                  <a:pt x="4936" y="10368"/>
                </a:cubicBezTo>
                <a:cubicBezTo>
                  <a:pt x="5025" y="10498"/>
                  <a:pt x="5109" y="10691"/>
                  <a:pt x="5159" y="10840"/>
                </a:cubicBezTo>
                <a:cubicBezTo>
                  <a:pt x="5261" y="11143"/>
                  <a:pt x="5314" y="11466"/>
                  <a:pt x="5358" y="11782"/>
                </a:cubicBezTo>
                <a:cubicBezTo>
                  <a:pt x="5406" y="12124"/>
                  <a:pt x="5356" y="12421"/>
                  <a:pt x="5259" y="12750"/>
                </a:cubicBezTo>
                <a:cubicBezTo>
                  <a:pt x="5200" y="12948"/>
                  <a:pt x="5100" y="13148"/>
                  <a:pt x="4986" y="13320"/>
                </a:cubicBezTo>
                <a:cubicBezTo>
                  <a:pt x="4894" y="13460"/>
                  <a:pt x="4793" y="13564"/>
                  <a:pt x="4663" y="13667"/>
                </a:cubicBezTo>
              </a:path>
              <a:path w="7120" h="3448">
                <a:moveTo>
                  <a:pt x="5556" y="11708"/>
                </a:moveTo>
                <a:cubicBezTo>
                  <a:pt x="5609" y="11655"/>
                  <a:pt x="5629" y="11658"/>
                  <a:pt x="5705" y="11658"/>
                </a:cubicBezTo>
                <a:cubicBezTo>
                  <a:pt x="5755" y="11658"/>
                  <a:pt x="5804" y="11658"/>
                  <a:pt x="5854" y="11658"/>
                </a:cubicBezTo>
              </a:path>
              <a:path w="7120" h="3448">
                <a:moveTo>
                  <a:pt x="5556" y="11881"/>
                </a:moveTo>
                <a:cubicBezTo>
                  <a:pt x="5650" y="11881"/>
                  <a:pt x="5742" y="11893"/>
                  <a:pt x="5829" y="11857"/>
                </a:cubicBezTo>
                <a:cubicBezTo>
                  <a:pt x="5879" y="11832"/>
                  <a:pt x="5895" y="11824"/>
                  <a:pt x="5928" y="11807"/>
                </a:cubicBezTo>
              </a:path>
              <a:path w="7120" h="3448">
                <a:moveTo>
                  <a:pt x="6251" y="11038"/>
                </a:moveTo>
                <a:cubicBezTo>
                  <a:pt x="6242" y="11128"/>
                  <a:pt x="6223" y="11225"/>
                  <a:pt x="6201" y="11311"/>
                </a:cubicBezTo>
                <a:cubicBezTo>
                  <a:pt x="6181" y="11390"/>
                  <a:pt x="6176" y="11453"/>
                  <a:pt x="6176" y="11534"/>
                </a:cubicBezTo>
                <a:cubicBezTo>
                  <a:pt x="6176" y="11584"/>
                  <a:pt x="6160" y="11644"/>
                  <a:pt x="6201" y="11658"/>
                </a:cubicBezTo>
              </a:path>
              <a:path w="7120" h="3448">
                <a:moveTo>
                  <a:pt x="6449" y="11063"/>
                </a:moveTo>
                <a:cubicBezTo>
                  <a:pt x="6420" y="11138"/>
                  <a:pt x="6404" y="11231"/>
                  <a:pt x="6400" y="11311"/>
                </a:cubicBezTo>
                <a:cubicBezTo>
                  <a:pt x="6397" y="11366"/>
                  <a:pt x="6391" y="11418"/>
                  <a:pt x="6424" y="11460"/>
                </a:cubicBezTo>
                <a:cubicBezTo>
                  <a:pt x="6464" y="11511"/>
                  <a:pt x="6486" y="11509"/>
                  <a:pt x="6548" y="11509"/>
                </a:cubicBezTo>
                <a:cubicBezTo>
                  <a:pt x="6614" y="11509"/>
                  <a:pt x="6625" y="11516"/>
                  <a:pt x="6648" y="11460"/>
                </a:cubicBezTo>
                <a:cubicBezTo>
                  <a:pt x="6674" y="11398"/>
                  <a:pt x="6710" y="11356"/>
                  <a:pt x="6697" y="11286"/>
                </a:cubicBezTo>
                <a:cubicBezTo>
                  <a:pt x="6684" y="11215"/>
                  <a:pt x="6662" y="11152"/>
                  <a:pt x="6598" y="11112"/>
                </a:cubicBezTo>
                <a:cubicBezTo>
                  <a:pt x="6532" y="11071"/>
                  <a:pt x="6508" y="11095"/>
                  <a:pt x="6449" y="11112"/>
                </a:cubicBezTo>
                <a:cubicBezTo>
                  <a:pt x="6421" y="11112"/>
                  <a:pt x="6410" y="11114"/>
                  <a:pt x="6400" y="11137"/>
                </a:cubicBezTo>
              </a:path>
              <a:path w="7120" h="3448">
                <a:moveTo>
                  <a:pt x="7069" y="11088"/>
                </a:moveTo>
                <a:cubicBezTo>
                  <a:pt x="7020" y="11069"/>
                  <a:pt x="6943" y="11035"/>
                  <a:pt x="6896" y="11088"/>
                </a:cubicBezTo>
                <a:cubicBezTo>
                  <a:pt x="6864" y="11124"/>
                  <a:pt x="6884" y="11190"/>
                  <a:pt x="6896" y="11237"/>
                </a:cubicBezTo>
                <a:cubicBezTo>
                  <a:pt x="6916" y="11311"/>
                  <a:pt x="6957" y="11419"/>
                  <a:pt x="6995" y="11485"/>
                </a:cubicBezTo>
                <a:cubicBezTo>
                  <a:pt x="7003" y="11499"/>
                  <a:pt x="7017" y="11591"/>
                  <a:pt x="6995" y="11609"/>
                </a:cubicBezTo>
                <a:cubicBezTo>
                  <a:pt x="6967" y="11632"/>
                  <a:pt x="6925" y="11628"/>
                  <a:pt x="6896" y="11609"/>
                </a:cubicBezTo>
                <a:cubicBezTo>
                  <a:pt x="6853" y="11581"/>
                  <a:pt x="6846" y="11556"/>
                  <a:pt x="6846" y="11509"/>
                </a:cubicBezTo>
                <a:cubicBezTo>
                  <a:pt x="6846" y="11450"/>
                  <a:pt x="6908" y="11442"/>
                  <a:pt x="6945" y="11410"/>
                </a:cubicBezTo>
                <a:cubicBezTo>
                  <a:pt x="6970" y="11385"/>
                  <a:pt x="6995" y="11361"/>
                  <a:pt x="7020" y="11336"/>
                </a:cubicBezTo>
              </a:path>
              <a:path w="7120" h="3448">
                <a:moveTo>
                  <a:pt x="7317" y="11088"/>
                </a:moveTo>
                <a:cubicBezTo>
                  <a:pt x="7306" y="11144"/>
                  <a:pt x="7256" y="11189"/>
                  <a:pt x="7243" y="11237"/>
                </a:cubicBezTo>
                <a:cubicBezTo>
                  <a:pt x="7229" y="11291"/>
                  <a:pt x="7202" y="11377"/>
                  <a:pt x="7218" y="11435"/>
                </a:cubicBezTo>
                <a:cubicBezTo>
                  <a:pt x="7231" y="11482"/>
                  <a:pt x="7297" y="11547"/>
                  <a:pt x="7342" y="11559"/>
                </a:cubicBezTo>
                <a:cubicBezTo>
                  <a:pt x="7389" y="11572"/>
                  <a:pt x="7458" y="11563"/>
                  <a:pt x="7491" y="11534"/>
                </a:cubicBezTo>
                <a:cubicBezTo>
                  <a:pt x="7566" y="11470"/>
                  <a:pt x="7554" y="11438"/>
                  <a:pt x="7590" y="11361"/>
                </a:cubicBezTo>
                <a:cubicBezTo>
                  <a:pt x="7614" y="11309"/>
                  <a:pt x="7618" y="11247"/>
                  <a:pt x="7590" y="11187"/>
                </a:cubicBezTo>
                <a:cubicBezTo>
                  <a:pt x="7571" y="11146"/>
                  <a:pt x="7491" y="11075"/>
                  <a:pt x="7441" y="11088"/>
                </a:cubicBezTo>
                <a:cubicBezTo>
                  <a:pt x="7393" y="11111"/>
                  <a:pt x="7379" y="11119"/>
                  <a:pt x="7342" y="11112"/>
                </a:cubicBezTo>
              </a:path>
              <a:path w="7120" h="3448">
                <a:moveTo>
                  <a:pt x="1488" y="10716"/>
                </a:moveTo>
                <a:cubicBezTo>
                  <a:pt x="1519" y="10761"/>
                  <a:pt x="1574" y="10726"/>
                  <a:pt x="1637" y="10740"/>
                </a:cubicBezTo>
                <a:cubicBezTo>
                  <a:pt x="1662" y="10748"/>
                  <a:pt x="1687" y="10757"/>
                  <a:pt x="1712" y="10765"/>
                </a:cubicBezTo>
              </a:path>
              <a:path w="7120" h="3448">
                <a:moveTo>
                  <a:pt x="5581" y="10988"/>
                </a:moveTo>
                <a:cubicBezTo>
                  <a:pt x="5687" y="10973"/>
                  <a:pt x="5749" y="10986"/>
                  <a:pt x="5854" y="11013"/>
                </a:cubicBezTo>
                <a:cubicBezTo>
                  <a:pt x="5943" y="11036"/>
                  <a:pt x="5967" y="11042"/>
                  <a:pt x="6052" y="110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68960" y="2598840"/>
            <a:ext cx="2625840" cy="1893960"/>
          </a:xfrm>
          <a:custGeom>
            <a:avLst/>
            <a:gdLst/>
            <a:ahLst/>
            <a:rect l="l" t="t" r="r" b="b"/>
            <a:pathLst>
              <a:path w="7293" h="5260">
                <a:moveTo>
                  <a:pt x="16247" y="9947"/>
                </a:moveTo>
                <a:cubicBezTo>
                  <a:pt x="16886" y="9947"/>
                  <a:pt x="17521" y="9960"/>
                  <a:pt x="18157" y="9996"/>
                </a:cubicBezTo>
                <a:cubicBezTo>
                  <a:pt x="18353" y="10007"/>
                  <a:pt x="18557" y="10014"/>
                  <a:pt x="18752" y="10021"/>
                </a:cubicBezTo>
                <a:cubicBezTo>
                  <a:pt x="19034" y="10031"/>
                  <a:pt x="19315" y="10041"/>
                  <a:pt x="19596" y="10046"/>
                </a:cubicBezTo>
                <a:cubicBezTo>
                  <a:pt x="19820" y="10050"/>
                  <a:pt x="20040" y="10071"/>
                  <a:pt x="20265" y="10071"/>
                </a:cubicBezTo>
                <a:cubicBezTo>
                  <a:pt x="20482" y="10071"/>
                  <a:pt x="20694" y="10092"/>
                  <a:pt x="20910" y="10096"/>
                </a:cubicBezTo>
                <a:cubicBezTo>
                  <a:pt x="21202" y="10101"/>
                  <a:pt x="21627" y="10172"/>
                  <a:pt x="21903" y="10071"/>
                </a:cubicBezTo>
                <a:cubicBezTo>
                  <a:pt x="21927" y="10071"/>
                  <a:pt x="21935" y="10071"/>
                  <a:pt x="21927" y="10046"/>
                </a:cubicBezTo>
              </a:path>
              <a:path w="7293" h="5260">
                <a:moveTo>
                  <a:pt x="18554" y="7417"/>
                </a:moveTo>
                <a:cubicBezTo>
                  <a:pt x="18563" y="7469"/>
                  <a:pt x="18577" y="7503"/>
                  <a:pt x="18579" y="7565"/>
                </a:cubicBezTo>
                <a:cubicBezTo>
                  <a:pt x="18594" y="8144"/>
                  <a:pt x="18593" y="8726"/>
                  <a:pt x="18604" y="9302"/>
                </a:cubicBezTo>
                <a:cubicBezTo>
                  <a:pt x="18608" y="9510"/>
                  <a:pt x="18618" y="9715"/>
                  <a:pt x="18628" y="9922"/>
                </a:cubicBezTo>
                <a:cubicBezTo>
                  <a:pt x="18651" y="10385"/>
                  <a:pt x="18626" y="10851"/>
                  <a:pt x="18653" y="11311"/>
                </a:cubicBezTo>
                <a:cubicBezTo>
                  <a:pt x="18665" y="11509"/>
                  <a:pt x="18658" y="11709"/>
                  <a:pt x="18678" y="11906"/>
                </a:cubicBezTo>
                <a:cubicBezTo>
                  <a:pt x="18688" y="12004"/>
                  <a:pt x="18688" y="12107"/>
                  <a:pt x="18703" y="12204"/>
                </a:cubicBezTo>
                <a:cubicBezTo>
                  <a:pt x="18713" y="12268"/>
                  <a:pt x="18713" y="12316"/>
                  <a:pt x="18728" y="12378"/>
                </a:cubicBezTo>
                <a:cubicBezTo>
                  <a:pt x="18735" y="12407"/>
                  <a:pt x="18773" y="12444"/>
                  <a:pt x="18777" y="12452"/>
                </a:cubicBezTo>
                <a:cubicBezTo>
                  <a:pt x="18777" y="12477"/>
                  <a:pt x="18777" y="12485"/>
                  <a:pt x="18777" y="12452"/>
                </a:cubicBezTo>
              </a:path>
              <a:path w="7293" h="5260">
                <a:moveTo>
                  <a:pt x="19993" y="9922"/>
                </a:moveTo>
                <a:cubicBezTo>
                  <a:pt x="19993" y="9845"/>
                  <a:pt x="19981" y="9787"/>
                  <a:pt x="19968" y="9723"/>
                </a:cubicBezTo>
                <a:cubicBezTo>
                  <a:pt x="19954" y="9653"/>
                  <a:pt x="19941" y="9592"/>
                  <a:pt x="19918" y="9525"/>
                </a:cubicBezTo>
                <a:cubicBezTo>
                  <a:pt x="19893" y="9451"/>
                  <a:pt x="19868" y="9376"/>
                  <a:pt x="19844" y="9302"/>
                </a:cubicBezTo>
                <a:cubicBezTo>
                  <a:pt x="19825" y="9243"/>
                  <a:pt x="19793" y="9188"/>
                  <a:pt x="19769" y="9128"/>
                </a:cubicBezTo>
                <a:cubicBezTo>
                  <a:pt x="19749" y="9077"/>
                  <a:pt x="19728" y="9031"/>
                  <a:pt x="19695" y="8979"/>
                </a:cubicBezTo>
                <a:cubicBezTo>
                  <a:pt x="19674" y="8946"/>
                  <a:pt x="19638" y="8916"/>
                  <a:pt x="19621" y="8880"/>
                </a:cubicBezTo>
                <a:cubicBezTo>
                  <a:pt x="19586" y="8807"/>
                  <a:pt x="19573" y="8789"/>
                  <a:pt x="19521" y="8731"/>
                </a:cubicBezTo>
                <a:cubicBezTo>
                  <a:pt x="19513" y="8722"/>
                  <a:pt x="19457" y="8695"/>
                  <a:pt x="19447" y="8682"/>
                </a:cubicBezTo>
                <a:cubicBezTo>
                  <a:pt x="19426" y="8654"/>
                  <a:pt x="19415" y="8653"/>
                  <a:pt x="19397" y="8632"/>
                </a:cubicBezTo>
                <a:cubicBezTo>
                  <a:pt x="19359" y="8588"/>
                  <a:pt x="19407" y="8613"/>
                  <a:pt x="19348" y="8582"/>
                </a:cubicBezTo>
                <a:cubicBezTo>
                  <a:pt x="19327" y="8571"/>
                  <a:pt x="19296" y="8574"/>
                  <a:pt x="19273" y="8558"/>
                </a:cubicBezTo>
                <a:cubicBezTo>
                  <a:pt x="19254" y="8544"/>
                  <a:pt x="19239" y="8522"/>
                  <a:pt x="19199" y="8508"/>
                </a:cubicBezTo>
                <a:cubicBezTo>
                  <a:pt x="19153" y="8492"/>
                  <a:pt x="19095" y="8470"/>
                  <a:pt x="19050" y="8458"/>
                </a:cubicBezTo>
                <a:cubicBezTo>
                  <a:pt x="18976" y="8437"/>
                  <a:pt x="18904" y="8446"/>
                  <a:pt x="18827" y="8434"/>
                </a:cubicBezTo>
                <a:cubicBezTo>
                  <a:pt x="18737" y="8420"/>
                  <a:pt x="18646" y="8393"/>
                  <a:pt x="18554" y="8384"/>
                </a:cubicBezTo>
                <a:cubicBezTo>
                  <a:pt x="18428" y="8371"/>
                  <a:pt x="18306" y="8402"/>
                  <a:pt x="18182" y="8409"/>
                </a:cubicBezTo>
                <a:cubicBezTo>
                  <a:pt x="18102" y="8414"/>
                  <a:pt x="18034" y="8418"/>
                  <a:pt x="17959" y="8434"/>
                </a:cubicBezTo>
                <a:cubicBezTo>
                  <a:pt x="17906" y="8445"/>
                  <a:pt x="17830" y="8478"/>
                  <a:pt x="17785" y="8483"/>
                </a:cubicBezTo>
                <a:cubicBezTo>
                  <a:pt x="17729" y="8490"/>
                  <a:pt x="17684" y="8502"/>
                  <a:pt x="17636" y="8508"/>
                </a:cubicBezTo>
                <a:cubicBezTo>
                  <a:pt x="17581" y="8514"/>
                  <a:pt x="17564" y="8518"/>
                  <a:pt x="17537" y="8533"/>
                </a:cubicBezTo>
                <a:cubicBezTo>
                  <a:pt x="17496" y="8555"/>
                  <a:pt x="17461" y="8584"/>
                  <a:pt x="17438" y="8607"/>
                </a:cubicBezTo>
                <a:cubicBezTo>
                  <a:pt x="17401" y="8644"/>
                  <a:pt x="17400" y="8645"/>
                  <a:pt x="17363" y="8682"/>
                </a:cubicBezTo>
                <a:cubicBezTo>
                  <a:pt x="17306" y="8739"/>
                  <a:pt x="17262" y="8791"/>
                  <a:pt x="17214" y="8855"/>
                </a:cubicBezTo>
                <a:cubicBezTo>
                  <a:pt x="17182" y="8898"/>
                  <a:pt x="17156" y="8935"/>
                  <a:pt x="17115" y="8979"/>
                </a:cubicBezTo>
                <a:cubicBezTo>
                  <a:pt x="17068" y="9029"/>
                  <a:pt x="17031" y="9074"/>
                  <a:pt x="16991" y="9128"/>
                </a:cubicBezTo>
                <a:cubicBezTo>
                  <a:pt x="16940" y="9196"/>
                  <a:pt x="16886" y="9254"/>
                  <a:pt x="16842" y="9327"/>
                </a:cubicBezTo>
                <a:cubicBezTo>
                  <a:pt x="16781" y="9427"/>
                  <a:pt x="16736" y="9544"/>
                  <a:pt x="16694" y="9649"/>
                </a:cubicBezTo>
                <a:cubicBezTo>
                  <a:pt x="16670" y="9710"/>
                  <a:pt x="16651" y="9758"/>
                  <a:pt x="16644" y="9823"/>
                </a:cubicBezTo>
                <a:cubicBezTo>
                  <a:pt x="16638" y="9880"/>
                  <a:pt x="16618" y="9896"/>
                  <a:pt x="16644" y="9947"/>
                </a:cubicBezTo>
                <a:cubicBezTo>
                  <a:pt x="16644" y="9975"/>
                  <a:pt x="16647" y="9980"/>
                  <a:pt x="16669" y="9947"/>
                </a:cubicBezTo>
              </a:path>
              <a:path w="7293" h="5260">
                <a:moveTo>
                  <a:pt x="14635" y="7640"/>
                </a:moveTo>
                <a:cubicBezTo>
                  <a:pt x="14635" y="7714"/>
                  <a:pt x="14645" y="7793"/>
                  <a:pt x="14660" y="7863"/>
                </a:cubicBezTo>
                <a:cubicBezTo>
                  <a:pt x="14681" y="7963"/>
                  <a:pt x="14705" y="8065"/>
                  <a:pt x="14734" y="8161"/>
                </a:cubicBezTo>
                <a:cubicBezTo>
                  <a:pt x="14760" y="8248"/>
                  <a:pt x="14779" y="8343"/>
                  <a:pt x="14784" y="8434"/>
                </a:cubicBezTo>
                <a:cubicBezTo>
                  <a:pt x="14787" y="8488"/>
                  <a:pt x="14762" y="8591"/>
                  <a:pt x="14808" y="8607"/>
                </a:cubicBezTo>
              </a:path>
              <a:path w="7293" h="5260">
                <a:moveTo>
                  <a:pt x="14883" y="7789"/>
                </a:moveTo>
                <a:cubicBezTo>
                  <a:pt x="14929" y="7724"/>
                  <a:pt x="14976" y="7703"/>
                  <a:pt x="15056" y="7689"/>
                </a:cubicBezTo>
                <a:cubicBezTo>
                  <a:pt x="15106" y="7681"/>
                  <a:pt x="15209" y="7655"/>
                  <a:pt x="15255" y="7665"/>
                </a:cubicBezTo>
                <a:cubicBezTo>
                  <a:pt x="15364" y="7689"/>
                  <a:pt x="15361" y="7806"/>
                  <a:pt x="15379" y="7888"/>
                </a:cubicBezTo>
                <a:cubicBezTo>
                  <a:pt x="15401" y="7992"/>
                  <a:pt x="15404" y="8080"/>
                  <a:pt x="15404" y="8186"/>
                </a:cubicBezTo>
                <a:cubicBezTo>
                  <a:pt x="15404" y="8198"/>
                  <a:pt x="15390" y="8315"/>
                  <a:pt x="15429" y="8310"/>
                </a:cubicBezTo>
                <a:cubicBezTo>
                  <a:pt x="15437" y="8302"/>
                  <a:pt x="15445" y="8293"/>
                  <a:pt x="15453" y="8285"/>
                </a:cubicBezTo>
              </a:path>
              <a:path w="7293" h="5260">
                <a:moveTo>
                  <a:pt x="15156" y="7218"/>
                </a:moveTo>
                <a:cubicBezTo>
                  <a:pt x="15287" y="7305"/>
                  <a:pt x="15508" y="7415"/>
                  <a:pt x="15553" y="7590"/>
                </a:cubicBezTo>
                <a:cubicBezTo>
                  <a:pt x="15582" y="7702"/>
                  <a:pt x="15565" y="7804"/>
                  <a:pt x="15553" y="7913"/>
                </a:cubicBezTo>
                <a:cubicBezTo>
                  <a:pt x="15540" y="8038"/>
                  <a:pt x="15513" y="8135"/>
                  <a:pt x="15478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65920" y="2446200"/>
            <a:ext cx="1936800" cy="1625760"/>
          </a:xfrm>
          <a:custGeom>
            <a:avLst/>
            <a:gdLst/>
            <a:ahLst/>
            <a:rect l="l" t="t" r="r" b="b"/>
            <a:pathLst>
              <a:path w="5383" h="4516">
                <a:moveTo>
                  <a:pt x="16570" y="9922"/>
                </a:moveTo>
                <a:cubicBezTo>
                  <a:pt x="16573" y="9965"/>
                  <a:pt x="16591" y="10009"/>
                  <a:pt x="16594" y="10021"/>
                </a:cubicBezTo>
                <a:cubicBezTo>
                  <a:pt x="16605" y="10062"/>
                  <a:pt x="16604" y="10083"/>
                  <a:pt x="16619" y="10120"/>
                </a:cubicBezTo>
                <a:cubicBezTo>
                  <a:pt x="16634" y="10158"/>
                  <a:pt x="16650" y="10214"/>
                  <a:pt x="16669" y="10244"/>
                </a:cubicBezTo>
                <a:cubicBezTo>
                  <a:pt x="16690" y="10276"/>
                  <a:pt x="16725" y="10318"/>
                  <a:pt x="16743" y="10344"/>
                </a:cubicBezTo>
                <a:cubicBezTo>
                  <a:pt x="16770" y="10383"/>
                  <a:pt x="16795" y="10434"/>
                  <a:pt x="16818" y="10468"/>
                </a:cubicBezTo>
                <a:cubicBezTo>
                  <a:pt x="16850" y="10516"/>
                  <a:pt x="16882" y="10571"/>
                  <a:pt x="16917" y="10616"/>
                </a:cubicBezTo>
                <a:cubicBezTo>
                  <a:pt x="16990" y="10711"/>
                  <a:pt x="17096" y="10795"/>
                  <a:pt x="17190" y="10864"/>
                </a:cubicBezTo>
                <a:cubicBezTo>
                  <a:pt x="17251" y="10909"/>
                  <a:pt x="17328" y="10942"/>
                  <a:pt x="17388" y="10988"/>
                </a:cubicBezTo>
                <a:cubicBezTo>
                  <a:pt x="17414" y="11008"/>
                  <a:pt x="17451" y="11057"/>
                  <a:pt x="17462" y="11063"/>
                </a:cubicBezTo>
                <a:cubicBezTo>
                  <a:pt x="17493" y="11081"/>
                  <a:pt x="17510" y="11072"/>
                  <a:pt x="17537" y="11088"/>
                </a:cubicBezTo>
                <a:cubicBezTo>
                  <a:pt x="17560" y="11102"/>
                  <a:pt x="17575" y="11124"/>
                  <a:pt x="17611" y="11137"/>
                </a:cubicBezTo>
                <a:cubicBezTo>
                  <a:pt x="17642" y="11148"/>
                  <a:pt x="17681" y="11149"/>
                  <a:pt x="17711" y="11162"/>
                </a:cubicBezTo>
                <a:cubicBezTo>
                  <a:pt x="17765" y="11185"/>
                  <a:pt x="17831" y="11221"/>
                  <a:pt x="17884" y="11237"/>
                </a:cubicBezTo>
                <a:cubicBezTo>
                  <a:pt x="17932" y="11252"/>
                  <a:pt x="18008" y="11277"/>
                  <a:pt x="18058" y="11286"/>
                </a:cubicBezTo>
                <a:cubicBezTo>
                  <a:pt x="18115" y="11296"/>
                  <a:pt x="18203" y="11307"/>
                  <a:pt x="18256" y="11311"/>
                </a:cubicBezTo>
                <a:cubicBezTo>
                  <a:pt x="18503" y="11329"/>
                  <a:pt x="18759" y="11303"/>
                  <a:pt x="19000" y="11286"/>
                </a:cubicBezTo>
                <a:cubicBezTo>
                  <a:pt x="19074" y="11281"/>
                  <a:pt x="19130" y="11274"/>
                  <a:pt x="19199" y="11261"/>
                </a:cubicBezTo>
                <a:cubicBezTo>
                  <a:pt x="19249" y="11251"/>
                  <a:pt x="19329" y="11262"/>
                  <a:pt x="19372" y="11237"/>
                </a:cubicBezTo>
                <a:cubicBezTo>
                  <a:pt x="19404" y="11218"/>
                  <a:pt x="19431" y="11176"/>
                  <a:pt x="19447" y="11162"/>
                </a:cubicBezTo>
                <a:cubicBezTo>
                  <a:pt x="19466" y="11145"/>
                  <a:pt x="19502" y="11131"/>
                  <a:pt x="19521" y="11112"/>
                </a:cubicBezTo>
                <a:cubicBezTo>
                  <a:pt x="19534" y="11099"/>
                  <a:pt x="19554" y="11055"/>
                  <a:pt x="19571" y="11038"/>
                </a:cubicBezTo>
                <a:cubicBezTo>
                  <a:pt x="19593" y="11015"/>
                  <a:pt x="19619" y="10996"/>
                  <a:pt x="19645" y="10964"/>
                </a:cubicBezTo>
                <a:cubicBezTo>
                  <a:pt x="19662" y="10944"/>
                  <a:pt x="19693" y="10903"/>
                  <a:pt x="19720" y="10864"/>
                </a:cubicBezTo>
                <a:cubicBezTo>
                  <a:pt x="19749" y="10821"/>
                  <a:pt x="19792" y="10785"/>
                  <a:pt x="19819" y="10740"/>
                </a:cubicBezTo>
                <a:cubicBezTo>
                  <a:pt x="19839" y="10708"/>
                  <a:pt x="19852" y="10651"/>
                  <a:pt x="19869" y="10616"/>
                </a:cubicBezTo>
                <a:cubicBezTo>
                  <a:pt x="19894" y="10566"/>
                  <a:pt x="19924" y="10524"/>
                  <a:pt x="19943" y="10468"/>
                </a:cubicBezTo>
                <a:cubicBezTo>
                  <a:pt x="19957" y="10426"/>
                  <a:pt x="19980" y="10384"/>
                  <a:pt x="19993" y="10344"/>
                </a:cubicBezTo>
                <a:cubicBezTo>
                  <a:pt x="20004" y="10309"/>
                  <a:pt x="20007" y="10281"/>
                  <a:pt x="20017" y="10244"/>
                </a:cubicBezTo>
                <a:cubicBezTo>
                  <a:pt x="20029" y="10201"/>
                  <a:pt x="20043" y="10166"/>
                  <a:pt x="20042" y="10120"/>
                </a:cubicBezTo>
                <a:cubicBezTo>
                  <a:pt x="20041" y="10087"/>
                  <a:pt x="20019" y="10079"/>
                  <a:pt x="20017" y="10046"/>
                </a:cubicBezTo>
                <a:cubicBezTo>
                  <a:pt x="20014" y="9988"/>
                  <a:pt x="20047" y="9955"/>
                  <a:pt x="20042" y="9897"/>
                </a:cubicBezTo>
                <a:cubicBezTo>
                  <a:pt x="20038" y="9844"/>
                  <a:pt x="20020" y="9798"/>
                  <a:pt x="20017" y="9748"/>
                </a:cubicBezTo>
                <a:cubicBezTo>
                  <a:pt x="20013" y="9683"/>
                  <a:pt x="20003" y="9629"/>
                  <a:pt x="19993" y="9575"/>
                </a:cubicBezTo>
                <a:cubicBezTo>
                  <a:pt x="19982" y="9518"/>
                  <a:pt x="19987" y="9456"/>
                  <a:pt x="19968" y="9401"/>
                </a:cubicBezTo>
                <a:cubicBezTo>
                  <a:pt x="19949" y="9345"/>
                  <a:pt x="19914" y="9287"/>
                  <a:pt x="19893" y="9227"/>
                </a:cubicBezTo>
                <a:cubicBezTo>
                  <a:pt x="19874" y="9173"/>
                  <a:pt x="19850" y="9111"/>
                  <a:pt x="19819" y="9054"/>
                </a:cubicBezTo>
                <a:cubicBezTo>
                  <a:pt x="19783" y="8988"/>
                  <a:pt x="19732" y="8922"/>
                  <a:pt x="19695" y="8855"/>
                </a:cubicBezTo>
                <a:cubicBezTo>
                  <a:pt x="19662" y="8796"/>
                  <a:pt x="19633" y="8737"/>
                  <a:pt x="19596" y="8682"/>
                </a:cubicBezTo>
                <a:cubicBezTo>
                  <a:pt x="19557" y="8624"/>
                  <a:pt x="19516" y="8604"/>
                  <a:pt x="19472" y="8558"/>
                </a:cubicBezTo>
                <a:cubicBezTo>
                  <a:pt x="19427" y="8512"/>
                  <a:pt x="19421" y="8494"/>
                  <a:pt x="19372" y="8458"/>
                </a:cubicBezTo>
                <a:cubicBezTo>
                  <a:pt x="19341" y="8435"/>
                  <a:pt x="19287" y="8410"/>
                  <a:pt x="19248" y="8409"/>
                </a:cubicBezTo>
                <a:cubicBezTo>
                  <a:pt x="19200" y="8408"/>
                  <a:pt x="19190" y="8428"/>
                  <a:pt x="19174" y="8434"/>
                </a:cubicBezTo>
                <a:cubicBezTo>
                  <a:pt x="19149" y="8434"/>
                  <a:pt x="19141" y="8434"/>
                  <a:pt x="19149" y="8458"/>
                </a:cubicBezTo>
                <a:cubicBezTo>
                  <a:pt x="19181" y="8450"/>
                  <a:pt x="19171" y="8476"/>
                  <a:pt x="19199" y="8458"/>
                </a:cubicBezTo>
                <a:cubicBezTo>
                  <a:pt x="19228" y="8440"/>
                  <a:pt x="19237" y="8446"/>
                  <a:pt x="19248" y="8409"/>
                </a:cubicBezTo>
                <a:cubicBezTo>
                  <a:pt x="19257" y="8380"/>
                  <a:pt x="19244" y="8341"/>
                  <a:pt x="19248" y="8310"/>
                </a:cubicBezTo>
                <a:cubicBezTo>
                  <a:pt x="19192" y="8320"/>
                  <a:pt x="19171" y="8308"/>
                  <a:pt x="19124" y="8334"/>
                </a:cubicBezTo>
                <a:cubicBezTo>
                  <a:pt x="19081" y="8357"/>
                  <a:pt x="19005" y="8399"/>
                  <a:pt x="19000" y="8458"/>
                </a:cubicBezTo>
                <a:cubicBezTo>
                  <a:pt x="18996" y="8504"/>
                  <a:pt x="19010" y="8530"/>
                  <a:pt x="19050" y="8558"/>
                </a:cubicBezTo>
                <a:cubicBezTo>
                  <a:pt x="19083" y="8581"/>
                  <a:pt x="19151" y="8548"/>
                  <a:pt x="19174" y="8533"/>
                </a:cubicBezTo>
                <a:cubicBezTo>
                  <a:pt x="19232" y="8494"/>
                  <a:pt x="19226" y="8508"/>
                  <a:pt x="19248" y="8434"/>
                </a:cubicBezTo>
                <a:cubicBezTo>
                  <a:pt x="19263" y="8383"/>
                  <a:pt x="19228" y="8346"/>
                  <a:pt x="19224" y="8310"/>
                </a:cubicBezTo>
                <a:cubicBezTo>
                  <a:pt x="19213" y="8314"/>
                  <a:pt x="19129" y="8328"/>
                  <a:pt x="19124" y="8334"/>
                </a:cubicBezTo>
                <a:cubicBezTo>
                  <a:pt x="19070" y="8395"/>
                  <a:pt x="19158" y="8323"/>
                  <a:pt x="19149" y="8359"/>
                </a:cubicBezTo>
              </a:path>
              <a:path w="5383" h="4516">
                <a:moveTo>
                  <a:pt x="19224" y="7392"/>
                </a:moveTo>
                <a:cubicBezTo>
                  <a:pt x="19270" y="7392"/>
                  <a:pt x="19330" y="7380"/>
                  <a:pt x="19372" y="7367"/>
                </a:cubicBezTo>
                <a:cubicBezTo>
                  <a:pt x="19429" y="7350"/>
                  <a:pt x="19491" y="7335"/>
                  <a:pt x="19546" y="7317"/>
                </a:cubicBezTo>
                <a:cubicBezTo>
                  <a:pt x="19595" y="7301"/>
                  <a:pt x="19626" y="7279"/>
                  <a:pt x="19670" y="7268"/>
                </a:cubicBezTo>
                <a:cubicBezTo>
                  <a:pt x="19670" y="7320"/>
                  <a:pt x="19659" y="7395"/>
                  <a:pt x="19645" y="7441"/>
                </a:cubicBezTo>
                <a:cubicBezTo>
                  <a:pt x="19610" y="7555"/>
                  <a:pt x="19571" y="7622"/>
                  <a:pt x="19571" y="7739"/>
                </a:cubicBezTo>
                <a:cubicBezTo>
                  <a:pt x="19571" y="7805"/>
                  <a:pt x="19571" y="7872"/>
                  <a:pt x="19571" y="7938"/>
                </a:cubicBezTo>
                <a:cubicBezTo>
                  <a:pt x="19625" y="7924"/>
                  <a:pt x="19636" y="7870"/>
                  <a:pt x="19645" y="7813"/>
                </a:cubicBezTo>
                <a:cubicBezTo>
                  <a:pt x="19645" y="7797"/>
                  <a:pt x="19645" y="7780"/>
                  <a:pt x="19645" y="7764"/>
                </a:cubicBezTo>
              </a:path>
              <a:path w="5383" h="4516">
                <a:moveTo>
                  <a:pt x="19869" y="7293"/>
                </a:moveTo>
                <a:cubicBezTo>
                  <a:pt x="19982" y="7249"/>
                  <a:pt x="20082" y="7223"/>
                  <a:pt x="20191" y="7193"/>
                </a:cubicBezTo>
                <a:cubicBezTo>
                  <a:pt x="20237" y="7180"/>
                  <a:pt x="20276" y="7157"/>
                  <a:pt x="20315" y="7144"/>
                </a:cubicBezTo>
                <a:cubicBezTo>
                  <a:pt x="20323" y="7144"/>
                  <a:pt x="20332" y="7144"/>
                  <a:pt x="20340" y="7144"/>
                </a:cubicBezTo>
              </a:path>
              <a:path w="5383" h="4516">
                <a:moveTo>
                  <a:pt x="19968" y="7268"/>
                </a:moveTo>
                <a:cubicBezTo>
                  <a:pt x="19950" y="7378"/>
                  <a:pt x="19922" y="7463"/>
                  <a:pt x="19968" y="7565"/>
                </a:cubicBezTo>
                <a:cubicBezTo>
                  <a:pt x="20004" y="7645"/>
                  <a:pt x="19969" y="7786"/>
                  <a:pt x="20042" y="7689"/>
                </a:cubicBezTo>
              </a:path>
              <a:path w="5383" h="4516">
                <a:moveTo>
                  <a:pt x="20191" y="7193"/>
                </a:moveTo>
                <a:cubicBezTo>
                  <a:pt x="20191" y="7284"/>
                  <a:pt x="20176" y="7354"/>
                  <a:pt x="20166" y="7441"/>
                </a:cubicBezTo>
                <a:cubicBezTo>
                  <a:pt x="20155" y="7538"/>
                  <a:pt x="20182" y="7580"/>
                  <a:pt x="20216" y="7665"/>
                </a:cubicBezTo>
                <a:cubicBezTo>
                  <a:pt x="20236" y="7725"/>
                  <a:pt x="20235" y="7739"/>
                  <a:pt x="20265" y="7764"/>
                </a:cubicBezTo>
              </a:path>
              <a:path w="5383" h="4516">
                <a:moveTo>
                  <a:pt x="19621" y="7938"/>
                </a:moveTo>
                <a:cubicBezTo>
                  <a:pt x="19687" y="7925"/>
                  <a:pt x="19752" y="7909"/>
                  <a:pt x="19819" y="7888"/>
                </a:cubicBezTo>
                <a:cubicBezTo>
                  <a:pt x="19946" y="7848"/>
                  <a:pt x="20095" y="7854"/>
                  <a:pt x="20216" y="7813"/>
                </a:cubicBezTo>
                <a:cubicBezTo>
                  <a:pt x="20269" y="7795"/>
                  <a:pt x="20236" y="7774"/>
                  <a:pt x="20290" y="7813"/>
                </a:cubicBezTo>
              </a:path>
              <a:path w="5383" h="4516">
                <a:moveTo>
                  <a:pt x="19869" y="8086"/>
                </a:moveTo>
                <a:cubicBezTo>
                  <a:pt x="19881" y="8124"/>
                  <a:pt x="19993" y="8096"/>
                  <a:pt x="20042" y="8086"/>
                </a:cubicBezTo>
                <a:cubicBezTo>
                  <a:pt x="20121" y="8070"/>
                  <a:pt x="20184" y="8062"/>
                  <a:pt x="20265" y="8062"/>
                </a:cubicBezTo>
                <a:cubicBezTo>
                  <a:pt x="20265" y="8107"/>
                  <a:pt x="20258" y="8134"/>
                  <a:pt x="20216" y="8161"/>
                </a:cubicBezTo>
                <a:cubicBezTo>
                  <a:pt x="20164" y="8195"/>
                  <a:pt x="20116" y="8191"/>
                  <a:pt x="20067" y="8235"/>
                </a:cubicBezTo>
                <a:cubicBezTo>
                  <a:pt x="20059" y="8243"/>
                  <a:pt x="20050" y="8252"/>
                  <a:pt x="20042" y="8260"/>
                </a:cubicBezTo>
                <a:cubicBezTo>
                  <a:pt x="20082" y="8290"/>
                  <a:pt x="20123" y="8302"/>
                  <a:pt x="20166" y="8334"/>
                </a:cubicBezTo>
                <a:cubicBezTo>
                  <a:pt x="20218" y="8373"/>
                  <a:pt x="20216" y="8397"/>
                  <a:pt x="20216" y="8458"/>
                </a:cubicBezTo>
                <a:cubicBezTo>
                  <a:pt x="20216" y="8518"/>
                  <a:pt x="20093" y="8553"/>
                  <a:pt x="20042" y="8558"/>
                </a:cubicBezTo>
                <a:cubicBezTo>
                  <a:pt x="19974" y="8565"/>
                  <a:pt x="19922" y="8544"/>
                  <a:pt x="19869" y="8533"/>
                </a:cubicBezTo>
                <a:cubicBezTo>
                  <a:pt x="19789" y="8517"/>
                  <a:pt x="19814" y="8488"/>
                  <a:pt x="19844" y="8409"/>
                </a:cubicBezTo>
              </a:path>
              <a:path w="5383" h="4516">
                <a:moveTo>
                  <a:pt x="20588" y="7565"/>
                </a:moveTo>
                <a:cubicBezTo>
                  <a:pt x="20659" y="7549"/>
                  <a:pt x="20793" y="7542"/>
                  <a:pt x="20861" y="7516"/>
                </a:cubicBezTo>
                <a:cubicBezTo>
                  <a:pt x="20901" y="7501"/>
                  <a:pt x="20949" y="7499"/>
                  <a:pt x="20960" y="7466"/>
                </a:cubicBezTo>
              </a:path>
              <a:path w="5383" h="4516">
                <a:moveTo>
                  <a:pt x="20588" y="7789"/>
                </a:moveTo>
                <a:cubicBezTo>
                  <a:pt x="20684" y="7784"/>
                  <a:pt x="20816" y="7789"/>
                  <a:pt x="20910" y="7764"/>
                </a:cubicBezTo>
                <a:cubicBezTo>
                  <a:pt x="20960" y="7739"/>
                  <a:pt x="20977" y="7731"/>
                  <a:pt x="21010" y="7714"/>
                </a:cubicBezTo>
              </a:path>
              <a:path w="5383" h="4516">
                <a:moveTo>
                  <a:pt x="21158" y="7020"/>
                </a:moveTo>
                <a:cubicBezTo>
                  <a:pt x="21280" y="6907"/>
                  <a:pt x="21309" y="6901"/>
                  <a:pt x="21456" y="6846"/>
                </a:cubicBezTo>
                <a:cubicBezTo>
                  <a:pt x="21527" y="6819"/>
                  <a:pt x="21603" y="6802"/>
                  <a:pt x="21679" y="6796"/>
                </a:cubicBezTo>
                <a:cubicBezTo>
                  <a:pt x="21687" y="6796"/>
                  <a:pt x="21696" y="6796"/>
                  <a:pt x="21704" y="6796"/>
                </a:cubicBezTo>
              </a:path>
              <a:path w="5383" h="4516">
                <a:moveTo>
                  <a:pt x="21258" y="6970"/>
                </a:moveTo>
                <a:cubicBezTo>
                  <a:pt x="21258" y="7066"/>
                  <a:pt x="21250" y="7136"/>
                  <a:pt x="21307" y="7218"/>
                </a:cubicBezTo>
                <a:cubicBezTo>
                  <a:pt x="21335" y="7258"/>
                  <a:pt x="21360" y="7307"/>
                  <a:pt x="21382" y="7342"/>
                </a:cubicBezTo>
                <a:cubicBezTo>
                  <a:pt x="21420" y="7401"/>
                  <a:pt x="21433" y="7352"/>
                  <a:pt x="21456" y="7317"/>
                </a:cubicBezTo>
              </a:path>
              <a:path w="5383" h="4516">
                <a:moveTo>
                  <a:pt x="21530" y="6871"/>
                </a:moveTo>
                <a:cubicBezTo>
                  <a:pt x="21530" y="6956"/>
                  <a:pt x="21529" y="7041"/>
                  <a:pt x="21555" y="7119"/>
                </a:cubicBezTo>
                <a:cubicBezTo>
                  <a:pt x="21572" y="7170"/>
                  <a:pt x="21600" y="7214"/>
                  <a:pt x="21605" y="7268"/>
                </a:cubicBezTo>
                <a:cubicBezTo>
                  <a:pt x="21605" y="7276"/>
                  <a:pt x="21605" y="7285"/>
                  <a:pt x="21605" y="7293"/>
                </a:cubicBezTo>
              </a:path>
              <a:path w="5383" h="4516">
                <a:moveTo>
                  <a:pt x="21307" y="7392"/>
                </a:moveTo>
                <a:cubicBezTo>
                  <a:pt x="21406" y="7384"/>
                  <a:pt x="21511" y="7377"/>
                  <a:pt x="21605" y="7342"/>
                </a:cubicBezTo>
                <a:cubicBezTo>
                  <a:pt x="21673" y="7317"/>
                  <a:pt x="21728" y="7309"/>
                  <a:pt x="21803" y="7293"/>
                </a:cubicBezTo>
              </a:path>
              <a:path w="5383" h="4516">
                <a:moveTo>
                  <a:pt x="21481" y="7541"/>
                </a:moveTo>
                <a:cubicBezTo>
                  <a:pt x="21544" y="7541"/>
                  <a:pt x="21589" y="7519"/>
                  <a:pt x="21654" y="7516"/>
                </a:cubicBezTo>
                <a:cubicBezTo>
                  <a:pt x="21727" y="7513"/>
                  <a:pt x="21793" y="7511"/>
                  <a:pt x="21853" y="7541"/>
                </a:cubicBezTo>
              </a:path>
              <a:path w="5383" h="4516">
                <a:moveTo>
                  <a:pt x="21779" y="7689"/>
                </a:moveTo>
                <a:cubicBezTo>
                  <a:pt x="21721" y="7708"/>
                  <a:pt x="21696" y="7699"/>
                  <a:pt x="21704" y="7739"/>
                </a:cubicBezTo>
                <a:cubicBezTo>
                  <a:pt x="21746" y="7749"/>
                  <a:pt x="21815" y="7784"/>
                  <a:pt x="21853" y="7813"/>
                </a:cubicBezTo>
                <a:cubicBezTo>
                  <a:pt x="21907" y="7855"/>
                  <a:pt x="21939" y="7898"/>
                  <a:pt x="21952" y="7962"/>
                </a:cubicBezTo>
                <a:cubicBezTo>
                  <a:pt x="21917" y="7988"/>
                  <a:pt x="21873" y="8022"/>
                  <a:pt x="21828" y="8037"/>
                </a:cubicBezTo>
                <a:cubicBezTo>
                  <a:pt x="21793" y="8049"/>
                  <a:pt x="21736" y="8079"/>
                  <a:pt x="21704" y="8086"/>
                </a:cubicBezTo>
                <a:cubicBezTo>
                  <a:pt x="21634" y="8086"/>
                  <a:pt x="21599" y="8077"/>
                  <a:pt x="21555" y="80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2120" y="2251080"/>
            <a:ext cx="1527120" cy="1500120"/>
          </a:xfrm>
          <a:custGeom>
            <a:avLst/>
            <a:gdLst/>
            <a:ahLst/>
            <a:rect l="l" t="t" r="r" b="b"/>
            <a:pathLst>
              <a:path w="4243" h="4168">
                <a:moveTo>
                  <a:pt x="10393" y="7094"/>
                </a:moveTo>
                <a:cubicBezTo>
                  <a:pt x="10393" y="7078"/>
                  <a:pt x="10393" y="7061"/>
                  <a:pt x="10393" y="7045"/>
                </a:cubicBezTo>
                <a:cubicBezTo>
                  <a:pt x="10440" y="7121"/>
                  <a:pt x="10403" y="7157"/>
                  <a:pt x="10393" y="7243"/>
                </a:cubicBezTo>
                <a:cubicBezTo>
                  <a:pt x="10380" y="7356"/>
                  <a:pt x="10371" y="7477"/>
                  <a:pt x="10368" y="7590"/>
                </a:cubicBezTo>
                <a:cubicBezTo>
                  <a:pt x="10364" y="7714"/>
                  <a:pt x="10349" y="8100"/>
                  <a:pt x="10368" y="8062"/>
                </a:cubicBezTo>
                <a:cubicBezTo>
                  <a:pt x="10376" y="8054"/>
                  <a:pt x="10385" y="8045"/>
                  <a:pt x="10393" y="8037"/>
                </a:cubicBezTo>
              </a:path>
              <a:path w="4243" h="4168">
                <a:moveTo>
                  <a:pt x="10914" y="6945"/>
                </a:moveTo>
                <a:cubicBezTo>
                  <a:pt x="10824" y="6991"/>
                  <a:pt x="10779" y="7033"/>
                  <a:pt x="10716" y="7119"/>
                </a:cubicBezTo>
                <a:cubicBezTo>
                  <a:pt x="10633" y="7233"/>
                  <a:pt x="10630" y="7341"/>
                  <a:pt x="10641" y="7466"/>
                </a:cubicBezTo>
                <a:cubicBezTo>
                  <a:pt x="10645" y="7513"/>
                  <a:pt x="10664" y="7567"/>
                  <a:pt x="10716" y="7590"/>
                </a:cubicBezTo>
                <a:cubicBezTo>
                  <a:pt x="10748" y="7605"/>
                  <a:pt x="10823" y="7561"/>
                  <a:pt x="10840" y="7541"/>
                </a:cubicBezTo>
                <a:cubicBezTo>
                  <a:pt x="10881" y="7492"/>
                  <a:pt x="10927" y="7356"/>
                  <a:pt x="10939" y="7293"/>
                </a:cubicBezTo>
                <a:cubicBezTo>
                  <a:pt x="10948" y="7244"/>
                  <a:pt x="10964" y="7218"/>
                  <a:pt x="10964" y="7169"/>
                </a:cubicBezTo>
                <a:cubicBezTo>
                  <a:pt x="10935" y="7150"/>
                  <a:pt x="10925" y="7168"/>
                  <a:pt x="10914" y="7218"/>
                </a:cubicBezTo>
                <a:cubicBezTo>
                  <a:pt x="10895" y="7304"/>
                  <a:pt x="10874" y="7404"/>
                  <a:pt x="10864" y="7491"/>
                </a:cubicBezTo>
                <a:cubicBezTo>
                  <a:pt x="10849" y="7629"/>
                  <a:pt x="10857" y="7784"/>
                  <a:pt x="10889" y="7913"/>
                </a:cubicBezTo>
                <a:cubicBezTo>
                  <a:pt x="10891" y="7919"/>
                  <a:pt x="10889" y="8004"/>
                  <a:pt x="10889" y="7938"/>
                </a:cubicBezTo>
                <a:cubicBezTo>
                  <a:pt x="10889" y="7872"/>
                  <a:pt x="10889" y="7805"/>
                  <a:pt x="10889" y="7739"/>
                </a:cubicBezTo>
              </a:path>
              <a:path w="4243" h="4168">
                <a:moveTo>
                  <a:pt x="10641" y="6573"/>
                </a:moveTo>
                <a:cubicBezTo>
                  <a:pt x="10709" y="6607"/>
                  <a:pt x="10738" y="6624"/>
                  <a:pt x="10790" y="6697"/>
                </a:cubicBezTo>
                <a:cubicBezTo>
                  <a:pt x="10909" y="6862"/>
                  <a:pt x="11026" y="7089"/>
                  <a:pt x="11063" y="7293"/>
                </a:cubicBezTo>
                <a:cubicBezTo>
                  <a:pt x="11088" y="7429"/>
                  <a:pt x="11088" y="7575"/>
                  <a:pt x="11088" y="7714"/>
                </a:cubicBezTo>
                <a:cubicBezTo>
                  <a:pt x="11088" y="7865"/>
                  <a:pt x="11040" y="7981"/>
                  <a:pt x="10964" y="8111"/>
                </a:cubicBezTo>
                <a:cubicBezTo>
                  <a:pt x="10877" y="8261"/>
                  <a:pt x="10769" y="8375"/>
                  <a:pt x="10641" y="8483"/>
                </a:cubicBezTo>
                <a:cubicBezTo>
                  <a:pt x="10609" y="8510"/>
                  <a:pt x="10583" y="8541"/>
                  <a:pt x="10567" y="8558"/>
                </a:cubicBezTo>
                <a:cubicBezTo>
                  <a:pt x="10542" y="8558"/>
                  <a:pt x="10534" y="8558"/>
                  <a:pt x="10567" y="8558"/>
                </a:cubicBezTo>
              </a:path>
              <a:path w="4243" h="4168">
                <a:moveTo>
                  <a:pt x="11609" y="8235"/>
                </a:moveTo>
                <a:cubicBezTo>
                  <a:pt x="11851" y="8235"/>
                  <a:pt x="12088" y="8225"/>
                  <a:pt x="12328" y="8210"/>
                </a:cubicBezTo>
                <a:cubicBezTo>
                  <a:pt x="12607" y="8192"/>
                  <a:pt x="12892" y="8198"/>
                  <a:pt x="13171" y="8186"/>
                </a:cubicBezTo>
                <a:cubicBezTo>
                  <a:pt x="13462" y="8173"/>
                  <a:pt x="13750" y="8194"/>
                  <a:pt x="14039" y="8210"/>
                </a:cubicBezTo>
                <a:cubicBezTo>
                  <a:pt x="14237" y="8221"/>
                  <a:pt x="14695" y="8375"/>
                  <a:pt x="14585" y="8210"/>
                </a:cubicBezTo>
                <a:cubicBezTo>
                  <a:pt x="14551" y="8178"/>
                  <a:pt x="14535" y="8161"/>
                  <a:pt x="14511" y="8136"/>
                </a:cubicBezTo>
              </a:path>
              <a:path w="4243" h="4168">
                <a:moveTo>
                  <a:pt x="13022" y="6251"/>
                </a:moveTo>
                <a:cubicBezTo>
                  <a:pt x="13000" y="6355"/>
                  <a:pt x="12960" y="6468"/>
                  <a:pt x="12948" y="6573"/>
                </a:cubicBezTo>
                <a:cubicBezTo>
                  <a:pt x="12931" y="6722"/>
                  <a:pt x="12923" y="6868"/>
                  <a:pt x="12923" y="7020"/>
                </a:cubicBezTo>
                <a:cubicBezTo>
                  <a:pt x="12923" y="7193"/>
                  <a:pt x="12919" y="7370"/>
                  <a:pt x="12898" y="7541"/>
                </a:cubicBezTo>
                <a:cubicBezTo>
                  <a:pt x="12874" y="7737"/>
                  <a:pt x="12860" y="7939"/>
                  <a:pt x="12849" y="8136"/>
                </a:cubicBezTo>
                <a:cubicBezTo>
                  <a:pt x="12839" y="8314"/>
                  <a:pt x="12849" y="8507"/>
                  <a:pt x="12874" y="8682"/>
                </a:cubicBezTo>
                <a:cubicBezTo>
                  <a:pt x="12892" y="8805"/>
                  <a:pt x="12910" y="8932"/>
                  <a:pt x="12923" y="9054"/>
                </a:cubicBezTo>
                <a:cubicBezTo>
                  <a:pt x="12932" y="9136"/>
                  <a:pt x="12939" y="9202"/>
                  <a:pt x="12973" y="9277"/>
                </a:cubicBezTo>
                <a:cubicBezTo>
                  <a:pt x="12983" y="9300"/>
                  <a:pt x="12988" y="9328"/>
                  <a:pt x="12998" y="9351"/>
                </a:cubicBezTo>
                <a:cubicBezTo>
                  <a:pt x="13014" y="9292"/>
                  <a:pt x="13025" y="9236"/>
                  <a:pt x="13047" y="9178"/>
                </a:cubicBezTo>
              </a:path>
              <a:path w="4243" h="4168">
                <a:moveTo>
                  <a:pt x="13841" y="8111"/>
                </a:moveTo>
                <a:cubicBezTo>
                  <a:pt x="13841" y="8188"/>
                  <a:pt x="13838" y="8245"/>
                  <a:pt x="13816" y="8310"/>
                </a:cubicBezTo>
                <a:cubicBezTo>
                  <a:pt x="13805" y="8343"/>
                  <a:pt x="13811" y="8381"/>
                  <a:pt x="13791" y="8409"/>
                </a:cubicBezTo>
                <a:cubicBezTo>
                  <a:pt x="13760" y="8451"/>
                  <a:pt x="13726" y="8493"/>
                  <a:pt x="13692" y="8533"/>
                </a:cubicBezTo>
                <a:cubicBezTo>
                  <a:pt x="13634" y="8601"/>
                  <a:pt x="13557" y="8700"/>
                  <a:pt x="13494" y="8756"/>
                </a:cubicBezTo>
                <a:cubicBezTo>
                  <a:pt x="13460" y="8786"/>
                  <a:pt x="13431" y="8796"/>
                  <a:pt x="13395" y="8830"/>
                </a:cubicBezTo>
                <a:cubicBezTo>
                  <a:pt x="13360" y="8863"/>
                  <a:pt x="13328" y="8884"/>
                  <a:pt x="13295" y="8905"/>
                </a:cubicBezTo>
                <a:cubicBezTo>
                  <a:pt x="13252" y="8933"/>
                  <a:pt x="13212" y="8957"/>
                  <a:pt x="13171" y="8979"/>
                </a:cubicBezTo>
                <a:cubicBezTo>
                  <a:pt x="13141" y="8995"/>
                  <a:pt x="13103" y="8991"/>
                  <a:pt x="13072" y="9004"/>
                </a:cubicBezTo>
                <a:cubicBezTo>
                  <a:pt x="13019" y="9027"/>
                  <a:pt x="12985" y="9045"/>
                  <a:pt x="12923" y="9054"/>
                </a:cubicBezTo>
                <a:cubicBezTo>
                  <a:pt x="12890" y="9059"/>
                  <a:pt x="12882" y="9082"/>
                  <a:pt x="12849" y="9079"/>
                </a:cubicBezTo>
                <a:cubicBezTo>
                  <a:pt x="12812" y="9075"/>
                  <a:pt x="12819" y="9035"/>
                  <a:pt x="12774" y="9029"/>
                </a:cubicBezTo>
                <a:cubicBezTo>
                  <a:pt x="12727" y="9023"/>
                  <a:pt x="12720" y="9014"/>
                  <a:pt x="12700" y="9004"/>
                </a:cubicBezTo>
                <a:cubicBezTo>
                  <a:pt x="12665" y="8986"/>
                  <a:pt x="12654" y="8993"/>
                  <a:pt x="12626" y="8979"/>
                </a:cubicBezTo>
                <a:cubicBezTo>
                  <a:pt x="12601" y="8966"/>
                  <a:pt x="12545" y="8945"/>
                  <a:pt x="12526" y="8930"/>
                </a:cubicBezTo>
                <a:cubicBezTo>
                  <a:pt x="12522" y="8927"/>
                  <a:pt x="12459" y="8888"/>
                  <a:pt x="12452" y="8880"/>
                </a:cubicBezTo>
                <a:cubicBezTo>
                  <a:pt x="12435" y="8862"/>
                  <a:pt x="12415" y="8819"/>
                  <a:pt x="12402" y="8806"/>
                </a:cubicBezTo>
                <a:cubicBezTo>
                  <a:pt x="12386" y="8790"/>
                  <a:pt x="12356" y="8761"/>
                  <a:pt x="12328" y="8731"/>
                </a:cubicBezTo>
                <a:cubicBezTo>
                  <a:pt x="12309" y="8711"/>
                  <a:pt x="12275" y="8657"/>
                  <a:pt x="12254" y="8632"/>
                </a:cubicBezTo>
                <a:cubicBezTo>
                  <a:pt x="12238" y="8613"/>
                  <a:pt x="12222" y="8593"/>
                  <a:pt x="12204" y="8558"/>
                </a:cubicBezTo>
                <a:cubicBezTo>
                  <a:pt x="12186" y="8523"/>
                  <a:pt x="12170" y="8504"/>
                  <a:pt x="12154" y="8483"/>
                </a:cubicBezTo>
                <a:cubicBezTo>
                  <a:pt x="12137" y="8461"/>
                  <a:pt x="12092" y="8394"/>
                  <a:pt x="12080" y="8384"/>
                </a:cubicBezTo>
                <a:cubicBezTo>
                  <a:pt x="12056" y="8363"/>
                  <a:pt x="12051" y="8359"/>
                  <a:pt x="12030" y="8334"/>
                </a:cubicBezTo>
                <a:cubicBezTo>
                  <a:pt x="11993" y="8289"/>
                  <a:pt x="11989" y="8290"/>
                  <a:pt x="11981" y="8235"/>
                </a:cubicBezTo>
                <a:cubicBezTo>
                  <a:pt x="11973" y="8179"/>
                  <a:pt x="12003" y="8104"/>
                  <a:pt x="12005" y="8086"/>
                </a:cubicBezTo>
                <a:cubicBezTo>
                  <a:pt x="12012" y="8026"/>
                  <a:pt x="12013" y="7989"/>
                  <a:pt x="12030" y="7938"/>
                </a:cubicBezTo>
                <a:cubicBezTo>
                  <a:pt x="12042" y="7903"/>
                  <a:pt x="12039" y="7871"/>
                  <a:pt x="12055" y="7838"/>
                </a:cubicBezTo>
                <a:cubicBezTo>
                  <a:pt x="12082" y="7783"/>
                  <a:pt x="12118" y="7743"/>
                  <a:pt x="12154" y="7689"/>
                </a:cubicBezTo>
                <a:cubicBezTo>
                  <a:pt x="12187" y="7640"/>
                  <a:pt x="12224" y="7602"/>
                  <a:pt x="12278" y="7565"/>
                </a:cubicBezTo>
                <a:cubicBezTo>
                  <a:pt x="12305" y="7546"/>
                  <a:pt x="12345" y="7513"/>
                  <a:pt x="12378" y="7491"/>
                </a:cubicBezTo>
                <a:cubicBezTo>
                  <a:pt x="12398" y="7477"/>
                  <a:pt x="12452" y="7451"/>
                  <a:pt x="12477" y="7441"/>
                </a:cubicBezTo>
                <a:cubicBezTo>
                  <a:pt x="12509" y="7429"/>
                  <a:pt x="12545" y="7432"/>
                  <a:pt x="12576" y="7417"/>
                </a:cubicBezTo>
                <a:cubicBezTo>
                  <a:pt x="12607" y="7402"/>
                  <a:pt x="12643" y="7405"/>
                  <a:pt x="12675" y="7392"/>
                </a:cubicBezTo>
                <a:cubicBezTo>
                  <a:pt x="12722" y="7373"/>
                  <a:pt x="12740" y="7369"/>
                  <a:pt x="12799" y="7367"/>
                </a:cubicBezTo>
                <a:cubicBezTo>
                  <a:pt x="12871" y="7364"/>
                  <a:pt x="12936" y="7376"/>
                  <a:pt x="12973" y="7392"/>
                </a:cubicBezTo>
                <a:cubicBezTo>
                  <a:pt x="13012" y="7409"/>
                  <a:pt x="13015" y="7401"/>
                  <a:pt x="13047" y="7417"/>
                </a:cubicBezTo>
                <a:cubicBezTo>
                  <a:pt x="13092" y="7439"/>
                  <a:pt x="13125" y="7468"/>
                  <a:pt x="13171" y="7491"/>
                </a:cubicBezTo>
                <a:cubicBezTo>
                  <a:pt x="13208" y="7509"/>
                  <a:pt x="13231" y="7516"/>
                  <a:pt x="13271" y="7541"/>
                </a:cubicBezTo>
                <a:cubicBezTo>
                  <a:pt x="13308" y="7564"/>
                  <a:pt x="13332" y="7589"/>
                  <a:pt x="13370" y="7615"/>
                </a:cubicBezTo>
                <a:cubicBezTo>
                  <a:pt x="13396" y="7633"/>
                  <a:pt x="13427" y="7649"/>
                  <a:pt x="13444" y="7665"/>
                </a:cubicBezTo>
                <a:cubicBezTo>
                  <a:pt x="13471" y="7690"/>
                  <a:pt x="13502" y="7749"/>
                  <a:pt x="13519" y="7764"/>
                </a:cubicBezTo>
                <a:cubicBezTo>
                  <a:pt x="13542" y="7785"/>
                  <a:pt x="13573" y="7815"/>
                  <a:pt x="13593" y="7838"/>
                </a:cubicBezTo>
                <a:cubicBezTo>
                  <a:pt x="13625" y="7874"/>
                  <a:pt x="13645" y="7899"/>
                  <a:pt x="13667" y="7938"/>
                </a:cubicBezTo>
                <a:cubicBezTo>
                  <a:pt x="13685" y="7970"/>
                  <a:pt x="13679" y="7985"/>
                  <a:pt x="13692" y="8012"/>
                </a:cubicBezTo>
                <a:cubicBezTo>
                  <a:pt x="13702" y="8031"/>
                  <a:pt x="13738" y="8091"/>
                  <a:pt x="13742" y="8111"/>
                </a:cubicBezTo>
                <a:cubicBezTo>
                  <a:pt x="13756" y="8192"/>
                  <a:pt x="13745" y="8293"/>
                  <a:pt x="13717" y="8359"/>
                </a:cubicBezTo>
                <a:cubicBezTo>
                  <a:pt x="13703" y="8393"/>
                  <a:pt x="13691" y="8391"/>
                  <a:pt x="13667" y="8434"/>
                </a:cubicBezTo>
                <a:cubicBezTo>
                  <a:pt x="13649" y="8467"/>
                  <a:pt x="13644" y="8460"/>
                  <a:pt x="13618" y="8483"/>
                </a:cubicBezTo>
                <a:cubicBezTo>
                  <a:pt x="13592" y="8506"/>
                  <a:pt x="13555" y="8550"/>
                  <a:pt x="13543" y="8558"/>
                </a:cubicBezTo>
                <a:cubicBezTo>
                  <a:pt x="13518" y="8575"/>
                  <a:pt x="13513" y="8592"/>
                  <a:pt x="13494" y="8607"/>
                </a:cubicBezTo>
                <a:cubicBezTo>
                  <a:pt x="13474" y="8623"/>
                  <a:pt x="13461" y="8643"/>
                  <a:pt x="13444" y="8657"/>
                </a:cubicBezTo>
                <a:cubicBezTo>
                  <a:pt x="13413" y="8682"/>
                  <a:pt x="13381" y="8707"/>
                  <a:pt x="13345" y="8731"/>
                </a:cubicBezTo>
                <a:cubicBezTo>
                  <a:pt x="13319" y="8748"/>
                  <a:pt x="13309" y="8760"/>
                  <a:pt x="13271" y="8781"/>
                </a:cubicBezTo>
                <a:cubicBezTo>
                  <a:pt x="13235" y="8801"/>
                  <a:pt x="13209" y="8835"/>
                  <a:pt x="13171" y="8855"/>
                </a:cubicBezTo>
                <a:cubicBezTo>
                  <a:pt x="13136" y="8873"/>
                  <a:pt x="13083" y="8866"/>
                  <a:pt x="13047" y="8880"/>
                </a:cubicBezTo>
                <a:cubicBezTo>
                  <a:pt x="13011" y="8894"/>
                  <a:pt x="12987" y="8894"/>
                  <a:pt x="12948" y="8905"/>
                </a:cubicBezTo>
                <a:cubicBezTo>
                  <a:pt x="12909" y="8916"/>
                  <a:pt x="12897" y="8928"/>
                  <a:pt x="12849" y="8930"/>
                </a:cubicBezTo>
                <a:cubicBezTo>
                  <a:pt x="12798" y="8932"/>
                  <a:pt x="12790" y="8918"/>
                  <a:pt x="12750" y="8905"/>
                </a:cubicBezTo>
                <a:cubicBezTo>
                  <a:pt x="12714" y="8893"/>
                  <a:pt x="12656" y="8900"/>
                  <a:pt x="12626" y="8880"/>
                </a:cubicBezTo>
                <a:cubicBezTo>
                  <a:pt x="12600" y="8863"/>
                  <a:pt x="12574" y="8849"/>
                  <a:pt x="12526" y="8830"/>
                </a:cubicBezTo>
                <a:cubicBezTo>
                  <a:pt x="12504" y="8821"/>
                  <a:pt x="12443" y="8794"/>
                  <a:pt x="12427" y="8781"/>
                </a:cubicBezTo>
                <a:cubicBezTo>
                  <a:pt x="12390" y="8752"/>
                  <a:pt x="12362" y="8734"/>
                  <a:pt x="12328" y="8706"/>
                </a:cubicBezTo>
                <a:cubicBezTo>
                  <a:pt x="12296" y="8679"/>
                  <a:pt x="12270" y="8648"/>
                  <a:pt x="12254" y="8632"/>
                </a:cubicBezTo>
                <a:cubicBezTo>
                  <a:pt x="12231" y="8609"/>
                  <a:pt x="12186" y="8569"/>
                  <a:pt x="12179" y="8558"/>
                </a:cubicBezTo>
                <a:cubicBezTo>
                  <a:pt x="12157" y="8525"/>
                  <a:pt x="12148" y="8489"/>
                  <a:pt x="12129" y="8458"/>
                </a:cubicBezTo>
                <a:cubicBezTo>
                  <a:pt x="12104" y="8416"/>
                  <a:pt x="12071" y="8386"/>
                  <a:pt x="12055" y="8359"/>
                </a:cubicBezTo>
                <a:cubicBezTo>
                  <a:pt x="12045" y="8342"/>
                  <a:pt x="12010" y="8314"/>
                  <a:pt x="12005" y="8285"/>
                </a:cubicBezTo>
                <a:cubicBezTo>
                  <a:pt x="11988" y="8190"/>
                  <a:pt x="12020" y="8091"/>
                  <a:pt x="12030" y="8012"/>
                </a:cubicBezTo>
                <a:cubicBezTo>
                  <a:pt x="12036" y="7962"/>
                  <a:pt x="12034" y="7957"/>
                  <a:pt x="12055" y="7913"/>
                </a:cubicBezTo>
                <a:cubicBezTo>
                  <a:pt x="12072" y="7877"/>
                  <a:pt x="12078" y="7847"/>
                  <a:pt x="12105" y="7813"/>
                </a:cubicBezTo>
                <a:cubicBezTo>
                  <a:pt x="12144" y="7762"/>
                  <a:pt x="12168" y="7715"/>
                  <a:pt x="12204" y="7665"/>
                </a:cubicBezTo>
                <a:cubicBezTo>
                  <a:pt x="12260" y="7587"/>
                  <a:pt x="12355" y="7512"/>
                  <a:pt x="12427" y="7466"/>
                </a:cubicBezTo>
                <a:cubicBezTo>
                  <a:pt x="12467" y="7440"/>
                  <a:pt x="12510" y="7410"/>
                  <a:pt x="12551" y="7392"/>
                </a:cubicBezTo>
                <a:cubicBezTo>
                  <a:pt x="12602" y="7369"/>
                  <a:pt x="12674" y="7362"/>
                  <a:pt x="12725" y="7342"/>
                </a:cubicBezTo>
                <a:cubicBezTo>
                  <a:pt x="12781" y="7319"/>
                  <a:pt x="12776" y="7336"/>
                  <a:pt x="12799" y="7342"/>
                </a:cubicBezTo>
                <a:cubicBezTo>
                  <a:pt x="12836" y="7352"/>
                  <a:pt x="12829" y="7372"/>
                  <a:pt x="12874" y="7392"/>
                </a:cubicBezTo>
                <a:cubicBezTo>
                  <a:pt x="12912" y="7410"/>
                  <a:pt x="12960" y="7423"/>
                  <a:pt x="12998" y="7441"/>
                </a:cubicBezTo>
                <a:cubicBezTo>
                  <a:pt x="13042" y="7462"/>
                  <a:pt x="13098" y="7488"/>
                  <a:pt x="13146" y="7516"/>
                </a:cubicBezTo>
                <a:cubicBezTo>
                  <a:pt x="13194" y="7544"/>
                  <a:pt x="13249" y="7582"/>
                  <a:pt x="13295" y="7615"/>
                </a:cubicBezTo>
                <a:cubicBezTo>
                  <a:pt x="13360" y="7661"/>
                  <a:pt x="13393" y="7709"/>
                  <a:pt x="13444" y="7764"/>
                </a:cubicBezTo>
                <a:cubicBezTo>
                  <a:pt x="13487" y="7811"/>
                  <a:pt x="13548" y="7839"/>
                  <a:pt x="13593" y="7888"/>
                </a:cubicBezTo>
                <a:cubicBezTo>
                  <a:pt x="13630" y="7928"/>
                  <a:pt x="13636" y="7973"/>
                  <a:pt x="13667" y="8012"/>
                </a:cubicBezTo>
                <a:cubicBezTo>
                  <a:pt x="13691" y="8042"/>
                  <a:pt x="13723" y="8088"/>
                  <a:pt x="13742" y="8111"/>
                </a:cubicBezTo>
                <a:cubicBezTo>
                  <a:pt x="13779" y="8156"/>
                  <a:pt x="13783" y="8156"/>
                  <a:pt x="13791" y="8210"/>
                </a:cubicBezTo>
                <a:cubicBezTo>
                  <a:pt x="13798" y="8257"/>
                  <a:pt x="13771" y="8272"/>
                  <a:pt x="13767" y="8285"/>
                </a:cubicBezTo>
                <a:cubicBezTo>
                  <a:pt x="13756" y="8317"/>
                  <a:pt x="13763" y="8357"/>
                  <a:pt x="13742" y="8384"/>
                </a:cubicBezTo>
                <a:cubicBezTo>
                  <a:pt x="13713" y="8421"/>
                  <a:pt x="13695" y="8450"/>
                  <a:pt x="13667" y="8483"/>
                </a:cubicBezTo>
                <a:cubicBezTo>
                  <a:pt x="13628" y="8530"/>
                  <a:pt x="13625" y="8562"/>
                  <a:pt x="13593" y="8607"/>
                </a:cubicBezTo>
                <a:cubicBezTo>
                  <a:pt x="13560" y="8654"/>
                  <a:pt x="13506" y="8665"/>
                  <a:pt x="13469" y="8706"/>
                </a:cubicBezTo>
                <a:cubicBezTo>
                  <a:pt x="13419" y="8761"/>
                  <a:pt x="13407" y="8785"/>
                  <a:pt x="13345" y="8830"/>
                </a:cubicBezTo>
                <a:cubicBezTo>
                  <a:pt x="13295" y="8867"/>
                  <a:pt x="13245" y="8872"/>
                  <a:pt x="13196" y="8905"/>
                </a:cubicBezTo>
                <a:cubicBezTo>
                  <a:pt x="13144" y="8940"/>
                  <a:pt x="13099" y="8976"/>
                  <a:pt x="13047" y="9004"/>
                </a:cubicBezTo>
                <a:cubicBezTo>
                  <a:pt x="13014" y="9022"/>
                  <a:pt x="12956" y="9035"/>
                  <a:pt x="12923" y="9054"/>
                </a:cubicBezTo>
                <a:cubicBezTo>
                  <a:pt x="12915" y="9062"/>
                  <a:pt x="12906" y="9071"/>
                  <a:pt x="12898" y="9079"/>
                </a:cubicBezTo>
                <a:cubicBezTo>
                  <a:pt x="12910" y="9048"/>
                  <a:pt x="12946" y="9062"/>
                  <a:pt x="12948" y="9029"/>
                </a:cubicBezTo>
                <a:cubicBezTo>
                  <a:pt x="12950" y="9000"/>
                  <a:pt x="12900" y="8954"/>
                  <a:pt x="12874" y="8954"/>
                </a:cubicBezTo>
                <a:cubicBezTo>
                  <a:pt x="12845" y="8954"/>
                  <a:pt x="12776" y="8987"/>
                  <a:pt x="12750" y="9004"/>
                </a:cubicBezTo>
                <a:cubicBezTo>
                  <a:pt x="12690" y="9045"/>
                  <a:pt x="12691" y="9092"/>
                  <a:pt x="12675" y="9153"/>
                </a:cubicBezTo>
                <a:cubicBezTo>
                  <a:pt x="12675" y="9161"/>
                  <a:pt x="12675" y="9170"/>
                  <a:pt x="12675" y="9178"/>
                </a:cubicBezTo>
                <a:cubicBezTo>
                  <a:pt x="12734" y="9207"/>
                  <a:pt x="12754" y="9223"/>
                  <a:pt x="12824" y="9227"/>
                </a:cubicBezTo>
                <a:cubicBezTo>
                  <a:pt x="12902" y="9232"/>
                  <a:pt x="12955" y="9219"/>
                  <a:pt x="13022" y="9178"/>
                </a:cubicBezTo>
                <a:cubicBezTo>
                  <a:pt x="13075" y="9146"/>
                  <a:pt x="13122" y="9087"/>
                  <a:pt x="13122" y="9029"/>
                </a:cubicBezTo>
                <a:cubicBezTo>
                  <a:pt x="13122" y="8967"/>
                  <a:pt x="13111" y="8982"/>
                  <a:pt x="13072" y="8954"/>
                </a:cubicBezTo>
                <a:cubicBezTo>
                  <a:pt x="13038" y="8929"/>
                  <a:pt x="12996" y="8894"/>
                  <a:pt x="12948" y="8905"/>
                </a:cubicBezTo>
                <a:cubicBezTo>
                  <a:pt x="12899" y="8916"/>
                  <a:pt x="12836" y="8973"/>
                  <a:pt x="12799" y="9004"/>
                </a:cubicBezTo>
                <a:cubicBezTo>
                  <a:pt x="12753" y="9042"/>
                  <a:pt x="12725" y="9069"/>
                  <a:pt x="12725" y="9128"/>
                </a:cubicBezTo>
                <a:cubicBezTo>
                  <a:pt x="12725" y="9175"/>
                  <a:pt x="12756" y="9215"/>
                  <a:pt x="12799" y="9227"/>
                </a:cubicBezTo>
                <a:cubicBezTo>
                  <a:pt x="12853" y="9242"/>
                  <a:pt x="12959" y="9235"/>
                  <a:pt x="12998" y="9203"/>
                </a:cubicBezTo>
                <a:cubicBezTo>
                  <a:pt x="13035" y="9173"/>
                  <a:pt x="13065" y="9092"/>
                  <a:pt x="13072" y="9054"/>
                </a:cubicBezTo>
                <a:cubicBezTo>
                  <a:pt x="13080" y="9009"/>
                  <a:pt x="13076" y="8941"/>
                  <a:pt x="13047" y="8905"/>
                </a:cubicBezTo>
                <a:cubicBezTo>
                  <a:pt x="13004" y="8852"/>
                  <a:pt x="12959" y="8859"/>
                  <a:pt x="12898" y="8855"/>
                </a:cubicBezTo>
                <a:cubicBezTo>
                  <a:pt x="12818" y="8850"/>
                  <a:pt x="12807" y="8860"/>
                  <a:pt x="12750" y="8905"/>
                </a:cubicBezTo>
                <a:cubicBezTo>
                  <a:pt x="12708" y="8946"/>
                  <a:pt x="12700" y="8954"/>
                  <a:pt x="12675" y="8979"/>
                </a:cubicBezTo>
              </a:path>
              <a:path w="4243" h="4168">
                <a:moveTo>
                  <a:pt x="12824" y="9550"/>
                </a:moveTo>
                <a:cubicBezTo>
                  <a:pt x="12759" y="9606"/>
                  <a:pt x="12698" y="9651"/>
                  <a:pt x="12650" y="9723"/>
                </a:cubicBezTo>
                <a:cubicBezTo>
                  <a:pt x="12604" y="9793"/>
                  <a:pt x="12556" y="9890"/>
                  <a:pt x="12551" y="9971"/>
                </a:cubicBezTo>
                <a:cubicBezTo>
                  <a:pt x="12547" y="10038"/>
                  <a:pt x="12540" y="10111"/>
                  <a:pt x="12576" y="10170"/>
                </a:cubicBezTo>
                <a:cubicBezTo>
                  <a:pt x="12612" y="10228"/>
                  <a:pt x="12666" y="10261"/>
                  <a:pt x="12725" y="10269"/>
                </a:cubicBezTo>
              </a:path>
              <a:path w="4243" h="4168">
                <a:moveTo>
                  <a:pt x="13047" y="9798"/>
                </a:moveTo>
                <a:cubicBezTo>
                  <a:pt x="13015" y="9850"/>
                  <a:pt x="13013" y="9914"/>
                  <a:pt x="12973" y="9971"/>
                </a:cubicBezTo>
                <a:cubicBezTo>
                  <a:pt x="12939" y="10020"/>
                  <a:pt x="12897" y="10078"/>
                  <a:pt x="12923" y="10145"/>
                </a:cubicBezTo>
                <a:cubicBezTo>
                  <a:pt x="12938" y="10183"/>
                  <a:pt x="12993" y="10208"/>
                  <a:pt x="13022" y="10220"/>
                </a:cubicBezTo>
                <a:cubicBezTo>
                  <a:pt x="13095" y="10250"/>
                  <a:pt x="13158" y="10228"/>
                  <a:pt x="13221" y="10195"/>
                </a:cubicBezTo>
                <a:cubicBezTo>
                  <a:pt x="13289" y="10159"/>
                  <a:pt x="13308" y="10095"/>
                  <a:pt x="13320" y="10021"/>
                </a:cubicBezTo>
                <a:cubicBezTo>
                  <a:pt x="13332" y="9952"/>
                  <a:pt x="13317" y="9898"/>
                  <a:pt x="13271" y="9847"/>
                </a:cubicBezTo>
                <a:cubicBezTo>
                  <a:pt x="13231" y="9802"/>
                  <a:pt x="13177" y="9776"/>
                  <a:pt x="13122" y="9773"/>
                </a:cubicBezTo>
                <a:cubicBezTo>
                  <a:pt x="13089" y="9771"/>
                  <a:pt x="13055" y="9773"/>
                  <a:pt x="13022" y="9773"/>
                </a:cubicBezTo>
              </a:path>
              <a:path w="4243" h="4168">
                <a:moveTo>
                  <a:pt x="13345" y="10195"/>
                </a:moveTo>
                <a:cubicBezTo>
                  <a:pt x="13360" y="10278"/>
                  <a:pt x="13345" y="10310"/>
                  <a:pt x="13345" y="10393"/>
                </a:cubicBezTo>
                <a:cubicBezTo>
                  <a:pt x="13345" y="10401"/>
                  <a:pt x="13345" y="10410"/>
                  <a:pt x="13345" y="10418"/>
                </a:cubicBezTo>
              </a:path>
              <a:path w="4243" h="4168">
                <a:moveTo>
                  <a:pt x="13519" y="9823"/>
                </a:moveTo>
                <a:cubicBezTo>
                  <a:pt x="13603" y="9823"/>
                  <a:pt x="13664" y="9834"/>
                  <a:pt x="13742" y="9847"/>
                </a:cubicBezTo>
                <a:cubicBezTo>
                  <a:pt x="13820" y="9860"/>
                  <a:pt x="13873" y="9832"/>
                  <a:pt x="13940" y="9798"/>
                </a:cubicBezTo>
              </a:path>
              <a:path w="4243" h="4168">
                <a:moveTo>
                  <a:pt x="14039" y="9599"/>
                </a:moveTo>
                <a:cubicBezTo>
                  <a:pt x="14039" y="9700"/>
                  <a:pt x="14019" y="9775"/>
                  <a:pt x="14015" y="9872"/>
                </a:cubicBezTo>
                <a:cubicBezTo>
                  <a:pt x="14012" y="9936"/>
                  <a:pt x="14014" y="10013"/>
                  <a:pt x="14039" y="10071"/>
                </a:cubicBezTo>
                <a:cubicBezTo>
                  <a:pt x="14076" y="10144"/>
                  <a:pt x="14093" y="10149"/>
                  <a:pt x="14089" y="10195"/>
                </a:cubicBezTo>
              </a:path>
              <a:path w="4243" h="4168">
                <a:moveTo>
                  <a:pt x="14139" y="9401"/>
                </a:moveTo>
                <a:cubicBezTo>
                  <a:pt x="14284" y="9510"/>
                  <a:pt x="14379" y="9592"/>
                  <a:pt x="14436" y="9773"/>
                </a:cubicBezTo>
                <a:cubicBezTo>
                  <a:pt x="14472" y="9886"/>
                  <a:pt x="14509" y="10049"/>
                  <a:pt x="14486" y="10170"/>
                </a:cubicBezTo>
                <a:cubicBezTo>
                  <a:pt x="14464" y="10285"/>
                  <a:pt x="14397" y="10349"/>
                  <a:pt x="14312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76640" y="4241880"/>
            <a:ext cx="455400" cy="27000"/>
          </a:xfrm>
          <a:custGeom>
            <a:avLst/>
            <a:gdLst/>
            <a:ahLst/>
            <a:rect l="l" t="t" r="r" b="b"/>
            <a:pathLst>
              <a:path w="1266" h="76">
                <a:moveTo>
                  <a:pt x="6325" y="11857"/>
                </a:moveTo>
                <a:cubicBezTo>
                  <a:pt x="6422" y="11831"/>
                  <a:pt x="6497" y="11810"/>
                  <a:pt x="6598" y="11807"/>
                </a:cubicBezTo>
                <a:cubicBezTo>
                  <a:pt x="6760" y="11802"/>
                  <a:pt x="6910" y="11822"/>
                  <a:pt x="7069" y="11832"/>
                </a:cubicBezTo>
                <a:cubicBezTo>
                  <a:pt x="7251" y="11844"/>
                  <a:pt x="7736" y="11916"/>
                  <a:pt x="7590" y="11807"/>
                </a:cubicBezTo>
                <a:cubicBezTo>
                  <a:pt x="7562" y="11807"/>
                  <a:pt x="7551" y="11805"/>
                  <a:pt x="7541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74920" y="4357800"/>
            <a:ext cx="189000" cy="9360"/>
          </a:xfrm>
          <a:custGeom>
            <a:avLst/>
            <a:gdLst/>
            <a:ahLst/>
            <a:rect l="l" t="t" r="r" b="b"/>
            <a:pathLst>
              <a:path w="522" h="25">
                <a:moveTo>
                  <a:pt x="6598" y="12105"/>
                </a:moveTo>
                <a:cubicBezTo>
                  <a:pt x="6712" y="12121"/>
                  <a:pt x="6853" y="12150"/>
                  <a:pt x="6970" y="12129"/>
                </a:cubicBezTo>
                <a:cubicBezTo>
                  <a:pt x="7043" y="12105"/>
                  <a:pt x="7067" y="12097"/>
                  <a:pt x="7119" y="121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4367160"/>
            <a:ext cx="7920" cy="115920"/>
          </a:xfrm>
          <a:custGeom>
            <a:avLst/>
            <a:gdLst/>
            <a:ahLst/>
            <a:rect l="l" t="t" r="r" b="b"/>
            <a:pathLst>
              <a:path w="25" h="324">
                <a:moveTo>
                  <a:pt x="6796" y="12129"/>
                </a:moveTo>
                <a:cubicBezTo>
                  <a:pt x="6780" y="12221"/>
                  <a:pt x="6772" y="12288"/>
                  <a:pt x="6772" y="12378"/>
                </a:cubicBezTo>
                <a:cubicBezTo>
                  <a:pt x="6772" y="12420"/>
                  <a:pt x="6771" y="12417"/>
                  <a:pt x="6796" y="124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7840" y="4367160"/>
            <a:ext cx="27000" cy="169920"/>
          </a:xfrm>
          <a:custGeom>
            <a:avLst/>
            <a:gdLst/>
            <a:ahLst/>
            <a:rect l="l" t="t" r="r" b="b"/>
            <a:pathLst>
              <a:path w="75" h="473">
                <a:moveTo>
                  <a:pt x="6995" y="12129"/>
                </a:moveTo>
                <a:cubicBezTo>
                  <a:pt x="7011" y="12217"/>
                  <a:pt x="6998" y="12342"/>
                  <a:pt x="7020" y="12427"/>
                </a:cubicBezTo>
                <a:cubicBezTo>
                  <a:pt x="7036" y="12486"/>
                  <a:pt x="7041" y="12552"/>
                  <a:pt x="7069" y="126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20920" y="4680000"/>
            <a:ext cx="196920" cy="231840"/>
          </a:xfrm>
          <a:custGeom>
            <a:avLst/>
            <a:gdLst/>
            <a:ahLst/>
            <a:rect l="l" t="t" r="r" b="b"/>
            <a:pathLst>
              <a:path w="547" h="646">
                <a:moveTo>
                  <a:pt x="6548" y="13122"/>
                </a:moveTo>
                <a:cubicBezTo>
                  <a:pt x="6509" y="13208"/>
                  <a:pt x="6400" y="13351"/>
                  <a:pt x="6474" y="13444"/>
                </a:cubicBezTo>
                <a:cubicBezTo>
                  <a:pt x="6514" y="13493"/>
                  <a:pt x="6537" y="13514"/>
                  <a:pt x="6598" y="13519"/>
                </a:cubicBezTo>
                <a:cubicBezTo>
                  <a:pt x="6634" y="13522"/>
                  <a:pt x="6678" y="13473"/>
                  <a:pt x="6697" y="13444"/>
                </a:cubicBezTo>
                <a:cubicBezTo>
                  <a:pt x="6729" y="13394"/>
                  <a:pt x="6735" y="13304"/>
                  <a:pt x="6722" y="13246"/>
                </a:cubicBezTo>
                <a:cubicBezTo>
                  <a:pt x="6705" y="13166"/>
                  <a:pt x="6672" y="13128"/>
                  <a:pt x="6672" y="13047"/>
                </a:cubicBezTo>
                <a:cubicBezTo>
                  <a:pt x="6672" y="13022"/>
                  <a:pt x="6672" y="13014"/>
                  <a:pt x="6672" y="12998"/>
                </a:cubicBezTo>
                <a:cubicBezTo>
                  <a:pt x="6726" y="12998"/>
                  <a:pt x="6777" y="13013"/>
                  <a:pt x="6821" y="13047"/>
                </a:cubicBezTo>
                <a:cubicBezTo>
                  <a:pt x="6877" y="13090"/>
                  <a:pt x="6925" y="13178"/>
                  <a:pt x="6945" y="13246"/>
                </a:cubicBezTo>
                <a:cubicBezTo>
                  <a:pt x="6967" y="13321"/>
                  <a:pt x="6889" y="13603"/>
                  <a:pt x="6970" y="13643"/>
                </a:cubicBezTo>
                <a:cubicBezTo>
                  <a:pt x="6978" y="13643"/>
                  <a:pt x="6987" y="13643"/>
                  <a:pt x="6995" y="136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78000" y="5027760"/>
            <a:ext cx="13500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6127" y="13990"/>
                </a:moveTo>
                <a:cubicBezTo>
                  <a:pt x="6165" y="13961"/>
                  <a:pt x="6178" y="13965"/>
                  <a:pt x="6226" y="13965"/>
                </a:cubicBezTo>
                <a:cubicBezTo>
                  <a:pt x="6277" y="13965"/>
                  <a:pt x="6310" y="13958"/>
                  <a:pt x="6350" y="13990"/>
                </a:cubicBezTo>
                <a:cubicBezTo>
                  <a:pt x="6383" y="14017"/>
                  <a:pt x="6410" y="14020"/>
                  <a:pt x="6424" y="14064"/>
                </a:cubicBezTo>
                <a:cubicBezTo>
                  <a:pt x="6437" y="14105"/>
                  <a:pt x="6380" y="14136"/>
                  <a:pt x="6350" y="14139"/>
                </a:cubicBezTo>
                <a:cubicBezTo>
                  <a:pt x="6310" y="14143"/>
                  <a:pt x="6266" y="14139"/>
                  <a:pt x="6226" y="14139"/>
                </a:cubicBezTo>
                <a:cubicBezTo>
                  <a:pt x="6295" y="14179"/>
                  <a:pt x="6298" y="14169"/>
                  <a:pt x="6350" y="14238"/>
                </a:cubicBezTo>
                <a:cubicBezTo>
                  <a:pt x="6396" y="14299"/>
                  <a:pt x="6400" y="14304"/>
                  <a:pt x="6400" y="14387"/>
                </a:cubicBezTo>
                <a:cubicBezTo>
                  <a:pt x="6400" y="14442"/>
                  <a:pt x="6396" y="14441"/>
                  <a:pt x="6350" y="14461"/>
                </a:cubicBezTo>
                <a:cubicBezTo>
                  <a:pt x="6267" y="14497"/>
                  <a:pt x="6237" y="14468"/>
                  <a:pt x="6152" y="14461"/>
                </a:cubicBezTo>
                <a:cubicBezTo>
                  <a:pt x="6120" y="14459"/>
                  <a:pt x="6067" y="14420"/>
                  <a:pt x="6052" y="14387"/>
                </a:cubicBezTo>
                <a:cubicBezTo>
                  <a:pt x="6033" y="14345"/>
                  <a:pt x="6107" y="14323"/>
                  <a:pt x="6127" y="143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28920" y="5054760"/>
            <a:ext cx="115920" cy="88920"/>
          </a:xfrm>
          <a:custGeom>
            <a:avLst/>
            <a:gdLst/>
            <a:ahLst/>
            <a:rect l="l" t="t" r="r" b="b"/>
            <a:pathLst>
              <a:path w="323" h="250">
                <a:moveTo>
                  <a:pt x="6747" y="14039"/>
                </a:moveTo>
                <a:cubicBezTo>
                  <a:pt x="6771" y="14094"/>
                  <a:pt x="6780" y="14142"/>
                  <a:pt x="6821" y="14188"/>
                </a:cubicBezTo>
                <a:cubicBezTo>
                  <a:pt x="6859" y="14230"/>
                  <a:pt x="6900" y="14299"/>
                  <a:pt x="6970" y="14288"/>
                </a:cubicBezTo>
                <a:cubicBezTo>
                  <a:pt x="7008" y="14250"/>
                  <a:pt x="7031" y="14232"/>
                  <a:pt x="7069" y="142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7200" y="4983120"/>
            <a:ext cx="17640" cy="276120"/>
          </a:xfrm>
          <a:custGeom>
            <a:avLst/>
            <a:gdLst/>
            <a:ahLst/>
            <a:rect l="l" t="t" r="r" b="b"/>
            <a:pathLst>
              <a:path w="50" h="770">
                <a:moveTo>
                  <a:pt x="7069" y="13841"/>
                </a:moveTo>
                <a:cubicBezTo>
                  <a:pt x="7032" y="14010"/>
                  <a:pt x="7020" y="14120"/>
                  <a:pt x="7020" y="14288"/>
                </a:cubicBezTo>
                <a:cubicBezTo>
                  <a:pt x="7020" y="14382"/>
                  <a:pt x="7040" y="14467"/>
                  <a:pt x="7045" y="14560"/>
                </a:cubicBezTo>
                <a:cubicBezTo>
                  <a:pt x="7045" y="14601"/>
                  <a:pt x="7036" y="14618"/>
                  <a:pt x="7069" y="146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16120" y="5054760"/>
            <a:ext cx="108000" cy="196560"/>
          </a:xfrm>
          <a:custGeom>
            <a:avLst/>
            <a:gdLst/>
            <a:ahLst/>
            <a:rect l="l" t="t" r="r" b="b"/>
            <a:pathLst>
              <a:path w="298" h="547">
                <a:moveTo>
                  <a:pt x="7268" y="14039"/>
                </a:moveTo>
                <a:cubicBezTo>
                  <a:pt x="7337" y="14039"/>
                  <a:pt x="7406" y="14027"/>
                  <a:pt x="7466" y="14064"/>
                </a:cubicBezTo>
                <a:cubicBezTo>
                  <a:pt x="7528" y="14102"/>
                  <a:pt x="7559" y="14116"/>
                  <a:pt x="7565" y="14188"/>
                </a:cubicBezTo>
                <a:cubicBezTo>
                  <a:pt x="7565" y="14196"/>
                  <a:pt x="7565" y="14205"/>
                  <a:pt x="7565" y="14213"/>
                </a:cubicBezTo>
                <a:cubicBezTo>
                  <a:pt x="7508" y="14221"/>
                  <a:pt x="7478" y="14238"/>
                  <a:pt x="7417" y="14238"/>
                </a:cubicBezTo>
                <a:cubicBezTo>
                  <a:pt x="7364" y="14238"/>
                  <a:pt x="7360" y="14224"/>
                  <a:pt x="7317" y="14213"/>
                </a:cubicBezTo>
                <a:cubicBezTo>
                  <a:pt x="7346" y="14270"/>
                  <a:pt x="7418" y="14282"/>
                  <a:pt x="7466" y="14337"/>
                </a:cubicBezTo>
                <a:cubicBezTo>
                  <a:pt x="7501" y="14377"/>
                  <a:pt x="7567" y="14449"/>
                  <a:pt x="7541" y="14511"/>
                </a:cubicBezTo>
                <a:cubicBezTo>
                  <a:pt x="7536" y="14522"/>
                  <a:pt x="7454" y="14579"/>
                  <a:pt x="7441" y="14585"/>
                </a:cubicBezTo>
                <a:cubicBezTo>
                  <a:pt x="7399" y="14604"/>
                  <a:pt x="7314" y="14585"/>
                  <a:pt x="7268" y="145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38240" y="4991040"/>
            <a:ext cx="187560" cy="3672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5383" y="13866"/>
                </a:moveTo>
                <a:cubicBezTo>
                  <a:pt x="5486" y="13894"/>
                  <a:pt x="5600" y="13949"/>
                  <a:pt x="5705" y="13965"/>
                </a:cubicBezTo>
                <a:cubicBezTo>
                  <a:pt x="5780" y="13976"/>
                  <a:pt x="5834" y="13959"/>
                  <a:pt x="5904" y="139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0040" y="5241960"/>
            <a:ext cx="9360" cy="17280"/>
          </a:xfrm>
          <a:custGeom>
            <a:avLst/>
            <a:gdLst/>
            <a:ahLst/>
            <a:rect l="l" t="t" r="r" b="b"/>
            <a:pathLst>
              <a:path w="26" h="51">
                <a:moveTo>
                  <a:pt x="7888" y="14585"/>
                </a:moveTo>
                <a:cubicBezTo>
                  <a:pt x="7888" y="14629"/>
                  <a:pt x="7894" y="14586"/>
                  <a:pt x="7913" y="145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9240" y="5010120"/>
            <a:ext cx="125640" cy="268200"/>
          </a:xfrm>
          <a:custGeom>
            <a:avLst/>
            <a:gdLst/>
            <a:ahLst/>
            <a:rect l="l" t="t" r="r" b="b"/>
            <a:pathLst>
              <a:path w="348" h="746">
                <a:moveTo>
                  <a:pt x="8111" y="13940"/>
                </a:moveTo>
                <a:cubicBezTo>
                  <a:pt x="8163" y="13918"/>
                  <a:pt x="8181" y="13915"/>
                  <a:pt x="8235" y="13915"/>
                </a:cubicBezTo>
                <a:cubicBezTo>
                  <a:pt x="8294" y="13915"/>
                  <a:pt x="8321" y="13940"/>
                  <a:pt x="8384" y="13940"/>
                </a:cubicBezTo>
                <a:cubicBezTo>
                  <a:pt x="8421" y="13940"/>
                  <a:pt x="8418" y="13969"/>
                  <a:pt x="8434" y="13990"/>
                </a:cubicBezTo>
                <a:cubicBezTo>
                  <a:pt x="8473" y="14044"/>
                  <a:pt x="8458" y="14089"/>
                  <a:pt x="8458" y="14163"/>
                </a:cubicBezTo>
                <a:cubicBezTo>
                  <a:pt x="8458" y="14236"/>
                  <a:pt x="8418" y="14294"/>
                  <a:pt x="8409" y="14362"/>
                </a:cubicBezTo>
                <a:cubicBezTo>
                  <a:pt x="8398" y="14443"/>
                  <a:pt x="8387" y="14598"/>
                  <a:pt x="8434" y="146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3160" y="5018040"/>
            <a:ext cx="142920" cy="376200"/>
          </a:xfrm>
          <a:custGeom>
            <a:avLst/>
            <a:gdLst/>
            <a:ahLst/>
            <a:rect l="l" t="t" r="r" b="b"/>
            <a:pathLst>
              <a:path w="398" h="1043">
                <a:moveTo>
                  <a:pt x="8731" y="13965"/>
                </a:moveTo>
                <a:cubicBezTo>
                  <a:pt x="8819" y="13927"/>
                  <a:pt x="8794" y="13950"/>
                  <a:pt x="8880" y="13965"/>
                </a:cubicBezTo>
                <a:cubicBezTo>
                  <a:pt x="8961" y="13979"/>
                  <a:pt x="8988" y="14035"/>
                  <a:pt x="9054" y="14064"/>
                </a:cubicBezTo>
                <a:cubicBezTo>
                  <a:pt x="9069" y="14071"/>
                  <a:pt x="9132" y="14138"/>
                  <a:pt x="9128" y="14163"/>
                </a:cubicBezTo>
                <a:cubicBezTo>
                  <a:pt x="9117" y="14242"/>
                  <a:pt x="9088" y="14330"/>
                  <a:pt x="9079" y="14412"/>
                </a:cubicBezTo>
                <a:cubicBezTo>
                  <a:pt x="9066" y="14532"/>
                  <a:pt x="9083" y="14641"/>
                  <a:pt x="9054" y="14759"/>
                </a:cubicBezTo>
                <a:cubicBezTo>
                  <a:pt x="9034" y="14839"/>
                  <a:pt x="9029" y="14907"/>
                  <a:pt x="9004" y="149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nd the reference angle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-140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66920" y="2884320"/>
            <a:ext cx="152280" cy="88920"/>
          </a:xfrm>
          <a:custGeom>
            <a:avLst/>
            <a:gdLst/>
            <a:ahLst/>
            <a:rect l="l" t="t" r="r" b="b"/>
            <a:pathLst>
              <a:path w="423" h="249">
                <a:moveTo>
                  <a:pt x="3795" y="8012"/>
                </a:moveTo>
                <a:cubicBezTo>
                  <a:pt x="3936" y="8012"/>
                  <a:pt x="4076" y="8012"/>
                  <a:pt x="4217" y="8012"/>
                </a:cubicBezTo>
              </a:path>
              <a:path w="423" h="249">
                <a:moveTo>
                  <a:pt x="3820" y="8210"/>
                </a:moveTo>
                <a:cubicBezTo>
                  <a:pt x="3955" y="8233"/>
                  <a:pt x="4059" y="8253"/>
                  <a:pt x="4192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04960" y="2571840"/>
            <a:ext cx="509760" cy="554040"/>
          </a:xfrm>
          <a:custGeom>
            <a:avLst/>
            <a:gdLst/>
            <a:ahLst/>
            <a:rect l="l" t="t" r="r" b="b"/>
            <a:pathLst>
              <a:path w="1415" h="1539">
                <a:moveTo>
                  <a:pt x="4738" y="7243"/>
                </a:moveTo>
                <a:cubicBezTo>
                  <a:pt x="4802" y="7298"/>
                  <a:pt x="4869" y="7397"/>
                  <a:pt x="4887" y="7491"/>
                </a:cubicBezTo>
                <a:cubicBezTo>
                  <a:pt x="4904" y="7582"/>
                  <a:pt x="4850" y="7685"/>
                  <a:pt x="4812" y="7764"/>
                </a:cubicBezTo>
                <a:cubicBezTo>
                  <a:pt x="4786" y="7818"/>
                  <a:pt x="4762" y="7830"/>
                  <a:pt x="4762" y="7888"/>
                </a:cubicBezTo>
                <a:cubicBezTo>
                  <a:pt x="4762" y="7896"/>
                  <a:pt x="4762" y="7905"/>
                  <a:pt x="4762" y="7913"/>
                </a:cubicBezTo>
                <a:cubicBezTo>
                  <a:pt x="4874" y="7913"/>
                  <a:pt x="5004" y="7928"/>
                  <a:pt x="5110" y="7888"/>
                </a:cubicBezTo>
                <a:cubicBezTo>
                  <a:pt x="5206" y="7852"/>
                  <a:pt x="5280" y="7799"/>
                  <a:pt x="5333" y="7714"/>
                </a:cubicBezTo>
              </a:path>
              <a:path w="1415" h="1539">
                <a:moveTo>
                  <a:pt x="5259" y="7169"/>
                </a:moveTo>
                <a:cubicBezTo>
                  <a:pt x="5211" y="7364"/>
                  <a:pt x="5163" y="7539"/>
                  <a:pt x="5159" y="7739"/>
                </a:cubicBezTo>
                <a:cubicBezTo>
                  <a:pt x="5155" y="7949"/>
                  <a:pt x="5135" y="8147"/>
                  <a:pt x="5159" y="8359"/>
                </a:cubicBezTo>
                <a:cubicBezTo>
                  <a:pt x="5169" y="8444"/>
                  <a:pt x="5174" y="8581"/>
                  <a:pt x="5209" y="8657"/>
                </a:cubicBezTo>
                <a:cubicBezTo>
                  <a:pt x="5234" y="8682"/>
                  <a:pt x="5242" y="8690"/>
                  <a:pt x="5259" y="8657"/>
                </a:cubicBezTo>
              </a:path>
              <a:path w="1415" h="1539">
                <a:moveTo>
                  <a:pt x="5556" y="7516"/>
                </a:moveTo>
                <a:cubicBezTo>
                  <a:pt x="5527" y="7729"/>
                  <a:pt x="5446" y="8032"/>
                  <a:pt x="5482" y="8260"/>
                </a:cubicBezTo>
                <a:cubicBezTo>
                  <a:pt x="5503" y="8392"/>
                  <a:pt x="5539" y="8451"/>
                  <a:pt x="5631" y="8533"/>
                </a:cubicBezTo>
                <a:cubicBezTo>
                  <a:pt x="5704" y="8599"/>
                  <a:pt x="5782" y="8649"/>
                  <a:pt x="5879" y="8607"/>
                </a:cubicBezTo>
                <a:cubicBezTo>
                  <a:pt x="5971" y="8567"/>
                  <a:pt x="5983" y="8390"/>
                  <a:pt x="6003" y="8310"/>
                </a:cubicBezTo>
                <a:cubicBezTo>
                  <a:pt x="6038" y="8171"/>
                  <a:pt x="6039" y="8022"/>
                  <a:pt x="5978" y="7888"/>
                </a:cubicBezTo>
                <a:cubicBezTo>
                  <a:pt x="5927" y="7775"/>
                  <a:pt x="5879" y="7728"/>
                  <a:pt x="5779" y="7665"/>
                </a:cubicBezTo>
                <a:cubicBezTo>
                  <a:pt x="5725" y="7638"/>
                  <a:pt x="5705" y="7626"/>
                  <a:pt x="5680" y="7590"/>
                </a:cubicBezTo>
              </a:path>
              <a:path w="1415" h="1539">
                <a:moveTo>
                  <a:pt x="5904" y="7218"/>
                </a:moveTo>
                <a:cubicBezTo>
                  <a:pt x="5887" y="7299"/>
                  <a:pt x="5840" y="7390"/>
                  <a:pt x="5953" y="7417"/>
                </a:cubicBezTo>
                <a:cubicBezTo>
                  <a:pt x="6006" y="7430"/>
                  <a:pt x="6097" y="7421"/>
                  <a:pt x="6127" y="7367"/>
                </a:cubicBezTo>
                <a:cubicBezTo>
                  <a:pt x="6136" y="7350"/>
                  <a:pt x="6178" y="7209"/>
                  <a:pt x="6152" y="7193"/>
                </a:cubicBezTo>
                <a:cubicBezTo>
                  <a:pt x="6005" y="7145"/>
                  <a:pt x="5958" y="7128"/>
                  <a:pt x="5854" y="71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0800" y="3670200"/>
            <a:ext cx="2948040" cy="339840"/>
          </a:xfrm>
          <a:custGeom>
            <a:avLst/>
            <a:gdLst/>
            <a:ahLst/>
            <a:rect l="l" t="t" r="r" b="b"/>
            <a:pathLst>
              <a:path w="8187" h="943">
                <a:moveTo>
                  <a:pt x="2282" y="10319"/>
                </a:moveTo>
                <a:cubicBezTo>
                  <a:pt x="2350" y="10330"/>
                  <a:pt x="2413" y="10332"/>
                  <a:pt x="2480" y="10344"/>
                </a:cubicBezTo>
                <a:cubicBezTo>
                  <a:pt x="2573" y="10360"/>
                  <a:pt x="2681" y="10388"/>
                  <a:pt x="2778" y="10393"/>
                </a:cubicBezTo>
                <a:cubicBezTo>
                  <a:pt x="2952" y="10402"/>
                  <a:pt x="3125" y="10415"/>
                  <a:pt x="3299" y="10418"/>
                </a:cubicBezTo>
                <a:cubicBezTo>
                  <a:pt x="3540" y="10422"/>
                  <a:pt x="3777" y="10440"/>
                  <a:pt x="4018" y="10443"/>
                </a:cubicBezTo>
                <a:cubicBezTo>
                  <a:pt x="5196" y="10459"/>
                  <a:pt x="6391" y="10353"/>
                  <a:pt x="7565" y="10418"/>
                </a:cubicBezTo>
                <a:cubicBezTo>
                  <a:pt x="7895" y="10436"/>
                  <a:pt x="8228" y="10423"/>
                  <a:pt x="8558" y="10443"/>
                </a:cubicBezTo>
                <a:cubicBezTo>
                  <a:pt x="8863" y="10462"/>
                  <a:pt x="9169" y="10486"/>
                  <a:pt x="9475" y="10492"/>
                </a:cubicBezTo>
                <a:cubicBezTo>
                  <a:pt x="9647" y="10495"/>
                  <a:pt x="9889" y="10485"/>
                  <a:pt x="10021" y="10468"/>
                </a:cubicBezTo>
                <a:cubicBezTo>
                  <a:pt x="10029" y="10468"/>
                  <a:pt x="10038" y="10468"/>
                  <a:pt x="10046" y="10468"/>
                </a:cubicBezTo>
              </a:path>
              <a:path w="8187" h="943">
                <a:moveTo>
                  <a:pt x="9947" y="10195"/>
                </a:moveTo>
                <a:cubicBezTo>
                  <a:pt x="10062" y="10249"/>
                  <a:pt x="10161" y="10300"/>
                  <a:pt x="10269" y="10368"/>
                </a:cubicBezTo>
                <a:cubicBezTo>
                  <a:pt x="10339" y="10412"/>
                  <a:pt x="10444" y="10454"/>
                  <a:pt x="10468" y="10542"/>
                </a:cubicBezTo>
                <a:cubicBezTo>
                  <a:pt x="10484" y="10598"/>
                  <a:pt x="10425" y="10721"/>
                  <a:pt x="10393" y="10765"/>
                </a:cubicBezTo>
                <a:cubicBezTo>
                  <a:pt x="10334" y="10846"/>
                  <a:pt x="10263" y="10939"/>
                  <a:pt x="10195" y="11013"/>
                </a:cubicBezTo>
                <a:cubicBezTo>
                  <a:pt x="10154" y="11054"/>
                  <a:pt x="10112" y="11096"/>
                  <a:pt x="10071" y="111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2320" y="3606840"/>
            <a:ext cx="2268720" cy="974520"/>
          </a:xfrm>
          <a:custGeom>
            <a:avLst/>
            <a:gdLst/>
            <a:ahLst/>
            <a:rect l="l" t="t" r="r" b="b"/>
            <a:pathLst>
              <a:path w="6301" h="2705">
                <a:moveTo>
                  <a:pt x="2431" y="10021"/>
                </a:moveTo>
                <a:cubicBezTo>
                  <a:pt x="2395" y="10033"/>
                  <a:pt x="2331" y="10111"/>
                  <a:pt x="2282" y="10145"/>
                </a:cubicBezTo>
                <a:cubicBezTo>
                  <a:pt x="2184" y="10213"/>
                  <a:pt x="2085" y="10282"/>
                  <a:pt x="1984" y="10344"/>
                </a:cubicBezTo>
                <a:cubicBezTo>
                  <a:pt x="1894" y="10399"/>
                  <a:pt x="1836" y="10417"/>
                  <a:pt x="1836" y="10517"/>
                </a:cubicBezTo>
                <a:cubicBezTo>
                  <a:pt x="1836" y="10576"/>
                  <a:pt x="1943" y="10593"/>
                  <a:pt x="1984" y="10616"/>
                </a:cubicBezTo>
                <a:cubicBezTo>
                  <a:pt x="2060" y="10659"/>
                  <a:pt x="2132" y="10696"/>
                  <a:pt x="2208" y="10740"/>
                </a:cubicBezTo>
              </a:path>
              <a:path w="6301" h="2705">
                <a:moveTo>
                  <a:pt x="5482" y="10418"/>
                </a:moveTo>
                <a:cubicBezTo>
                  <a:pt x="5471" y="10453"/>
                  <a:pt x="5426" y="10539"/>
                  <a:pt x="5482" y="10567"/>
                </a:cubicBezTo>
                <a:cubicBezTo>
                  <a:pt x="5533" y="10592"/>
                  <a:pt x="5530" y="10573"/>
                  <a:pt x="5581" y="10567"/>
                </a:cubicBezTo>
                <a:cubicBezTo>
                  <a:pt x="5619" y="10563"/>
                  <a:pt x="5643" y="10527"/>
                  <a:pt x="5655" y="10492"/>
                </a:cubicBezTo>
                <a:cubicBezTo>
                  <a:pt x="5666" y="10460"/>
                  <a:pt x="5626" y="10420"/>
                  <a:pt x="5606" y="10418"/>
                </a:cubicBezTo>
                <a:cubicBezTo>
                  <a:pt x="5528" y="10412"/>
                  <a:pt x="5466" y="10411"/>
                  <a:pt x="5432" y="10492"/>
                </a:cubicBezTo>
                <a:cubicBezTo>
                  <a:pt x="5432" y="10517"/>
                  <a:pt x="5432" y="10525"/>
                  <a:pt x="5432" y="10542"/>
                </a:cubicBezTo>
                <a:cubicBezTo>
                  <a:pt x="5479" y="10551"/>
                  <a:pt x="5528" y="10583"/>
                  <a:pt x="5581" y="10567"/>
                </a:cubicBezTo>
                <a:cubicBezTo>
                  <a:pt x="5654" y="10545"/>
                  <a:pt x="5657" y="10521"/>
                  <a:pt x="5705" y="10468"/>
                </a:cubicBezTo>
                <a:cubicBezTo>
                  <a:pt x="5733" y="10440"/>
                  <a:pt x="5742" y="10426"/>
                  <a:pt x="5730" y="10393"/>
                </a:cubicBezTo>
                <a:cubicBezTo>
                  <a:pt x="5693" y="10357"/>
                  <a:pt x="5664" y="10325"/>
                  <a:pt x="5606" y="10344"/>
                </a:cubicBezTo>
                <a:cubicBezTo>
                  <a:pt x="5553" y="10361"/>
                  <a:pt x="5543" y="10396"/>
                  <a:pt x="5531" y="10443"/>
                </a:cubicBezTo>
              </a:path>
              <a:path w="6301" h="2705">
                <a:moveTo>
                  <a:pt x="5507" y="10443"/>
                </a:moveTo>
                <a:cubicBezTo>
                  <a:pt x="5492" y="10458"/>
                  <a:pt x="5463" y="10493"/>
                  <a:pt x="5432" y="10517"/>
                </a:cubicBezTo>
                <a:cubicBezTo>
                  <a:pt x="5374" y="10562"/>
                  <a:pt x="5343" y="10624"/>
                  <a:pt x="5283" y="10666"/>
                </a:cubicBezTo>
                <a:cubicBezTo>
                  <a:pt x="5191" y="10731"/>
                  <a:pt x="5095" y="10788"/>
                  <a:pt x="5011" y="10864"/>
                </a:cubicBezTo>
                <a:cubicBezTo>
                  <a:pt x="4877" y="10985"/>
                  <a:pt x="4741" y="11089"/>
                  <a:pt x="4589" y="11187"/>
                </a:cubicBezTo>
                <a:cubicBezTo>
                  <a:pt x="4377" y="11323"/>
                  <a:pt x="4172" y="11475"/>
                  <a:pt x="3944" y="11584"/>
                </a:cubicBezTo>
                <a:cubicBezTo>
                  <a:pt x="3787" y="11659"/>
                  <a:pt x="3629" y="11729"/>
                  <a:pt x="3473" y="11807"/>
                </a:cubicBezTo>
                <a:cubicBezTo>
                  <a:pt x="3375" y="11856"/>
                  <a:pt x="3291" y="11932"/>
                  <a:pt x="3200" y="11981"/>
                </a:cubicBezTo>
                <a:cubicBezTo>
                  <a:pt x="3146" y="12010"/>
                  <a:pt x="3110" y="11976"/>
                  <a:pt x="3076" y="11981"/>
                </a:cubicBezTo>
              </a:path>
              <a:path w="6301" h="2705">
                <a:moveTo>
                  <a:pt x="3101" y="11733"/>
                </a:moveTo>
                <a:cubicBezTo>
                  <a:pt x="3058" y="11800"/>
                  <a:pt x="3013" y="11862"/>
                  <a:pt x="2977" y="11931"/>
                </a:cubicBezTo>
                <a:cubicBezTo>
                  <a:pt x="2967" y="11950"/>
                  <a:pt x="2899" y="12064"/>
                  <a:pt x="2902" y="12080"/>
                </a:cubicBezTo>
                <a:cubicBezTo>
                  <a:pt x="2910" y="12118"/>
                  <a:pt x="2945" y="12144"/>
                  <a:pt x="2977" y="12154"/>
                </a:cubicBezTo>
                <a:cubicBezTo>
                  <a:pt x="3078" y="12186"/>
                  <a:pt x="3168" y="12179"/>
                  <a:pt x="3274" y="12179"/>
                </a:cubicBezTo>
                <a:cubicBezTo>
                  <a:pt x="3374" y="12179"/>
                  <a:pt x="3409" y="12179"/>
                  <a:pt x="3473" y="12154"/>
                </a:cubicBezTo>
              </a:path>
              <a:path w="6301" h="2705">
                <a:moveTo>
                  <a:pt x="8111" y="10418"/>
                </a:moveTo>
                <a:cubicBezTo>
                  <a:pt x="8100" y="10435"/>
                  <a:pt x="8061" y="10482"/>
                  <a:pt x="8037" y="10517"/>
                </a:cubicBezTo>
                <a:cubicBezTo>
                  <a:pt x="7982" y="10598"/>
                  <a:pt x="7942" y="10683"/>
                  <a:pt x="7888" y="10765"/>
                </a:cubicBezTo>
                <a:cubicBezTo>
                  <a:pt x="7819" y="10871"/>
                  <a:pt x="7767" y="10962"/>
                  <a:pt x="7689" y="11063"/>
                </a:cubicBezTo>
                <a:cubicBezTo>
                  <a:pt x="7578" y="11206"/>
                  <a:pt x="7458" y="11347"/>
                  <a:pt x="7317" y="11460"/>
                </a:cubicBezTo>
                <a:cubicBezTo>
                  <a:pt x="7184" y="11566"/>
                  <a:pt x="7027" y="11642"/>
                  <a:pt x="6871" y="11708"/>
                </a:cubicBezTo>
                <a:cubicBezTo>
                  <a:pt x="6713" y="11774"/>
                  <a:pt x="6520" y="11835"/>
                  <a:pt x="6350" y="11857"/>
                </a:cubicBezTo>
                <a:cubicBezTo>
                  <a:pt x="6106" y="11888"/>
                  <a:pt x="5722" y="11953"/>
                  <a:pt x="5457" y="11931"/>
                </a:cubicBezTo>
                <a:cubicBezTo>
                  <a:pt x="5291" y="11917"/>
                  <a:pt x="5127" y="11873"/>
                  <a:pt x="4961" y="11857"/>
                </a:cubicBezTo>
                <a:cubicBezTo>
                  <a:pt x="4812" y="11842"/>
                  <a:pt x="4628" y="11814"/>
                  <a:pt x="4490" y="11757"/>
                </a:cubicBezTo>
                <a:cubicBezTo>
                  <a:pt x="4336" y="11693"/>
                  <a:pt x="4430" y="11723"/>
                  <a:pt x="4415" y="11658"/>
                </a:cubicBezTo>
                <a:cubicBezTo>
                  <a:pt x="4415" y="11650"/>
                  <a:pt x="4415" y="11641"/>
                  <a:pt x="4415" y="11633"/>
                </a:cubicBezTo>
              </a:path>
              <a:path w="6301" h="2705">
                <a:moveTo>
                  <a:pt x="4663" y="11460"/>
                </a:moveTo>
                <a:cubicBezTo>
                  <a:pt x="4588" y="11460"/>
                  <a:pt x="4534" y="11473"/>
                  <a:pt x="4465" y="11485"/>
                </a:cubicBezTo>
                <a:cubicBezTo>
                  <a:pt x="4409" y="11494"/>
                  <a:pt x="4346" y="11504"/>
                  <a:pt x="4291" y="11509"/>
                </a:cubicBezTo>
                <a:cubicBezTo>
                  <a:pt x="4257" y="11512"/>
                  <a:pt x="4220" y="11543"/>
                  <a:pt x="4242" y="11584"/>
                </a:cubicBezTo>
                <a:cubicBezTo>
                  <a:pt x="4270" y="11636"/>
                  <a:pt x="4326" y="11673"/>
                  <a:pt x="4366" y="11708"/>
                </a:cubicBezTo>
                <a:cubicBezTo>
                  <a:pt x="4422" y="11758"/>
                  <a:pt x="4516" y="11806"/>
                  <a:pt x="4564" y="11857"/>
                </a:cubicBezTo>
                <a:cubicBezTo>
                  <a:pt x="4602" y="11897"/>
                  <a:pt x="4636" y="11941"/>
                  <a:pt x="4663" y="11981"/>
                </a:cubicBezTo>
                <a:cubicBezTo>
                  <a:pt x="4686" y="12003"/>
                  <a:pt x="4694" y="12008"/>
                  <a:pt x="4688" y="12030"/>
                </a:cubicBezTo>
              </a:path>
              <a:path w="6301" h="2705">
                <a:moveTo>
                  <a:pt x="6424" y="12154"/>
                </a:moveTo>
                <a:cubicBezTo>
                  <a:pt x="6346" y="12234"/>
                  <a:pt x="6261" y="12306"/>
                  <a:pt x="6201" y="12402"/>
                </a:cubicBezTo>
                <a:cubicBezTo>
                  <a:pt x="6167" y="12456"/>
                  <a:pt x="6118" y="12543"/>
                  <a:pt x="6176" y="12601"/>
                </a:cubicBezTo>
                <a:cubicBezTo>
                  <a:pt x="6235" y="12661"/>
                  <a:pt x="6333" y="12677"/>
                  <a:pt x="6400" y="12700"/>
                </a:cubicBezTo>
                <a:cubicBezTo>
                  <a:pt x="6510" y="12737"/>
                  <a:pt x="6576" y="12724"/>
                  <a:pt x="6672" y="12650"/>
                </a:cubicBezTo>
                <a:cubicBezTo>
                  <a:pt x="6717" y="12615"/>
                  <a:pt x="6824" y="12492"/>
                  <a:pt x="6821" y="12427"/>
                </a:cubicBezTo>
                <a:cubicBezTo>
                  <a:pt x="6816" y="12328"/>
                  <a:pt x="6703" y="12194"/>
                  <a:pt x="6623" y="12154"/>
                </a:cubicBezTo>
                <a:cubicBezTo>
                  <a:pt x="6555" y="12120"/>
                  <a:pt x="6489" y="12137"/>
                  <a:pt x="6424" y="12154"/>
                </a:cubicBezTo>
                <a:cubicBezTo>
                  <a:pt x="6396" y="12154"/>
                  <a:pt x="6386" y="12151"/>
                  <a:pt x="6375" y="12129"/>
                </a:cubicBezTo>
              </a:path>
              <a:path w="6301" h="2705">
                <a:moveTo>
                  <a:pt x="6028" y="12278"/>
                </a:moveTo>
                <a:cubicBezTo>
                  <a:pt x="6101" y="12315"/>
                  <a:pt x="6172" y="12355"/>
                  <a:pt x="6251" y="12378"/>
                </a:cubicBezTo>
                <a:cubicBezTo>
                  <a:pt x="6456" y="12437"/>
                  <a:pt x="6689" y="12518"/>
                  <a:pt x="6896" y="12551"/>
                </a:cubicBezTo>
                <a:cubicBezTo>
                  <a:pt x="6978" y="12564"/>
                  <a:pt x="6994" y="12541"/>
                  <a:pt x="7020" y="124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0240" y="2473200"/>
            <a:ext cx="554040" cy="635040"/>
          </a:xfrm>
          <a:custGeom>
            <a:avLst/>
            <a:gdLst/>
            <a:ahLst/>
            <a:rect l="l" t="t" r="r" b="b"/>
            <a:pathLst>
              <a:path w="1538" h="1762">
                <a:moveTo>
                  <a:pt x="2356" y="7169"/>
                </a:moveTo>
                <a:cubicBezTo>
                  <a:pt x="2317" y="7287"/>
                  <a:pt x="2288" y="7400"/>
                  <a:pt x="2257" y="7516"/>
                </a:cubicBezTo>
                <a:cubicBezTo>
                  <a:pt x="2213" y="7679"/>
                  <a:pt x="2173" y="7869"/>
                  <a:pt x="2158" y="8037"/>
                </a:cubicBezTo>
                <a:cubicBezTo>
                  <a:pt x="2146" y="8170"/>
                  <a:pt x="2152" y="8334"/>
                  <a:pt x="2208" y="8458"/>
                </a:cubicBezTo>
                <a:cubicBezTo>
                  <a:pt x="2248" y="8548"/>
                  <a:pt x="2359" y="8617"/>
                  <a:pt x="2456" y="8632"/>
                </a:cubicBezTo>
                <a:cubicBezTo>
                  <a:pt x="2540" y="8645"/>
                  <a:pt x="2701" y="8549"/>
                  <a:pt x="2753" y="8483"/>
                </a:cubicBezTo>
                <a:cubicBezTo>
                  <a:pt x="2844" y="8368"/>
                  <a:pt x="2935" y="8184"/>
                  <a:pt x="2952" y="8037"/>
                </a:cubicBezTo>
                <a:cubicBezTo>
                  <a:pt x="2969" y="7887"/>
                  <a:pt x="2919" y="7712"/>
                  <a:pt x="2828" y="7590"/>
                </a:cubicBezTo>
                <a:cubicBezTo>
                  <a:pt x="2734" y="7464"/>
                  <a:pt x="2619" y="7434"/>
                  <a:pt x="2480" y="7392"/>
                </a:cubicBezTo>
                <a:cubicBezTo>
                  <a:pt x="2360" y="7356"/>
                  <a:pt x="2340" y="7383"/>
                  <a:pt x="2232" y="7417"/>
                </a:cubicBezTo>
                <a:cubicBezTo>
                  <a:pt x="2224" y="7417"/>
                  <a:pt x="2216" y="7417"/>
                  <a:pt x="2208" y="7417"/>
                </a:cubicBezTo>
              </a:path>
              <a:path w="1538" h="1762">
                <a:moveTo>
                  <a:pt x="1836" y="7962"/>
                </a:moveTo>
                <a:cubicBezTo>
                  <a:pt x="2022" y="7978"/>
                  <a:pt x="2193" y="7969"/>
                  <a:pt x="2381" y="7938"/>
                </a:cubicBezTo>
                <a:cubicBezTo>
                  <a:pt x="2549" y="7910"/>
                  <a:pt x="2672" y="7889"/>
                  <a:pt x="2803" y="7789"/>
                </a:cubicBezTo>
              </a:path>
              <a:path w="1538" h="1762">
                <a:moveTo>
                  <a:pt x="3249" y="6871"/>
                </a:moveTo>
                <a:cubicBezTo>
                  <a:pt x="3292" y="6998"/>
                  <a:pt x="3324" y="7117"/>
                  <a:pt x="3349" y="7243"/>
                </a:cubicBezTo>
                <a:cubicBezTo>
                  <a:pt x="3349" y="7271"/>
                  <a:pt x="3351" y="7282"/>
                  <a:pt x="3373" y="72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4280" y="3786120"/>
            <a:ext cx="231840" cy="366840"/>
          </a:xfrm>
          <a:custGeom>
            <a:avLst/>
            <a:gdLst/>
            <a:ahLst/>
            <a:rect l="l" t="t" r="r" b="b"/>
            <a:pathLst>
              <a:path w="646" h="1018">
                <a:moveTo>
                  <a:pt x="3423" y="10517"/>
                </a:moveTo>
                <a:cubicBezTo>
                  <a:pt x="3431" y="10517"/>
                  <a:pt x="3440" y="10517"/>
                  <a:pt x="3448" y="10517"/>
                </a:cubicBezTo>
                <a:cubicBezTo>
                  <a:pt x="3448" y="10676"/>
                  <a:pt x="3444" y="10844"/>
                  <a:pt x="3473" y="10988"/>
                </a:cubicBezTo>
                <a:cubicBezTo>
                  <a:pt x="3485" y="11046"/>
                  <a:pt x="3487" y="11110"/>
                  <a:pt x="3522" y="11162"/>
                </a:cubicBezTo>
                <a:cubicBezTo>
                  <a:pt x="3559" y="11218"/>
                  <a:pt x="3634" y="11287"/>
                  <a:pt x="3696" y="11311"/>
                </a:cubicBezTo>
                <a:cubicBezTo>
                  <a:pt x="3729" y="11324"/>
                  <a:pt x="3762" y="11350"/>
                  <a:pt x="3795" y="11361"/>
                </a:cubicBezTo>
                <a:cubicBezTo>
                  <a:pt x="3803" y="11361"/>
                  <a:pt x="3812" y="11361"/>
                  <a:pt x="3820" y="11361"/>
                </a:cubicBezTo>
              </a:path>
              <a:path w="646" h="1018">
                <a:moveTo>
                  <a:pt x="3373" y="11261"/>
                </a:moveTo>
                <a:cubicBezTo>
                  <a:pt x="3425" y="11291"/>
                  <a:pt x="3455" y="11319"/>
                  <a:pt x="3497" y="11361"/>
                </a:cubicBezTo>
                <a:cubicBezTo>
                  <a:pt x="3537" y="11400"/>
                  <a:pt x="3581" y="11423"/>
                  <a:pt x="3621" y="11460"/>
                </a:cubicBezTo>
                <a:cubicBezTo>
                  <a:pt x="3670" y="11505"/>
                  <a:pt x="3705" y="11480"/>
                  <a:pt x="3746" y="11509"/>
                </a:cubicBezTo>
                <a:cubicBezTo>
                  <a:pt x="3773" y="11528"/>
                  <a:pt x="3799" y="11560"/>
                  <a:pt x="3820" y="11534"/>
                </a:cubicBezTo>
                <a:cubicBezTo>
                  <a:pt x="3845" y="11502"/>
                  <a:pt x="3847" y="11482"/>
                  <a:pt x="3870" y="11435"/>
                </a:cubicBezTo>
                <a:cubicBezTo>
                  <a:pt x="3887" y="11400"/>
                  <a:pt x="3946" y="11342"/>
                  <a:pt x="3969" y="11311"/>
                </a:cubicBezTo>
                <a:cubicBezTo>
                  <a:pt x="3994" y="11278"/>
                  <a:pt x="4009" y="11275"/>
                  <a:pt x="4018" y="112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nd the reference angle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4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7880" y="2820960"/>
            <a:ext cx="1484280" cy="839880"/>
          </a:xfrm>
          <a:custGeom>
            <a:avLst/>
            <a:gdLst/>
            <a:ahLst/>
            <a:rect l="l" t="t" r="r" b="b"/>
            <a:pathLst>
              <a:path w="4119" h="2333">
                <a:moveTo>
                  <a:pt x="2356" y="9029"/>
                </a:moveTo>
                <a:cubicBezTo>
                  <a:pt x="2356" y="9305"/>
                  <a:pt x="2329" y="9355"/>
                  <a:pt x="2406" y="9500"/>
                </a:cubicBezTo>
              </a:path>
              <a:path w="4119" h="2333">
                <a:moveTo>
                  <a:pt x="2580" y="9748"/>
                </a:moveTo>
                <a:cubicBezTo>
                  <a:pt x="2695" y="9771"/>
                  <a:pt x="2770" y="9801"/>
                  <a:pt x="2853" y="9699"/>
                </a:cubicBezTo>
                <a:cubicBezTo>
                  <a:pt x="2966" y="9560"/>
                  <a:pt x="2993" y="9400"/>
                  <a:pt x="3026" y="9227"/>
                </a:cubicBezTo>
                <a:cubicBezTo>
                  <a:pt x="3059" y="9052"/>
                  <a:pt x="3065" y="8876"/>
                  <a:pt x="3001" y="8706"/>
                </a:cubicBezTo>
                <a:cubicBezTo>
                  <a:pt x="2954" y="8580"/>
                  <a:pt x="2900" y="8461"/>
                  <a:pt x="2778" y="8409"/>
                </a:cubicBezTo>
                <a:cubicBezTo>
                  <a:pt x="2656" y="8357"/>
                  <a:pt x="2563" y="8393"/>
                  <a:pt x="2456" y="8458"/>
                </a:cubicBezTo>
                <a:cubicBezTo>
                  <a:pt x="2351" y="8522"/>
                  <a:pt x="2299" y="8618"/>
                  <a:pt x="2232" y="8706"/>
                </a:cubicBezTo>
                <a:cubicBezTo>
                  <a:pt x="2186" y="8753"/>
                  <a:pt x="2172" y="8765"/>
                  <a:pt x="2158" y="8806"/>
                </a:cubicBezTo>
              </a:path>
              <a:path w="4119" h="2333">
                <a:moveTo>
                  <a:pt x="1885" y="9227"/>
                </a:moveTo>
                <a:cubicBezTo>
                  <a:pt x="2102" y="9227"/>
                  <a:pt x="2315" y="9235"/>
                  <a:pt x="2530" y="9203"/>
                </a:cubicBezTo>
                <a:cubicBezTo>
                  <a:pt x="2712" y="9176"/>
                  <a:pt x="2894" y="9124"/>
                  <a:pt x="3076" y="9103"/>
                </a:cubicBezTo>
                <a:cubicBezTo>
                  <a:pt x="3158" y="9093"/>
                  <a:pt x="3224" y="9087"/>
                  <a:pt x="3299" y="9054"/>
                </a:cubicBezTo>
              </a:path>
              <a:path w="4119" h="2333">
                <a:moveTo>
                  <a:pt x="3597" y="7838"/>
                </a:moveTo>
                <a:cubicBezTo>
                  <a:pt x="3528" y="7969"/>
                  <a:pt x="3447" y="8083"/>
                  <a:pt x="3373" y="8210"/>
                </a:cubicBezTo>
                <a:cubicBezTo>
                  <a:pt x="3344" y="8260"/>
                  <a:pt x="3349" y="8279"/>
                  <a:pt x="3349" y="8334"/>
                </a:cubicBezTo>
              </a:path>
              <a:path w="4119" h="2333">
                <a:moveTo>
                  <a:pt x="3721" y="8954"/>
                </a:moveTo>
                <a:cubicBezTo>
                  <a:pt x="3782" y="9003"/>
                  <a:pt x="3816" y="9004"/>
                  <a:pt x="3894" y="9004"/>
                </a:cubicBezTo>
                <a:cubicBezTo>
                  <a:pt x="3985" y="9004"/>
                  <a:pt x="4057" y="9022"/>
                  <a:pt x="4142" y="9029"/>
                </a:cubicBezTo>
                <a:cubicBezTo>
                  <a:pt x="4150" y="9029"/>
                  <a:pt x="4159" y="9029"/>
                  <a:pt x="4167" y="9029"/>
                </a:cubicBezTo>
              </a:path>
              <a:path w="4119" h="2333">
                <a:moveTo>
                  <a:pt x="3795" y="9302"/>
                </a:moveTo>
                <a:cubicBezTo>
                  <a:pt x="3940" y="9302"/>
                  <a:pt x="4073" y="9288"/>
                  <a:pt x="4217" y="9277"/>
                </a:cubicBezTo>
                <a:cubicBezTo>
                  <a:pt x="4242" y="9277"/>
                  <a:pt x="4266" y="9277"/>
                  <a:pt x="4291" y="9277"/>
                </a:cubicBezTo>
              </a:path>
              <a:path w="4119" h="2333">
                <a:moveTo>
                  <a:pt x="4564" y="8409"/>
                </a:moveTo>
                <a:cubicBezTo>
                  <a:pt x="4696" y="8373"/>
                  <a:pt x="4798" y="8359"/>
                  <a:pt x="4936" y="8359"/>
                </a:cubicBezTo>
                <a:cubicBezTo>
                  <a:pt x="5049" y="8359"/>
                  <a:pt x="5149" y="8345"/>
                  <a:pt x="5259" y="8334"/>
                </a:cubicBezTo>
              </a:path>
              <a:path w="4119" h="2333">
                <a:moveTo>
                  <a:pt x="4837" y="8334"/>
                </a:moveTo>
                <a:cubicBezTo>
                  <a:pt x="4794" y="8490"/>
                  <a:pt x="4738" y="8624"/>
                  <a:pt x="4738" y="8781"/>
                </a:cubicBezTo>
                <a:cubicBezTo>
                  <a:pt x="4738" y="8825"/>
                  <a:pt x="4714" y="8897"/>
                  <a:pt x="4762" y="8855"/>
                </a:cubicBezTo>
                <a:cubicBezTo>
                  <a:pt x="4770" y="8847"/>
                  <a:pt x="4779" y="8838"/>
                  <a:pt x="4787" y="8830"/>
                </a:cubicBezTo>
              </a:path>
              <a:path w="4119" h="2333">
                <a:moveTo>
                  <a:pt x="5060" y="8384"/>
                </a:moveTo>
                <a:cubicBezTo>
                  <a:pt x="5084" y="8505"/>
                  <a:pt x="5086" y="8609"/>
                  <a:pt x="5060" y="8731"/>
                </a:cubicBezTo>
                <a:cubicBezTo>
                  <a:pt x="5054" y="8758"/>
                  <a:pt x="5004" y="8899"/>
                  <a:pt x="5035" y="8930"/>
                </a:cubicBezTo>
                <a:cubicBezTo>
                  <a:pt x="5063" y="8930"/>
                  <a:pt x="5074" y="8928"/>
                  <a:pt x="5085" y="8905"/>
                </a:cubicBezTo>
              </a:path>
              <a:path w="4119" h="2333">
                <a:moveTo>
                  <a:pt x="5779" y="8186"/>
                </a:moveTo>
                <a:cubicBezTo>
                  <a:pt x="5745" y="8350"/>
                  <a:pt x="5688" y="8476"/>
                  <a:pt x="5631" y="8632"/>
                </a:cubicBezTo>
                <a:cubicBezTo>
                  <a:pt x="5564" y="8815"/>
                  <a:pt x="5488" y="8999"/>
                  <a:pt x="5407" y="9178"/>
                </a:cubicBezTo>
                <a:cubicBezTo>
                  <a:pt x="5336" y="9336"/>
                  <a:pt x="5262" y="9485"/>
                  <a:pt x="5209" y="9649"/>
                </a:cubicBezTo>
                <a:cubicBezTo>
                  <a:pt x="5183" y="9728"/>
                  <a:pt x="5166" y="9810"/>
                  <a:pt x="5110" y="9872"/>
                </a:cubicBezTo>
                <a:cubicBezTo>
                  <a:pt x="5110" y="9915"/>
                  <a:pt x="5116" y="9906"/>
                  <a:pt x="5135" y="9823"/>
                </a:cubicBezTo>
              </a:path>
              <a:path w="4119" h="2333">
                <a:moveTo>
                  <a:pt x="5556" y="9327"/>
                </a:moveTo>
                <a:cubicBezTo>
                  <a:pt x="5581" y="9319"/>
                  <a:pt x="5606" y="9310"/>
                  <a:pt x="5631" y="9302"/>
                </a:cubicBezTo>
                <a:cubicBezTo>
                  <a:pt x="5620" y="9387"/>
                  <a:pt x="5588" y="9493"/>
                  <a:pt x="5556" y="9575"/>
                </a:cubicBezTo>
                <a:cubicBezTo>
                  <a:pt x="5513" y="9682"/>
                  <a:pt x="5454" y="9775"/>
                  <a:pt x="5482" y="9897"/>
                </a:cubicBezTo>
                <a:cubicBezTo>
                  <a:pt x="5502" y="9985"/>
                  <a:pt x="5610" y="9993"/>
                  <a:pt x="5680" y="9996"/>
                </a:cubicBezTo>
                <a:cubicBezTo>
                  <a:pt x="5826" y="10002"/>
                  <a:pt x="5877" y="9993"/>
                  <a:pt x="5978" y="9872"/>
                </a:cubicBezTo>
                <a:cubicBezTo>
                  <a:pt x="6023" y="9818"/>
                  <a:pt x="6015" y="9746"/>
                  <a:pt x="5978" y="9699"/>
                </a:cubicBezTo>
                <a:cubicBezTo>
                  <a:pt x="5848" y="9710"/>
                  <a:pt x="5769" y="9742"/>
                  <a:pt x="5680" y="9847"/>
                </a:cubicBezTo>
                <a:cubicBezTo>
                  <a:pt x="5632" y="9904"/>
                  <a:pt x="5598" y="10046"/>
                  <a:pt x="5631" y="10120"/>
                </a:cubicBezTo>
                <a:cubicBezTo>
                  <a:pt x="5647" y="10137"/>
                  <a:pt x="5664" y="10153"/>
                  <a:pt x="5680" y="101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87760" y="2786040"/>
            <a:ext cx="2438280" cy="1339920"/>
          </a:xfrm>
          <a:custGeom>
            <a:avLst/>
            <a:gdLst/>
            <a:ahLst/>
            <a:rect l="l" t="t" r="r" b="b"/>
            <a:pathLst>
              <a:path w="6773" h="3722">
                <a:moveTo>
                  <a:pt x="7913" y="9624"/>
                </a:moveTo>
                <a:cubicBezTo>
                  <a:pt x="7852" y="9720"/>
                  <a:pt x="7776" y="9752"/>
                  <a:pt x="7689" y="9823"/>
                </a:cubicBezTo>
                <a:cubicBezTo>
                  <a:pt x="7633" y="9868"/>
                  <a:pt x="7532" y="9914"/>
                  <a:pt x="7491" y="9971"/>
                </a:cubicBezTo>
                <a:cubicBezTo>
                  <a:pt x="7439" y="10044"/>
                  <a:pt x="7477" y="10062"/>
                  <a:pt x="7541" y="10096"/>
                </a:cubicBezTo>
                <a:cubicBezTo>
                  <a:pt x="7622" y="10138"/>
                  <a:pt x="7746" y="10148"/>
                  <a:pt x="7838" y="10170"/>
                </a:cubicBezTo>
                <a:cubicBezTo>
                  <a:pt x="7964" y="10200"/>
                  <a:pt x="8081" y="10195"/>
                  <a:pt x="8210" y="10195"/>
                </a:cubicBezTo>
              </a:path>
              <a:path w="6773" h="3722">
                <a:moveTo>
                  <a:pt x="11633" y="9723"/>
                </a:moveTo>
                <a:cubicBezTo>
                  <a:pt x="11625" y="9740"/>
                  <a:pt x="11617" y="9756"/>
                  <a:pt x="11609" y="9773"/>
                </a:cubicBezTo>
                <a:cubicBezTo>
                  <a:pt x="11655" y="9773"/>
                  <a:pt x="11677" y="9774"/>
                  <a:pt x="11683" y="9723"/>
                </a:cubicBezTo>
                <a:cubicBezTo>
                  <a:pt x="11689" y="9672"/>
                  <a:pt x="11667" y="9659"/>
                  <a:pt x="11633" y="9624"/>
                </a:cubicBezTo>
                <a:cubicBezTo>
                  <a:pt x="11587" y="9577"/>
                  <a:pt x="11552" y="9609"/>
                  <a:pt x="11509" y="9649"/>
                </a:cubicBezTo>
                <a:cubicBezTo>
                  <a:pt x="11474" y="9681"/>
                  <a:pt x="11459" y="9707"/>
                  <a:pt x="11435" y="9748"/>
                </a:cubicBezTo>
                <a:cubicBezTo>
                  <a:pt x="11474" y="9800"/>
                  <a:pt x="11479" y="9815"/>
                  <a:pt x="11559" y="9847"/>
                </a:cubicBezTo>
                <a:cubicBezTo>
                  <a:pt x="11593" y="9860"/>
                  <a:pt x="11660" y="9819"/>
                  <a:pt x="11683" y="9798"/>
                </a:cubicBezTo>
                <a:cubicBezTo>
                  <a:pt x="11710" y="9774"/>
                  <a:pt x="11723" y="9710"/>
                  <a:pt x="11708" y="9674"/>
                </a:cubicBezTo>
                <a:cubicBezTo>
                  <a:pt x="11700" y="9666"/>
                  <a:pt x="11691" y="9657"/>
                  <a:pt x="11683" y="9649"/>
                </a:cubicBezTo>
                <a:cubicBezTo>
                  <a:pt x="11645" y="9659"/>
                  <a:pt x="11615" y="9672"/>
                  <a:pt x="11584" y="9699"/>
                </a:cubicBezTo>
                <a:cubicBezTo>
                  <a:pt x="11553" y="9726"/>
                  <a:pt x="11543" y="9737"/>
                  <a:pt x="11534" y="9773"/>
                </a:cubicBezTo>
                <a:cubicBezTo>
                  <a:pt x="11573" y="9825"/>
                  <a:pt x="11558" y="9841"/>
                  <a:pt x="11633" y="9847"/>
                </a:cubicBezTo>
                <a:cubicBezTo>
                  <a:pt x="11690" y="9852"/>
                  <a:pt x="11707" y="9833"/>
                  <a:pt x="11733" y="9798"/>
                </a:cubicBezTo>
                <a:cubicBezTo>
                  <a:pt x="11771" y="9748"/>
                  <a:pt x="11767" y="9680"/>
                  <a:pt x="11733" y="9624"/>
                </a:cubicBezTo>
                <a:cubicBezTo>
                  <a:pt x="11702" y="9573"/>
                  <a:pt x="11622" y="9598"/>
                  <a:pt x="11584" y="9624"/>
                </a:cubicBezTo>
                <a:cubicBezTo>
                  <a:pt x="11557" y="9642"/>
                  <a:pt x="11532" y="9676"/>
                  <a:pt x="11509" y="9699"/>
                </a:cubicBezTo>
                <a:cubicBezTo>
                  <a:pt x="11536" y="9734"/>
                  <a:pt x="11534" y="9767"/>
                  <a:pt x="11584" y="9773"/>
                </a:cubicBezTo>
                <a:cubicBezTo>
                  <a:pt x="11592" y="9773"/>
                  <a:pt x="11601" y="9773"/>
                  <a:pt x="11609" y="9773"/>
                </a:cubicBezTo>
              </a:path>
              <a:path w="6773" h="3722">
                <a:moveTo>
                  <a:pt x="14089" y="9674"/>
                </a:moveTo>
                <a:cubicBezTo>
                  <a:pt x="14089" y="9606"/>
                  <a:pt x="14082" y="9580"/>
                  <a:pt x="14064" y="9525"/>
                </a:cubicBezTo>
                <a:cubicBezTo>
                  <a:pt x="14053" y="9491"/>
                  <a:pt x="14058" y="9456"/>
                  <a:pt x="14039" y="9426"/>
                </a:cubicBezTo>
                <a:cubicBezTo>
                  <a:pt x="14001" y="9367"/>
                  <a:pt x="13954" y="9313"/>
                  <a:pt x="13915" y="9252"/>
                </a:cubicBezTo>
              </a:path>
              <a:path w="6773" h="3722">
                <a:moveTo>
                  <a:pt x="13419" y="8830"/>
                </a:moveTo>
                <a:cubicBezTo>
                  <a:pt x="13337" y="8789"/>
                  <a:pt x="13320" y="8781"/>
                  <a:pt x="13271" y="8756"/>
                </a:cubicBezTo>
              </a:path>
              <a:path w="6773" h="3722">
                <a:moveTo>
                  <a:pt x="12179" y="8384"/>
                </a:moveTo>
                <a:cubicBezTo>
                  <a:pt x="12033" y="8368"/>
                  <a:pt x="11903" y="8359"/>
                  <a:pt x="11757" y="8359"/>
                </a:cubicBezTo>
                <a:cubicBezTo>
                  <a:pt x="11649" y="8359"/>
                  <a:pt x="11563" y="8380"/>
                  <a:pt x="11460" y="8384"/>
                </a:cubicBezTo>
                <a:cubicBezTo>
                  <a:pt x="11375" y="8387"/>
                  <a:pt x="11316" y="8421"/>
                  <a:pt x="11237" y="8434"/>
                </a:cubicBezTo>
                <a:cubicBezTo>
                  <a:pt x="11158" y="8447"/>
                  <a:pt x="11088" y="8472"/>
                  <a:pt x="11013" y="8508"/>
                </a:cubicBezTo>
                <a:cubicBezTo>
                  <a:pt x="10940" y="8543"/>
                  <a:pt x="10859" y="8567"/>
                  <a:pt x="10790" y="8607"/>
                </a:cubicBezTo>
                <a:cubicBezTo>
                  <a:pt x="10733" y="8640"/>
                  <a:pt x="10694" y="8691"/>
                  <a:pt x="10641" y="8731"/>
                </a:cubicBezTo>
                <a:cubicBezTo>
                  <a:pt x="10558" y="8794"/>
                  <a:pt x="10493" y="8856"/>
                  <a:pt x="10418" y="8930"/>
                </a:cubicBezTo>
                <a:cubicBezTo>
                  <a:pt x="10410" y="8938"/>
                  <a:pt x="10401" y="8946"/>
                  <a:pt x="10393" y="8954"/>
                </a:cubicBezTo>
              </a:path>
              <a:path w="6773" h="3722">
                <a:moveTo>
                  <a:pt x="10145" y="9351"/>
                </a:moveTo>
                <a:cubicBezTo>
                  <a:pt x="10121" y="9403"/>
                  <a:pt x="10097" y="9480"/>
                  <a:pt x="10071" y="9525"/>
                </a:cubicBezTo>
                <a:cubicBezTo>
                  <a:pt x="10064" y="9537"/>
                  <a:pt x="10035" y="9571"/>
                  <a:pt x="10021" y="9599"/>
                </a:cubicBezTo>
                <a:cubicBezTo>
                  <a:pt x="10005" y="9632"/>
                  <a:pt x="9981" y="9639"/>
                  <a:pt x="9971" y="9674"/>
                </a:cubicBezTo>
                <a:cubicBezTo>
                  <a:pt x="9964" y="9697"/>
                  <a:pt x="9978" y="9726"/>
                  <a:pt x="9971" y="9748"/>
                </a:cubicBezTo>
                <a:cubicBezTo>
                  <a:pt x="9971" y="9715"/>
                  <a:pt x="9971" y="9781"/>
                  <a:pt x="9971" y="9748"/>
                </a:cubicBezTo>
                <a:cubicBezTo>
                  <a:pt x="9971" y="9665"/>
                  <a:pt x="9971" y="9806"/>
                  <a:pt x="9971" y="9723"/>
                </a:cubicBezTo>
                <a:cubicBezTo>
                  <a:pt x="9971" y="9756"/>
                  <a:pt x="9971" y="9690"/>
                  <a:pt x="9971" y="9723"/>
                </a:cubicBezTo>
                <a:cubicBezTo>
                  <a:pt x="9971" y="9768"/>
                  <a:pt x="9971" y="9696"/>
                  <a:pt x="9971" y="9773"/>
                </a:cubicBezTo>
                <a:cubicBezTo>
                  <a:pt x="9971" y="9806"/>
                  <a:pt x="9967" y="9790"/>
                  <a:pt x="9971" y="9823"/>
                </a:cubicBezTo>
                <a:cubicBezTo>
                  <a:pt x="9977" y="9876"/>
                  <a:pt x="9988" y="9928"/>
                  <a:pt x="9996" y="9971"/>
                </a:cubicBezTo>
                <a:cubicBezTo>
                  <a:pt x="10001" y="10001"/>
                  <a:pt x="10021" y="10045"/>
                  <a:pt x="10021" y="10046"/>
                </a:cubicBezTo>
                <a:cubicBezTo>
                  <a:pt x="10033" y="10092"/>
                  <a:pt x="10031" y="10127"/>
                  <a:pt x="10046" y="10170"/>
                </a:cubicBezTo>
                <a:cubicBezTo>
                  <a:pt x="10056" y="10199"/>
                  <a:pt x="10058" y="10241"/>
                  <a:pt x="10071" y="10269"/>
                </a:cubicBezTo>
                <a:cubicBezTo>
                  <a:pt x="10088" y="10306"/>
                  <a:pt x="10105" y="10331"/>
                  <a:pt x="10120" y="10368"/>
                </a:cubicBezTo>
                <a:cubicBezTo>
                  <a:pt x="10134" y="10402"/>
                  <a:pt x="10153" y="10459"/>
                  <a:pt x="10170" y="10492"/>
                </a:cubicBezTo>
                <a:cubicBezTo>
                  <a:pt x="10186" y="10524"/>
                  <a:pt x="10203" y="10563"/>
                  <a:pt x="10220" y="10592"/>
                </a:cubicBezTo>
                <a:cubicBezTo>
                  <a:pt x="10241" y="10628"/>
                  <a:pt x="10271" y="10658"/>
                  <a:pt x="10294" y="10691"/>
                </a:cubicBezTo>
                <a:cubicBezTo>
                  <a:pt x="10326" y="10736"/>
                  <a:pt x="10335" y="10724"/>
                  <a:pt x="10368" y="10765"/>
                </a:cubicBezTo>
                <a:cubicBezTo>
                  <a:pt x="10387" y="10789"/>
                  <a:pt x="10418" y="10833"/>
                  <a:pt x="10443" y="10864"/>
                </a:cubicBezTo>
                <a:cubicBezTo>
                  <a:pt x="10479" y="10909"/>
                  <a:pt x="10535" y="10960"/>
                  <a:pt x="10567" y="10988"/>
                </a:cubicBezTo>
                <a:cubicBezTo>
                  <a:pt x="10608" y="11024"/>
                  <a:pt x="10646" y="11057"/>
                  <a:pt x="10691" y="11088"/>
                </a:cubicBezTo>
                <a:cubicBezTo>
                  <a:pt x="10741" y="11123"/>
                  <a:pt x="10759" y="11133"/>
                  <a:pt x="10815" y="11162"/>
                </a:cubicBezTo>
                <a:cubicBezTo>
                  <a:pt x="10850" y="11180"/>
                  <a:pt x="10903" y="11198"/>
                  <a:pt x="10939" y="11212"/>
                </a:cubicBezTo>
                <a:cubicBezTo>
                  <a:pt x="11005" y="11237"/>
                  <a:pt x="11071" y="11241"/>
                  <a:pt x="11137" y="11261"/>
                </a:cubicBezTo>
                <a:cubicBezTo>
                  <a:pt x="11197" y="11279"/>
                  <a:pt x="11266" y="11298"/>
                  <a:pt x="11336" y="11311"/>
                </a:cubicBezTo>
                <a:cubicBezTo>
                  <a:pt x="11393" y="11321"/>
                  <a:pt x="11465" y="11328"/>
                  <a:pt x="11534" y="11336"/>
                </a:cubicBezTo>
                <a:cubicBezTo>
                  <a:pt x="11674" y="11352"/>
                  <a:pt x="11774" y="11341"/>
                  <a:pt x="11906" y="11336"/>
                </a:cubicBezTo>
                <a:cubicBezTo>
                  <a:pt x="12009" y="11332"/>
                  <a:pt x="12104" y="11331"/>
                  <a:pt x="12204" y="11311"/>
                </a:cubicBezTo>
                <a:cubicBezTo>
                  <a:pt x="12292" y="11294"/>
                  <a:pt x="12366" y="11263"/>
                  <a:pt x="12452" y="11237"/>
                </a:cubicBezTo>
                <a:cubicBezTo>
                  <a:pt x="12533" y="11213"/>
                  <a:pt x="12596" y="11191"/>
                  <a:pt x="12675" y="11162"/>
                </a:cubicBezTo>
                <a:cubicBezTo>
                  <a:pt x="12763" y="11129"/>
                  <a:pt x="12841" y="11084"/>
                  <a:pt x="12923" y="11038"/>
                </a:cubicBezTo>
                <a:cubicBezTo>
                  <a:pt x="13025" y="10981"/>
                  <a:pt x="13100" y="10897"/>
                  <a:pt x="13196" y="10840"/>
                </a:cubicBezTo>
                <a:cubicBezTo>
                  <a:pt x="13291" y="10784"/>
                  <a:pt x="13312" y="10762"/>
                  <a:pt x="13395" y="10691"/>
                </a:cubicBezTo>
                <a:cubicBezTo>
                  <a:pt x="13478" y="10619"/>
                  <a:pt x="13563" y="10548"/>
                  <a:pt x="13643" y="10468"/>
                </a:cubicBezTo>
                <a:cubicBezTo>
                  <a:pt x="13701" y="10410"/>
                  <a:pt x="13739" y="10350"/>
                  <a:pt x="13791" y="10294"/>
                </a:cubicBezTo>
                <a:cubicBezTo>
                  <a:pt x="13869" y="10210"/>
                  <a:pt x="13938" y="10129"/>
                  <a:pt x="14015" y="10046"/>
                </a:cubicBezTo>
                <a:cubicBezTo>
                  <a:pt x="14071" y="9985"/>
                  <a:pt x="14101" y="9924"/>
                  <a:pt x="14139" y="9872"/>
                </a:cubicBezTo>
                <a:cubicBezTo>
                  <a:pt x="14156" y="9850"/>
                  <a:pt x="14211" y="9804"/>
                  <a:pt x="14213" y="9798"/>
                </a:cubicBezTo>
                <a:cubicBezTo>
                  <a:pt x="14229" y="9760"/>
                  <a:pt x="14240" y="9740"/>
                  <a:pt x="14238" y="9699"/>
                </a:cubicBezTo>
                <a:cubicBezTo>
                  <a:pt x="14236" y="9666"/>
                  <a:pt x="14221" y="9635"/>
                  <a:pt x="14213" y="9599"/>
                </a:cubicBezTo>
                <a:cubicBezTo>
                  <a:pt x="14205" y="9561"/>
                  <a:pt x="14172" y="9517"/>
                  <a:pt x="14163" y="9475"/>
                </a:cubicBezTo>
                <a:cubicBezTo>
                  <a:pt x="14155" y="9439"/>
                  <a:pt x="14153" y="9360"/>
                  <a:pt x="14139" y="9327"/>
                </a:cubicBezTo>
                <a:cubicBezTo>
                  <a:pt x="14120" y="9282"/>
                  <a:pt x="14084" y="9223"/>
                  <a:pt x="14064" y="9178"/>
                </a:cubicBezTo>
                <a:cubicBezTo>
                  <a:pt x="14006" y="9048"/>
                  <a:pt x="13931" y="8932"/>
                  <a:pt x="13866" y="8806"/>
                </a:cubicBezTo>
                <a:cubicBezTo>
                  <a:pt x="13821" y="8717"/>
                  <a:pt x="13775" y="8637"/>
                  <a:pt x="13717" y="8558"/>
                </a:cubicBezTo>
                <a:cubicBezTo>
                  <a:pt x="13658" y="8478"/>
                  <a:pt x="13586" y="8397"/>
                  <a:pt x="13519" y="8334"/>
                </a:cubicBezTo>
                <a:cubicBezTo>
                  <a:pt x="13405" y="8228"/>
                  <a:pt x="13273" y="8124"/>
                  <a:pt x="13146" y="8037"/>
                </a:cubicBezTo>
                <a:cubicBezTo>
                  <a:pt x="13079" y="7991"/>
                  <a:pt x="12976" y="7922"/>
                  <a:pt x="12898" y="7888"/>
                </a:cubicBezTo>
                <a:cubicBezTo>
                  <a:pt x="12797" y="7843"/>
                  <a:pt x="12699" y="7843"/>
                  <a:pt x="12601" y="7813"/>
                </a:cubicBezTo>
                <a:cubicBezTo>
                  <a:pt x="12501" y="7783"/>
                  <a:pt x="12431" y="7778"/>
                  <a:pt x="12328" y="7764"/>
                </a:cubicBezTo>
                <a:cubicBezTo>
                  <a:pt x="12204" y="7748"/>
                  <a:pt x="12086" y="7741"/>
                  <a:pt x="11956" y="7739"/>
                </a:cubicBezTo>
                <a:cubicBezTo>
                  <a:pt x="11846" y="7737"/>
                  <a:pt x="11740" y="7749"/>
                  <a:pt x="11633" y="7764"/>
                </a:cubicBezTo>
                <a:cubicBezTo>
                  <a:pt x="11508" y="7782"/>
                  <a:pt x="11385" y="7814"/>
                  <a:pt x="11261" y="7838"/>
                </a:cubicBezTo>
                <a:cubicBezTo>
                  <a:pt x="11158" y="7857"/>
                  <a:pt x="11065" y="7881"/>
                  <a:pt x="10964" y="7913"/>
                </a:cubicBezTo>
                <a:cubicBezTo>
                  <a:pt x="10859" y="7946"/>
                  <a:pt x="10787" y="7993"/>
                  <a:pt x="10691" y="8037"/>
                </a:cubicBezTo>
                <a:cubicBezTo>
                  <a:pt x="10603" y="8077"/>
                  <a:pt x="10525" y="8114"/>
                  <a:pt x="10443" y="8161"/>
                </a:cubicBezTo>
                <a:cubicBezTo>
                  <a:pt x="10357" y="8210"/>
                  <a:pt x="10278" y="8257"/>
                  <a:pt x="10195" y="8310"/>
                </a:cubicBezTo>
                <a:cubicBezTo>
                  <a:pt x="10101" y="8370"/>
                  <a:pt x="10034" y="8434"/>
                  <a:pt x="9947" y="8508"/>
                </a:cubicBezTo>
                <a:cubicBezTo>
                  <a:pt x="9879" y="8566"/>
                  <a:pt x="9831" y="8617"/>
                  <a:pt x="9773" y="8682"/>
                </a:cubicBezTo>
                <a:cubicBezTo>
                  <a:pt x="9716" y="8745"/>
                  <a:pt x="9675" y="8813"/>
                  <a:pt x="9624" y="8880"/>
                </a:cubicBezTo>
                <a:cubicBezTo>
                  <a:pt x="9576" y="8944"/>
                  <a:pt x="9538" y="8981"/>
                  <a:pt x="9500" y="9054"/>
                </a:cubicBezTo>
                <a:cubicBezTo>
                  <a:pt x="9470" y="9112"/>
                  <a:pt x="9450" y="9168"/>
                  <a:pt x="9426" y="9227"/>
                </a:cubicBezTo>
                <a:cubicBezTo>
                  <a:pt x="9405" y="9277"/>
                  <a:pt x="9366" y="9330"/>
                  <a:pt x="9351" y="9376"/>
                </a:cubicBezTo>
                <a:cubicBezTo>
                  <a:pt x="9339" y="9414"/>
                  <a:pt x="9336" y="9464"/>
                  <a:pt x="9327" y="9500"/>
                </a:cubicBezTo>
                <a:cubicBezTo>
                  <a:pt x="9314" y="9553"/>
                  <a:pt x="9292" y="9603"/>
                  <a:pt x="9277" y="9649"/>
                </a:cubicBezTo>
                <a:cubicBezTo>
                  <a:pt x="9268" y="9676"/>
                  <a:pt x="9261" y="9697"/>
                  <a:pt x="9252" y="9723"/>
                </a:cubicBezTo>
                <a:cubicBezTo>
                  <a:pt x="9276" y="9761"/>
                  <a:pt x="9244" y="9690"/>
                  <a:pt x="9277" y="9748"/>
                </a:cubicBezTo>
                <a:cubicBezTo>
                  <a:pt x="9295" y="9779"/>
                  <a:pt x="9285" y="9783"/>
                  <a:pt x="9302" y="9823"/>
                </a:cubicBezTo>
                <a:cubicBezTo>
                  <a:pt x="9322" y="9869"/>
                  <a:pt x="9340" y="9921"/>
                  <a:pt x="9351" y="9971"/>
                </a:cubicBezTo>
                <a:cubicBezTo>
                  <a:pt x="9360" y="10010"/>
                  <a:pt x="9364" y="10035"/>
                  <a:pt x="9376" y="10071"/>
                </a:cubicBezTo>
                <a:cubicBezTo>
                  <a:pt x="9387" y="10103"/>
                  <a:pt x="9389" y="10138"/>
                  <a:pt x="9401" y="10170"/>
                </a:cubicBezTo>
                <a:cubicBezTo>
                  <a:pt x="9419" y="10217"/>
                  <a:pt x="9442" y="10261"/>
                  <a:pt x="9451" y="10294"/>
                </a:cubicBezTo>
                <a:cubicBezTo>
                  <a:pt x="9463" y="10341"/>
                  <a:pt x="9462" y="10369"/>
                  <a:pt x="9475" y="10393"/>
                </a:cubicBezTo>
                <a:cubicBezTo>
                  <a:pt x="9513" y="10464"/>
                  <a:pt x="9456" y="10334"/>
                  <a:pt x="9475" y="10344"/>
                </a:cubicBezTo>
              </a:path>
              <a:path w="6773" h="3722">
                <a:moveTo>
                  <a:pt x="9351" y="10443"/>
                </a:moveTo>
                <a:cubicBezTo>
                  <a:pt x="9351" y="10459"/>
                  <a:pt x="9351" y="10476"/>
                  <a:pt x="9351" y="10492"/>
                </a:cubicBezTo>
                <a:cubicBezTo>
                  <a:pt x="9400" y="10480"/>
                  <a:pt x="9409" y="10445"/>
                  <a:pt x="9451" y="10418"/>
                </a:cubicBezTo>
                <a:cubicBezTo>
                  <a:pt x="9508" y="10381"/>
                  <a:pt x="9538" y="10328"/>
                  <a:pt x="9599" y="10294"/>
                </a:cubicBezTo>
                <a:cubicBezTo>
                  <a:pt x="9663" y="10258"/>
                  <a:pt x="9732" y="10228"/>
                  <a:pt x="9798" y="10195"/>
                </a:cubicBezTo>
              </a:path>
              <a:path w="6773" h="3722">
                <a:moveTo>
                  <a:pt x="11509" y="9624"/>
                </a:moveTo>
                <a:cubicBezTo>
                  <a:pt x="11517" y="9632"/>
                  <a:pt x="11526" y="9641"/>
                  <a:pt x="11534" y="9649"/>
                </a:cubicBezTo>
              </a:path>
              <a:path w="6773" h="3722">
                <a:moveTo>
                  <a:pt x="11460" y="9699"/>
                </a:moveTo>
                <a:cubicBezTo>
                  <a:pt x="11410" y="9737"/>
                  <a:pt x="11366" y="9767"/>
                  <a:pt x="11311" y="9798"/>
                </a:cubicBezTo>
                <a:cubicBezTo>
                  <a:pt x="11239" y="9838"/>
                  <a:pt x="11204" y="9884"/>
                  <a:pt x="11137" y="9922"/>
                </a:cubicBezTo>
                <a:cubicBezTo>
                  <a:pt x="11047" y="9974"/>
                  <a:pt x="10934" y="10002"/>
                  <a:pt x="10840" y="10046"/>
                </a:cubicBezTo>
                <a:cubicBezTo>
                  <a:pt x="10765" y="10081"/>
                  <a:pt x="10690" y="10111"/>
                  <a:pt x="10616" y="10145"/>
                </a:cubicBezTo>
                <a:cubicBezTo>
                  <a:pt x="10532" y="10184"/>
                  <a:pt x="10451" y="10230"/>
                  <a:pt x="10368" y="10269"/>
                </a:cubicBezTo>
                <a:cubicBezTo>
                  <a:pt x="10254" y="10323"/>
                  <a:pt x="10135" y="10366"/>
                  <a:pt x="10021" y="10418"/>
                </a:cubicBezTo>
                <a:cubicBezTo>
                  <a:pt x="9930" y="10460"/>
                  <a:pt x="9839" y="10500"/>
                  <a:pt x="9748" y="10542"/>
                </a:cubicBezTo>
                <a:cubicBezTo>
                  <a:pt x="9616" y="10603"/>
                  <a:pt x="9479" y="10663"/>
                  <a:pt x="9351" y="10716"/>
                </a:cubicBezTo>
                <a:cubicBezTo>
                  <a:pt x="9291" y="10741"/>
                  <a:pt x="9205" y="10764"/>
                  <a:pt x="9153" y="10790"/>
                </a:cubicBezTo>
                <a:cubicBezTo>
                  <a:pt x="9070" y="10831"/>
                  <a:pt x="8980" y="10887"/>
                  <a:pt x="8905" y="10939"/>
                </a:cubicBezTo>
                <a:cubicBezTo>
                  <a:pt x="8839" y="10985"/>
                  <a:pt x="8778" y="11025"/>
                  <a:pt x="8706" y="11063"/>
                </a:cubicBezTo>
                <a:cubicBezTo>
                  <a:pt x="8658" y="11088"/>
                  <a:pt x="8599" y="11113"/>
                  <a:pt x="8558" y="11137"/>
                </a:cubicBezTo>
                <a:cubicBezTo>
                  <a:pt x="8521" y="11159"/>
                  <a:pt x="8432" y="11210"/>
                  <a:pt x="8409" y="11237"/>
                </a:cubicBezTo>
                <a:cubicBezTo>
                  <a:pt x="8375" y="11276"/>
                  <a:pt x="8466" y="11201"/>
                  <a:pt x="8483" y="11187"/>
                </a:cubicBezTo>
              </a:path>
              <a:path w="6773" h="3722">
                <a:moveTo>
                  <a:pt x="9302" y="10393"/>
                </a:moveTo>
                <a:cubicBezTo>
                  <a:pt x="9341" y="10449"/>
                  <a:pt x="9365" y="10494"/>
                  <a:pt x="9401" y="10542"/>
                </a:cubicBezTo>
                <a:cubicBezTo>
                  <a:pt x="9421" y="10515"/>
                  <a:pt x="9461" y="10475"/>
                  <a:pt x="9475" y="10443"/>
                </a:cubicBezTo>
                <a:cubicBezTo>
                  <a:pt x="9493" y="10401"/>
                  <a:pt x="9534" y="10367"/>
                  <a:pt x="9550" y="10319"/>
                </a:cubicBezTo>
                <a:cubicBezTo>
                  <a:pt x="9566" y="10272"/>
                  <a:pt x="9587" y="10224"/>
                  <a:pt x="9599" y="10170"/>
                </a:cubicBezTo>
                <a:cubicBezTo>
                  <a:pt x="9608" y="10129"/>
                  <a:pt x="9637" y="10108"/>
                  <a:pt x="9649" y="10071"/>
                </a:cubicBezTo>
                <a:cubicBezTo>
                  <a:pt x="9656" y="10051"/>
                  <a:pt x="9674" y="9965"/>
                  <a:pt x="9674" y="10021"/>
                </a:cubicBezTo>
                <a:cubicBezTo>
                  <a:pt x="9674" y="10063"/>
                  <a:pt x="9664" y="10086"/>
                  <a:pt x="9649" y="10120"/>
                </a:cubicBezTo>
                <a:cubicBezTo>
                  <a:pt x="9630" y="10163"/>
                  <a:pt x="9597" y="10233"/>
                  <a:pt x="9575" y="10269"/>
                </a:cubicBezTo>
                <a:cubicBezTo>
                  <a:pt x="9550" y="10310"/>
                  <a:pt x="9535" y="10354"/>
                  <a:pt x="9500" y="10393"/>
                </a:cubicBezTo>
                <a:cubicBezTo>
                  <a:pt x="9483" y="10412"/>
                  <a:pt x="9433" y="10458"/>
                  <a:pt x="9426" y="10468"/>
                </a:cubicBezTo>
                <a:cubicBezTo>
                  <a:pt x="9410" y="10492"/>
                  <a:pt x="9396" y="10512"/>
                  <a:pt x="9351" y="10517"/>
                </a:cubicBezTo>
                <a:cubicBezTo>
                  <a:pt x="9339" y="10518"/>
                  <a:pt x="9266" y="10499"/>
                  <a:pt x="9252" y="10492"/>
                </a:cubicBezTo>
                <a:cubicBezTo>
                  <a:pt x="9219" y="10474"/>
                  <a:pt x="9190" y="10455"/>
                  <a:pt x="9178" y="10418"/>
                </a:cubicBezTo>
                <a:cubicBezTo>
                  <a:pt x="9163" y="10373"/>
                  <a:pt x="9151" y="10325"/>
                  <a:pt x="9103" y="10294"/>
                </a:cubicBezTo>
                <a:cubicBezTo>
                  <a:pt x="9069" y="10272"/>
                  <a:pt x="9040" y="10226"/>
                  <a:pt x="9004" y="10244"/>
                </a:cubicBezTo>
                <a:cubicBezTo>
                  <a:pt x="9004" y="10252"/>
                  <a:pt x="9004" y="10261"/>
                  <a:pt x="9004" y="10269"/>
                </a:cubicBezTo>
              </a:path>
              <a:path w="6773" h="3722">
                <a:moveTo>
                  <a:pt x="8508" y="10840"/>
                </a:moveTo>
                <a:cubicBezTo>
                  <a:pt x="8456" y="10917"/>
                  <a:pt x="8415" y="11015"/>
                  <a:pt x="8359" y="11088"/>
                </a:cubicBezTo>
                <a:cubicBezTo>
                  <a:pt x="8313" y="11148"/>
                  <a:pt x="8301" y="11211"/>
                  <a:pt x="8260" y="11261"/>
                </a:cubicBezTo>
                <a:cubicBezTo>
                  <a:pt x="8230" y="11298"/>
                  <a:pt x="8235" y="11313"/>
                  <a:pt x="8235" y="11361"/>
                </a:cubicBezTo>
                <a:cubicBezTo>
                  <a:pt x="8327" y="11361"/>
                  <a:pt x="8515" y="11325"/>
                  <a:pt x="8582" y="11385"/>
                </a:cubicBezTo>
                <a:cubicBezTo>
                  <a:pt x="8622" y="11421"/>
                  <a:pt x="8612" y="11426"/>
                  <a:pt x="8657" y="11460"/>
                </a:cubicBezTo>
              </a:path>
              <a:path w="6773" h="3722">
                <a:moveTo>
                  <a:pt x="8533" y="9996"/>
                </a:moveTo>
                <a:cubicBezTo>
                  <a:pt x="8554" y="10073"/>
                  <a:pt x="8566" y="10144"/>
                  <a:pt x="8582" y="10220"/>
                </a:cubicBezTo>
                <a:cubicBezTo>
                  <a:pt x="8605" y="10325"/>
                  <a:pt x="8664" y="10418"/>
                  <a:pt x="8706" y="10517"/>
                </a:cubicBezTo>
                <a:cubicBezTo>
                  <a:pt x="8742" y="10601"/>
                  <a:pt x="8740" y="10605"/>
                  <a:pt x="8806" y="10666"/>
                </a:cubicBezTo>
                <a:cubicBezTo>
                  <a:pt x="8837" y="10694"/>
                  <a:pt x="8867" y="10728"/>
                  <a:pt x="8905" y="10740"/>
                </a:cubicBezTo>
                <a:cubicBezTo>
                  <a:pt x="8913" y="10740"/>
                  <a:pt x="8922" y="10740"/>
                  <a:pt x="8930" y="10740"/>
                </a:cubicBezTo>
              </a:path>
              <a:path w="6773" h="3722">
                <a:moveTo>
                  <a:pt x="8731" y="10740"/>
                </a:moveTo>
                <a:cubicBezTo>
                  <a:pt x="8774" y="10767"/>
                  <a:pt x="8868" y="10805"/>
                  <a:pt x="8880" y="10840"/>
                </a:cubicBezTo>
                <a:cubicBezTo>
                  <a:pt x="8907" y="10831"/>
                  <a:pt x="8926" y="10822"/>
                  <a:pt x="8930" y="10790"/>
                </a:cubicBezTo>
                <a:cubicBezTo>
                  <a:pt x="8937" y="10737"/>
                  <a:pt x="8946" y="10684"/>
                  <a:pt x="8954" y="10641"/>
                </a:cubicBezTo>
                <a:cubicBezTo>
                  <a:pt x="8966" y="10580"/>
                  <a:pt x="8960" y="10586"/>
                  <a:pt x="9004" y="105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05640" y="3384720"/>
            <a:ext cx="241200" cy="330120"/>
          </a:xfrm>
          <a:custGeom>
            <a:avLst/>
            <a:gdLst/>
            <a:ahLst/>
            <a:rect l="l" t="t" r="r" b="b"/>
            <a:pathLst>
              <a:path w="671" h="919">
                <a:moveTo>
                  <a:pt x="15949" y="9426"/>
                </a:moveTo>
                <a:cubicBezTo>
                  <a:pt x="15878" y="9377"/>
                  <a:pt x="15977" y="9438"/>
                  <a:pt x="15999" y="9451"/>
                </a:cubicBezTo>
                <a:cubicBezTo>
                  <a:pt x="16106" y="9514"/>
                  <a:pt x="16219" y="9578"/>
                  <a:pt x="16321" y="9649"/>
                </a:cubicBezTo>
                <a:cubicBezTo>
                  <a:pt x="16410" y="9711"/>
                  <a:pt x="16525" y="9823"/>
                  <a:pt x="16520" y="9947"/>
                </a:cubicBezTo>
                <a:cubicBezTo>
                  <a:pt x="16515" y="10072"/>
                  <a:pt x="16351" y="10202"/>
                  <a:pt x="16247" y="10244"/>
                </a:cubicBezTo>
                <a:cubicBezTo>
                  <a:pt x="16126" y="10293"/>
                  <a:pt x="15975" y="10301"/>
                  <a:pt x="15850" y="103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20960" y="3490920"/>
            <a:ext cx="3019320" cy="81000"/>
          </a:xfrm>
          <a:custGeom>
            <a:avLst/>
            <a:gdLst/>
            <a:ahLst/>
            <a:rect l="l" t="t" r="r" b="b"/>
            <a:pathLst>
              <a:path w="8385" h="224">
                <a:moveTo>
                  <a:pt x="7838" y="9922"/>
                </a:moveTo>
                <a:cubicBezTo>
                  <a:pt x="7951" y="9894"/>
                  <a:pt x="8063" y="9866"/>
                  <a:pt x="8186" y="9847"/>
                </a:cubicBezTo>
                <a:cubicBezTo>
                  <a:pt x="8307" y="9828"/>
                  <a:pt x="8434" y="9806"/>
                  <a:pt x="8558" y="9798"/>
                </a:cubicBezTo>
                <a:cubicBezTo>
                  <a:pt x="8757" y="9785"/>
                  <a:pt x="8959" y="9830"/>
                  <a:pt x="9153" y="9823"/>
                </a:cubicBezTo>
                <a:cubicBezTo>
                  <a:pt x="9417" y="9814"/>
                  <a:pt x="9680" y="9798"/>
                  <a:pt x="9947" y="9798"/>
                </a:cubicBezTo>
                <a:cubicBezTo>
                  <a:pt x="10502" y="9798"/>
                  <a:pt x="11055" y="9778"/>
                  <a:pt x="11609" y="9773"/>
                </a:cubicBezTo>
                <a:cubicBezTo>
                  <a:pt x="12255" y="9767"/>
                  <a:pt x="12898" y="9765"/>
                  <a:pt x="13543" y="9748"/>
                </a:cubicBezTo>
                <a:cubicBezTo>
                  <a:pt x="14261" y="9729"/>
                  <a:pt x="15503" y="9983"/>
                  <a:pt x="16197" y="9723"/>
                </a:cubicBezTo>
                <a:cubicBezTo>
                  <a:pt x="16220" y="9701"/>
                  <a:pt x="16231" y="9693"/>
                  <a:pt x="16197" y="96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viewing the use of a calculator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1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33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-22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(-0.6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(-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ges 320-321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#13-17, 39-45 &amp; 65-77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t back Friday’s tes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akes must be done by next Tuesday (Oct 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616200"/>
            <a:ext cx="1419120" cy="1617840"/>
          </a:xfrm>
          <a:custGeom>
            <a:avLst/>
            <a:gdLst/>
            <a:ahLst/>
            <a:rect l="l" t="t" r="r" b="b"/>
            <a:pathLst>
              <a:path w="3944" h="4491">
                <a:moveTo>
                  <a:pt x="4539" y="10195"/>
                </a:moveTo>
                <a:cubicBezTo>
                  <a:pt x="4539" y="10282"/>
                  <a:pt x="4557" y="10364"/>
                  <a:pt x="4564" y="10443"/>
                </a:cubicBezTo>
                <a:cubicBezTo>
                  <a:pt x="4575" y="10566"/>
                  <a:pt x="4579" y="10693"/>
                  <a:pt x="4589" y="10815"/>
                </a:cubicBezTo>
                <a:cubicBezTo>
                  <a:pt x="4602" y="10982"/>
                  <a:pt x="4614" y="11142"/>
                  <a:pt x="4614" y="11311"/>
                </a:cubicBezTo>
                <a:cubicBezTo>
                  <a:pt x="4614" y="11510"/>
                  <a:pt x="4638" y="11706"/>
                  <a:pt x="4638" y="11906"/>
                </a:cubicBezTo>
                <a:cubicBezTo>
                  <a:pt x="4638" y="12130"/>
                  <a:pt x="4614" y="12351"/>
                  <a:pt x="4614" y="12576"/>
                </a:cubicBezTo>
                <a:cubicBezTo>
                  <a:pt x="4614" y="12801"/>
                  <a:pt x="4589" y="13020"/>
                  <a:pt x="4589" y="13246"/>
                </a:cubicBezTo>
                <a:cubicBezTo>
                  <a:pt x="4589" y="13483"/>
                  <a:pt x="4572" y="13732"/>
                  <a:pt x="4539" y="13965"/>
                </a:cubicBezTo>
                <a:cubicBezTo>
                  <a:pt x="4520" y="14098"/>
                  <a:pt x="4483" y="14254"/>
                  <a:pt x="4490" y="14387"/>
                </a:cubicBezTo>
                <a:cubicBezTo>
                  <a:pt x="4493" y="14438"/>
                  <a:pt x="4463" y="14530"/>
                  <a:pt x="4514" y="14536"/>
                </a:cubicBezTo>
                <a:cubicBezTo>
                  <a:pt x="4525" y="14537"/>
                  <a:pt x="4535" y="14467"/>
                  <a:pt x="4539" y="14461"/>
                </a:cubicBezTo>
              </a:path>
              <a:path w="3944" h="4491">
                <a:moveTo>
                  <a:pt x="695" y="13791"/>
                </a:moveTo>
                <a:cubicBezTo>
                  <a:pt x="715" y="13773"/>
                  <a:pt x="712" y="13747"/>
                  <a:pt x="744" y="13717"/>
                </a:cubicBezTo>
                <a:cubicBezTo>
                  <a:pt x="761" y="13702"/>
                  <a:pt x="817" y="13661"/>
                  <a:pt x="843" y="13643"/>
                </a:cubicBezTo>
                <a:cubicBezTo>
                  <a:pt x="906" y="13599"/>
                  <a:pt x="981" y="13569"/>
                  <a:pt x="1042" y="13519"/>
                </a:cubicBezTo>
                <a:cubicBezTo>
                  <a:pt x="1118" y="13457"/>
                  <a:pt x="1194" y="13387"/>
                  <a:pt x="1265" y="13320"/>
                </a:cubicBezTo>
                <a:cubicBezTo>
                  <a:pt x="1389" y="13203"/>
                  <a:pt x="1508" y="13085"/>
                  <a:pt x="1637" y="12973"/>
                </a:cubicBezTo>
                <a:cubicBezTo>
                  <a:pt x="1756" y="12870"/>
                  <a:pt x="1878" y="12768"/>
                  <a:pt x="1984" y="12650"/>
                </a:cubicBezTo>
                <a:cubicBezTo>
                  <a:pt x="2094" y="12528"/>
                  <a:pt x="2213" y="12419"/>
                  <a:pt x="2332" y="12303"/>
                </a:cubicBezTo>
                <a:cubicBezTo>
                  <a:pt x="2471" y="12167"/>
                  <a:pt x="2594" y="12020"/>
                  <a:pt x="2729" y="11881"/>
                </a:cubicBezTo>
                <a:cubicBezTo>
                  <a:pt x="2888" y="11717"/>
                  <a:pt x="3054" y="11560"/>
                  <a:pt x="3200" y="11385"/>
                </a:cubicBezTo>
                <a:cubicBezTo>
                  <a:pt x="3369" y="11182"/>
                  <a:pt x="3571" y="11007"/>
                  <a:pt x="3746" y="10815"/>
                </a:cubicBezTo>
                <a:cubicBezTo>
                  <a:pt x="3851" y="10700"/>
                  <a:pt x="3955" y="10600"/>
                  <a:pt x="4068" y="10492"/>
                </a:cubicBezTo>
                <a:cubicBezTo>
                  <a:pt x="4151" y="10413"/>
                  <a:pt x="4227" y="10322"/>
                  <a:pt x="4316" y="10244"/>
                </a:cubicBezTo>
                <a:cubicBezTo>
                  <a:pt x="4370" y="10197"/>
                  <a:pt x="4411" y="10137"/>
                  <a:pt x="4465" y="10096"/>
                </a:cubicBezTo>
                <a:cubicBezTo>
                  <a:pt x="4492" y="10076"/>
                  <a:pt x="4461" y="10087"/>
                  <a:pt x="4490" y="10071"/>
                </a:cubicBezTo>
                <a:cubicBezTo>
                  <a:pt x="4490" y="10079"/>
                  <a:pt x="4490" y="10088"/>
                  <a:pt x="4490" y="100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280" y="4822920"/>
            <a:ext cx="1517760" cy="741240"/>
          </a:xfrm>
          <a:custGeom>
            <a:avLst/>
            <a:gdLst/>
            <a:ahLst/>
            <a:rect l="l" t="t" r="r" b="b"/>
            <a:pathLst>
              <a:path w="4218" h="2059">
                <a:moveTo>
                  <a:pt x="645" y="13990"/>
                </a:moveTo>
                <a:cubicBezTo>
                  <a:pt x="716" y="14003"/>
                  <a:pt x="768" y="14013"/>
                  <a:pt x="843" y="14015"/>
                </a:cubicBezTo>
                <a:cubicBezTo>
                  <a:pt x="946" y="14018"/>
                  <a:pt x="1038" y="14036"/>
                  <a:pt x="1141" y="14039"/>
                </a:cubicBezTo>
                <a:cubicBezTo>
                  <a:pt x="1295" y="14043"/>
                  <a:pt x="1435" y="14100"/>
                  <a:pt x="1588" y="14114"/>
                </a:cubicBezTo>
                <a:cubicBezTo>
                  <a:pt x="1764" y="14130"/>
                  <a:pt x="1933" y="14157"/>
                  <a:pt x="2108" y="14188"/>
                </a:cubicBezTo>
                <a:cubicBezTo>
                  <a:pt x="2308" y="14223"/>
                  <a:pt x="2504" y="14288"/>
                  <a:pt x="2704" y="14312"/>
                </a:cubicBezTo>
                <a:cubicBezTo>
                  <a:pt x="2948" y="14341"/>
                  <a:pt x="3182" y="14367"/>
                  <a:pt x="3423" y="14412"/>
                </a:cubicBezTo>
                <a:cubicBezTo>
                  <a:pt x="3688" y="14461"/>
                  <a:pt x="3955" y="14512"/>
                  <a:pt x="4217" y="14560"/>
                </a:cubicBezTo>
                <a:cubicBezTo>
                  <a:pt x="4305" y="14576"/>
                  <a:pt x="4369" y="14606"/>
                  <a:pt x="4415" y="14560"/>
                </a:cubicBezTo>
                <a:cubicBezTo>
                  <a:pt x="4415" y="14536"/>
                  <a:pt x="4415" y="14527"/>
                  <a:pt x="4415" y="14511"/>
                </a:cubicBezTo>
              </a:path>
              <a:path w="4218" h="2059">
                <a:moveTo>
                  <a:pt x="4316" y="14015"/>
                </a:moveTo>
                <a:cubicBezTo>
                  <a:pt x="4229" y="14015"/>
                  <a:pt x="4148" y="14024"/>
                  <a:pt x="4068" y="13990"/>
                </a:cubicBezTo>
                <a:cubicBezTo>
                  <a:pt x="4006" y="13964"/>
                  <a:pt x="3927" y="13967"/>
                  <a:pt x="3870" y="13940"/>
                </a:cubicBezTo>
                <a:cubicBezTo>
                  <a:pt x="3832" y="13922"/>
                  <a:pt x="3818" y="13915"/>
                  <a:pt x="3770" y="13915"/>
                </a:cubicBezTo>
                <a:cubicBezTo>
                  <a:pt x="3782" y="13963"/>
                  <a:pt x="3811" y="14011"/>
                  <a:pt x="3820" y="14064"/>
                </a:cubicBezTo>
                <a:cubicBezTo>
                  <a:pt x="3829" y="14117"/>
                  <a:pt x="3828" y="14187"/>
                  <a:pt x="3845" y="14238"/>
                </a:cubicBezTo>
                <a:cubicBezTo>
                  <a:pt x="3862" y="14288"/>
                  <a:pt x="3900" y="14344"/>
                  <a:pt x="3845" y="14362"/>
                </a:cubicBezTo>
              </a:path>
              <a:path w="4218" h="2059">
                <a:moveTo>
                  <a:pt x="1389" y="13419"/>
                </a:moveTo>
                <a:cubicBezTo>
                  <a:pt x="1448" y="13419"/>
                  <a:pt x="1483" y="13440"/>
                  <a:pt x="1538" y="13444"/>
                </a:cubicBezTo>
                <a:cubicBezTo>
                  <a:pt x="1570" y="13446"/>
                  <a:pt x="1604" y="13444"/>
                  <a:pt x="1637" y="13444"/>
                </a:cubicBezTo>
              </a:path>
              <a:path w="4218" h="2059">
                <a:moveTo>
                  <a:pt x="1389" y="13419"/>
                </a:moveTo>
                <a:cubicBezTo>
                  <a:pt x="1330" y="13456"/>
                  <a:pt x="1290" y="13469"/>
                  <a:pt x="1290" y="13543"/>
                </a:cubicBezTo>
                <a:cubicBezTo>
                  <a:pt x="1290" y="13569"/>
                  <a:pt x="1315" y="13590"/>
                  <a:pt x="1339" y="13593"/>
                </a:cubicBezTo>
                <a:cubicBezTo>
                  <a:pt x="1397" y="13600"/>
                  <a:pt x="1378" y="13572"/>
                  <a:pt x="1439" y="13593"/>
                </a:cubicBezTo>
                <a:cubicBezTo>
                  <a:pt x="1481" y="13607"/>
                  <a:pt x="1490" y="13627"/>
                  <a:pt x="1513" y="13667"/>
                </a:cubicBezTo>
                <a:cubicBezTo>
                  <a:pt x="1547" y="13725"/>
                  <a:pt x="1538" y="13775"/>
                  <a:pt x="1538" y="13841"/>
                </a:cubicBezTo>
                <a:cubicBezTo>
                  <a:pt x="1538" y="13901"/>
                  <a:pt x="1516" y="13947"/>
                  <a:pt x="1463" y="13965"/>
                </a:cubicBezTo>
                <a:cubicBezTo>
                  <a:pt x="1419" y="13980"/>
                  <a:pt x="1370" y="13968"/>
                  <a:pt x="1339" y="13940"/>
                </a:cubicBezTo>
                <a:cubicBezTo>
                  <a:pt x="1313" y="13917"/>
                  <a:pt x="1290" y="13890"/>
                  <a:pt x="1265" y="13866"/>
                </a:cubicBezTo>
              </a:path>
              <a:path w="4218" h="2059">
                <a:moveTo>
                  <a:pt x="1761" y="13469"/>
                </a:moveTo>
                <a:cubicBezTo>
                  <a:pt x="1852" y="13469"/>
                  <a:pt x="1943" y="13469"/>
                  <a:pt x="2034" y="13469"/>
                </a:cubicBezTo>
              </a:path>
              <a:path w="4218" h="2059">
                <a:moveTo>
                  <a:pt x="1687" y="13469"/>
                </a:moveTo>
                <a:cubicBezTo>
                  <a:pt x="1683" y="13479"/>
                  <a:pt x="1638" y="13574"/>
                  <a:pt x="1662" y="13593"/>
                </a:cubicBezTo>
                <a:cubicBezTo>
                  <a:pt x="1677" y="13605"/>
                  <a:pt x="1707" y="13633"/>
                  <a:pt x="1736" y="13643"/>
                </a:cubicBezTo>
                <a:cubicBezTo>
                  <a:pt x="1775" y="13656"/>
                  <a:pt x="1824" y="13655"/>
                  <a:pt x="1860" y="13667"/>
                </a:cubicBezTo>
                <a:cubicBezTo>
                  <a:pt x="1900" y="13680"/>
                  <a:pt x="1930" y="13694"/>
                  <a:pt x="1935" y="13742"/>
                </a:cubicBezTo>
                <a:cubicBezTo>
                  <a:pt x="1943" y="13817"/>
                  <a:pt x="1957" y="13779"/>
                  <a:pt x="1935" y="13866"/>
                </a:cubicBezTo>
                <a:cubicBezTo>
                  <a:pt x="1924" y="13910"/>
                  <a:pt x="1879" y="13951"/>
                  <a:pt x="1836" y="13965"/>
                </a:cubicBezTo>
                <a:cubicBezTo>
                  <a:pt x="1791" y="13980"/>
                  <a:pt x="1769" y="13951"/>
                  <a:pt x="1736" y="13940"/>
                </a:cubicBezTo>
                <a:cubicBezTo>
                  <a:pt x="1689" y="13924"/>
                  <a:pt x="1687" y="13918"/>
                  <a:pt x="1687" y="13866"/>
                </a:cubicBezTo>
              </a:path>
              <a:path w="4218" h="2059">
                <a:moveTo>
                  <a:pt x="2034" y="13444"/>
                </a:moveTo>
                <a:cubicBezTo>
                  <a:pt x="2047" y="13535"/>
                  <a:pt x="2064" y="13537"/>
                  <a:pt x="2158" y="13543"/>
                </a:cubicBezTo>
                <a:cubicBezTo>
                  <a:pt x="2205" y="13546"/>
                  <a:pt x="2259" y="13546"/>
                  <a:pt x="2282" y="13494"/>
                </a:cubicBezTo>
                <a:cubicBezTo>
                  <a:pt x="2282" y="13469"/>
                  <a:pt x="2282" y="13461"/>
                  <a:pt x="2307" y="13469"/>
                </a:cubicBezTo>
                <a:cubicBezTo>
                  <a:pt x="2266" y="13428"/>
                  <a:pt x="2240" y="13406"/>
                  <a:pt x="2183" y="13395"/>
                </a:cubicBezTo>
              </a:path>
              <a:path w="4218" h="2059">
                <a:moveTo>
                  <a:pt x="2431" y="14511"/>
                </a:moveTo>
                <a:cubicBezTo>
                  <a:pt x="2467" y="14547"/>
                  <a:pt x="2475" y="14576"/>
                  <a:pt x="2505" y="14610"/>
                </a:cubicBezTo>
                <a:cubicBezTo>
                  <a:pt x="2549" y="14660"/>
                  <a:pt x="2592" y="14729"/>
                  <a:pt x="2629" y="14784"/>
                </a:cubicBezTo>
                <a:cubicBezTo>
                  <a:pt x="2685" y="14867"/>
                  <a:pt x="2731" y="14936"/>
                  <a:pt x="2803" y="15007"/>
                </a:cubicBezTo>
                <a:cubicBezTo>
                  <a:pt x="2859" y="15062"/>
                  <a:pt x="2908" y="15151"/>
                  <a:pt x="2977" y="15180"/>
                </a:cubicBezTo>
                <a:cubicBezTo>
                  <a:pt x="3025" y="15200"/>
                  <a:pt x="3026" y="15215"/>
                  <a:pt x="3026" y="15156"/>
                </a:cubicBezTo>
              </a:path>
              <a:path w="4218" h="2059">
                <a:moveTo>
                  <a:pt x="2927" y="14560"/>
                </a:moveTo>
                <a:cubicBezTo>
                  <a:pt x="2831" y="14560"/>
                  <a:pt x="2834" y="14593"/>
                  <a:pt x="2753" y="14635"/>
                </a:cubicBezTo>
                <a:cubicBezTo>
                  <a:pt x="2692" y="14667"/>
                  <a:pt x="2580" y="14706"/>
                  <a:pt x="2530" y="14759"/>
                </a:cubicBezTo>
                <a:cubicBezTo>
                  <a:pt x="2480" y="14812"/>
                  <a:pt x="2441" y="14838"/>
                  <a:pt x="2381" y="14883"/>
                </a:cubicBezTo>
                <a:cubicBezTo>
                  <a:pt x="2349" y="14907"/>
                  <a:pt x="2271" y="14939"/>
                  <a:pt x="2307" y="14957"/>
                </a:cubicBezTo>
                <a:cubicBezTo>
                  <a:pt x="2315" y="14957"/>
                  <a:pt x="2324" y="14957"/>
                  <a:pt x="2332" y="14957"/>
                </a:cubicBezTo>
              </a:path>
              <a:path w="4218" h="2059">
                <a:moveTo>
                  <a:pt x="571" y="15304"/>
                </a:moveTo>
                <a:cubicBezTo>
                  <a:pt x="581" y="15317"/>
                  <a:pt x="627" y="15400"/>
                  <a:pt x="595" y="15354"/>
                </a:cubicBezTo>
                <a:cubicBezTo>
                  <a:pt x="587" y="15346"/>
                  <a:pt x="579" y="15337"/>
                  <a:pt x="571" y="15329"/>
                </a:cubicBezTo>
              </a:path>
              <a:path w="4218" h="2059">
                <a:moveTo>
                  <a:pt x="298" y="14784"/>
                </a:moveTo>
                <a:cubicBezTo>
                  <a:pt x="417" y="14799"/>
                  <a:pt x="504" y="14807"/>
                  <a:pt x="571" y="14908"/>
                </a:cubicBezTo>
                <a:cubicBezTo>
                  <a:pt x="618" y="14980"/>
                  <a:pt x="598" y="15081"/>
                  <a:pt x="571" y="15156"/>
                </a:cubicBezTo>
                <a:cubicBezTo>
                  <a:pt x="546" y="15226"/>
                  <a:pt x="484" y="15310"/>
                  <a:pt x="422" y="15354"/>
                </a:cubicBezTo>
                <a:cubicBezTo>
                  <a:pt x="392" y="15375"/>
                  <a:pt x="311" y="15395"/>
                  <a:pt x="273" y="15379"/>
                </a:cubicBezTo>
                <a:cubicBezTo>
                  <a:pt x="256" y="15372"/>
                  <a:pt x="195" y="15293"/>
                  <a:pt x="198" y="15280"/>
                </a:cubicBezTo>
                <a:cubicBezTo>
                  <a:pt x="202" y="15262"/>
                  <a:pt x="236" y="15221"/>
                  <a:pt x="248" y="15205"/>
                </a:cubicBezTo>
                <a:cubicBezTo>
                  <a:pt x="287" y="15234"/>
                  <a:pt x="324" y="15255"/>
                  <a:pt x="372" y="15280"/>
                </a:cubicBezTo>
                <a:cubicBezTo>
                  <a:pt x="414" y="15302"/>
                  <a:pt x="524" y="15344"/>
                  <a:pt x="571" y="15329"/>
                </a:cubicBezTo>
                <a:cubicBezTo>
                  <a:pt x="579" y="15321"/>
                  <a:pt x="587" y="15312"/>
                  <a:pt x="595" y="15304"/>
                </a:cubicBezTo>
              </a:path>
              <a:path w="4218" h="2059">
                <a:moveTo>
                  <a:pt x="769" y="14784"/>
                </a:moveTo>
                <a:cubicBezTo>
                  <a:pt x="851" y="14759"/>
                  <a:pt x="838" y="14743"/>
                  <a:pt x="893" y="14784"/>
                </a:cubicBezTo>
                <a:cubicBezTo>
                  <a:pt x="849" y="14816"/>
                  <a:pt x="814" y="14810"/>
                  <a:pt x="769" y="14833"/>
                </a:cubicBezTo>
                <a:cubicBezTo>
                  <a:pt x="734" y="14851"/>
                  <a:pt x="682" y="14899"/>
                  <a:pt x="670" y="14932"/>
                </a:cubicBezTo>
                <a:cubicBezTo>
                  <a:pt x="649" y="14989"/>
                  <a:pt x="698" y="15082"/>
                  <a:pt x="719" y="15131"/>
                </a:cubicBezTo>
                <a:cubicBezTo>
                  <a:pt x="751" y="15205"/>
                  <a:pt x="790" y="15274"/>
                  <a:pt x="794" y="15354"/>
                </a:cubicBezTo>
                <a:cubicBezTo>
                  <a:pt x="799" y="15441"/>
                  <a:pt x="781" y="15447"/>
                  <a:pt x="695" y="15453"/>
                </a:cubicBezTo>
                <a:cubicBezTo>
                  <a:pt x="662" y="15455"/>
                  <a:pt x="632" y="15434"/>
                  <a:pt x="595" y="154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7680" y="4027320"/>
            <a:ext cx="304560" cy="393840"/>
          </a:xfrm>
          <a:custGeom>
            <a:avLst/>
            <a:gdLst/>
            <a:ahLst/>
            <a:rect l="l" t="t" r="r" b="b"/>
            <a:pathLst>
              <a:path w="844" h="1092">
                <a:moveTo>
                  <a:pt x="1463" y="11534"/>
                </a:moveTo>
                <a:cubicBezTo>
                  <a:pt x="1454" y="11573"/>
                  <a:pt x="1439" y="11589"/>
                  <a:pt x="1439" y="11633"/>
                </a:cubicBezTo>
                <a:cubicBezTo>
                  <a:pt x="1491" y="11616"/>
                  <a:pt x="1440" y="11601"/>
                  <a:pt x="1463" y="11559"/>
                </a:cubicBezTo>
                <a:cubicBezTo>
                  <a:pt x="1487" y="11515"/>
                  <a:pt x="1519" y="11509"/>
                  <a:pt x="1563" y="11509"/>
                </a:cubicBezTo>
                <a:cubicBezTo>
                  <a:pt x="1608" y="11509"/>
                  <a:pt x="1680" y="11548"/>
                  <a:pt x="1712" y="11584"/>
                </a:cubicBezTo>
                <a:cubicBezTo>
                  <a:pt x="1766" y="11644"/>
                  <a:pt x="1801" y="11755"/>
                  <a:pt x="1811" y="11832"/>
                </a:cubicBezTo>
                <a:cubicBezTo>
                  <a:pt x="1824" y="11929"/>
                  <a:pt x="1794" y="11993"/>
                  <a:pt x="1761" y="12080"/>
                </a:cubicBezTo>
                <a:cubicBezTo>
                  <a:pt x="1730" y="12161"/>
                  <a:pt x="1698" y="12244"/>
                  <a:pt x="1612" y="12278"/>
                </a:cubicBezTo>
                <a:cubicBezTo>
                  <a:pt x="1577" y="12292"/>
                  <a:pt x="1537" y="12275"/>
                  <a:pt x="1513" y="12254"/>
                </a:cubicBezTo>
                <a:cubicBezTo>
                  <a:pt x="1492" y="12236"/>
                  <a:pt x="1471" y="12184"/>
                  <a:pt x="1488" y="12154"/>
                </a:cubicBezTo>
                <a:cubicBezTo>
                  <a:pt x="1508" y="12118"/>
                  <a:pt x="1519" y="12085"/>
                  <a:pt x="1563" y="12080"/>
                </a:cubicBezTo>
                <a:cubicBezTo>
                  <a:pt x="1617" y="12074"/>
                  <a:pt x="1636" y="12092"/>
                  <a:pt x="1687" y="12105"/>
                </a:cubicBezTo>
                <a:cubicBezTo>
                  <a:pt x="1725" y="12115"/>
                  <a:pt x="1772" y="12116"/>
                  <a:pt x="1811" y="12129"/>
                </a:cubicBezTo>
                <a:cubicBezTo>
                  <a:pt x="1887" y="12155"/>
                  <a:pt x="1876" y="12162"/>
                  <a:pt x="1935" y="12105"/>
                </a:cubicBezTo>
              </a:path>
              <a:path w="844" h="1092">
                <a:moveTo>
                  <a:pt x="1960" y="11311"/>
                </a:moveTo>
                <a:cubicBezTo>
                  <a:pt x="1993" y="11288"/>
                  <a:pt x="2069" y="11205"/>
                  <a:pt x="2108" y="11187"/>
                </a:cubicBezTo>
                <a:cubicBezTo>
                  <a:pt x="2116" y="11187"/>
                  <a:pt x="2125" y="11187"/>
                  <a:pt x="2133" y="11187"/>
                </a:cubicBezTo>
              </a:path>
              <a:path w="844" h="1092">
                <a:moveTo>
                  <a:pt x="1935" y="11336"/>
                </a:moveTo>
                <a:cubicBezTo>
                  <a:pt x="1903" y="11414"/>
                  <a:pt x="1874" y="11423"/>
                  <a:pt x="1910" y="11485"/>
                </a:cubicBezTo>
                <a:cubicBezTo>
                  <a:pt x="1942" y="11540"/>
                  <a:pt x="1974" y="11552"/>
                  <a:pt x="2034" y="11584"/>
                </a:cubicBezTo>
                <a:cubicBezTo>
                  <a:pt x="2109" y="11624"/>
                  <a:pt x="2150" y="11661"/>
                  <a:pt x="2208" y="11708"/>
                </a:cubicBezTo>
                <a:cubicBezTo>
                  <a:pt x="2275" y="11762"/>
                  <a:pt x="2282" y="11770"/>
                  <a:pt x="2282" y="11857"/>
                </a:cubicBezTo>
                <a:cubicBezTo>
                  <a:pt x="2282" y="11892"/>
                  <a:pt x="2238" y="11937"/>
                  <a:pt x="2208" y="11956"/>
                </a:cubicBezTo>
                <a:cubicBezTo>
                  <a:pt x="2148" y="11995"/>
                  <a:pt x="2129" y="12005"/>
                  <a:pt x="2059" y="12005"/>
                </a:cubicBezTo>
                <a:cubicBezTo>
                  <a:pt x="2000" y="12005"/>
                  <a:pt x="2022" y="12012"/>
                  <a:pt x="1984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7120" y="5473800"/>
            <a:ext cx="1652760" cy="536400"/>
          </a:xfrm>
          <a:custGeom>
            <a:avLst/>
            <a:gdLst/>
            <a:ahLst/>
            <a:rect l="l" t="t" r="r" b="b"/>
            <a:pathLst>
              <a:path w="4590" h="1490">
                <a:moveTo>
                  <a:pt x="1488" y="15602"/>
                </a:moveTo>
                <a:cubicBezTo>
                  <a:pt x="1518" y="15572"/>
                  <a:pt x="1580" y="15520"/>
                  <a:pt x="1588" y="15478"/>
                </a:cubicBezTo>
                <a:cubicBezTo>
                  <a:pt x="1602" y="15410"/>
                  <a:pt x="1573" y="15356"/>
                  <a:pt x="1563" y="15304"/>
                </a:cubicBezTo>
                <a:cubicBezTo>
                  <a:pt x="1556" y="15269"/>
                  <a:pt x="1562" y="15219"/>
                  <a:pt x="1513" y="15205"/>
                </a:cubicBezTo>
                <a:cubicBezTo>
                  <a:pt x="1456" y="15189"/>
                  <a:pt x="1389" y="15213"/>
                  <a:pt x="1339" y="15230"/>
                </a:cubicBezTo>
                <a:cubicBezTo>
                  <a:pt x="1272" y="15254"/>
                  <a:pt x="1189" y="15299"/>
                  <a:pt x="1141" y="15354"/>
                </a:cubicBezTo>
                <a:cubicBezTo>
                  <a:pt x="1093" y="15409"/>
                  <a:pt x="1044" y="15483"/>
                  <a:pt x="1017" y="15553"/>
                </a:cubicBezTo>
                <a:cubicBezTo>
                  <a:pt x="975" y="15659"/>
                  <a:pt x="1005" y="15720"/>
                  <a:pt x="1017" y="15825"/>
                </a:cubicBezTo>
                <a:cubicBezTo>
                  <a:pt x="1026" y="15904"/>
                  <a:pt x="1075" y="16012"/>
                  <a:pt x="1141" y="16073"/>
                </a:cubicBezTo>
                <a:cubicBezTo>
                  <a:pt x="1196" y="16125"/>
                  <a:pt x="1263" y="16169"/>
                  <a:pt x="1339" y="16173"/>
                </a:cubicBezTo>
                <a:cubicBezTo>
                  <a:pt x="1404" y="16177"/>
                  <a:pt x="1435" y="16163"/>
                  <a:pt x="1488" y="16123"/>
                </a:cubicBezTo>
                <a:cubicBezTo>
                  <a:pt x="1527" y="16093"/>
                  <a:pt x="1601" y="15974"/>
                  <a:pt x="1612" y="15925"/>
                </a:cubicBezTo>
                <a:cubicBezTo>
                  <a:pt x="1623" y="15878"/>
                  <a:pt x="1617" y="15883"/>
                  <a:pt x="1637" y="15850"/>
                </a:cubicBezTo>
                <a:cubicBezTo>
                  <a:pt x="1624" y="15866"/>
                  <a:pt x="1602" y="15889"/>
                  <a:pt x="1588" y="15925"/>
                </a:cubicBezTo>
                <a:cubicBezTo>
                  <a:pt x="1558" y="16001"/>
                  <a:pt x="1576" y="16024"/>
                  <a:pt x="1588" y="16098"/>
                </a:cubicBezTo>
                <a:cubicBezTo>
                  <a:pt x="1603" y="16190"/>
                  <a:pt x="1617" y="16214"/>
                  <a:pt x="1687" y="16272"/>
                </a:cubicBezTo>
                <a:cubicBezTo>
                  <a:pt x="1716" y="16296"/>
                  <a:pt x="1771" y="16313"/>
                  <a:pt x="1811" y="16297"/>
                </a:cubicBezTo>
                <a:cubicBezTo>
                  <a:pt x="1861" y="16278"/>
                  <a:pt x="1889" y="16189"/>
                  <a:pt x="1910" y="16148"/>
                </a:cubicBezTo>
                <a:cubicBezTo>
                  <a:pt x="1943" y="16082"/>
                  <a:pt x="1935" y="16022"/>
                  <a:pt x="1935" y="15949"/>
                </a:cubicBezTo>
                <a:cubicBezTo>
                  <a:pt x="1935" y="15877"/>
                  <a:pt x="1908" y="15849"/>
                  <a:pt x="1860" y="15801"/>
                </a:cubicBezTo>
                <a:cubicBezTo>
                  <a:pt x="1820" y="15760"/>
                  <a:pt x="1800" y="15737"/>
                  <a:pt x="1736" y="15751"/>
                </a:cubicBezTo>
                <a:cubicBezTo>
                  <a:pt x="1668" y="15766"/>
                  <a:pt x="1682" y="15795"/>
                  <a:pt x="1662" y="15850"/>
                </a:cubicBezTo>
                <a:cubicBezTo>
                  <a:pt x="1634" y="15928"/>
                  <a:pt x="1661" y="15959"/>
                  <a:pt x="1687" y="16049"/>
                </a:cubicBezTo>
              </a:path>
              <a:path w="4590" h="1490">
                <a:moveTo>
                  <a:pt x="2282" y="15875"/>
                </a:moveTo>
                <a:cubicBezTo>
                  <a:pt x="2244" y="15781"/>
                  <a:pt x="2253" y="15776"/>
                  <a:pt x="2158" y="15776"/>
                </a:cubicBezTo>
                <a:cubicBezTo>
                  <a:pt x="2105" y="15776"/>
                  <a:pt x="2077" y="15771"/>
                  <a:pt x="2059" y="15825"/>
                </a:cubicBezTo>
                <a:cubicBezTo>
                  <a:pt x="2043" y="15872"/>
                  <a:pt x="2062" y="15940"/>
                  <a:pt x="2084" y="15974"/>
                </a:cubicBezTo>
                <a:cubicBezTo>
                  <a:pt x="2140" y="16059"/>
                  <a:pt x="2233" y="16189"/>
                  <a:pt x="2257" y="16297"/>
                </a:cubicBezTo>
                <a:cubicBezTo>
                  <a:pt x="2265" y="16334"/>
                  <a:pt x="2265" y="16398"/>
                  <a:pt x="2232" y="16421"/>
                </a:cubicBezTo>
                <a:cubicBezTo>
                  <a:pt x="2202" y="16442"/>
                  <a:pt x="2122" y="16462"/>
                  <a:pt x="2084" y="16446"/>
                </a:cubicBezTo>
                <a:cubicBezTo>
                  <a:pt x="2058" y="16435"/>
                  <a:pt x="1998" y="16402"/>
                  <a:pt x="1984" y="16371"/>
                </a:cubicBezTo>
                <a:cubicBezTo>
                  <a:pt x="1984" y="16346"/>
                  <a:pt x="1984" y="16338"/>
                  <a:pt x="1984" y="16321"/>
                </a:cubicBezTo>
              </a:path>
              <a:path w="4590" h="1490">
                <a:moveTo>
                  <a:pt x="2629" y="15726"/>
                </a:moveTo>
                <a:cubicBezTo>
                  <a:pt x="2693" y="15694"/>
                  <a:pt x="2731" y="15677"/>
                  <a:pt x="2803" y="15677"/>
                </a:cubicBezTo>
                <a:cubicBezTo>
                  <a:pt x="2844" y="15677"/>
                  <a:pt x="2886" y="15677"/>
                  <a:pt x="2927" y="15677"/>
                </a:cubicBezTo>
              </a:path>
              <a:path w="4590" h="1490">
                <a:moveTo>
                  <a:pt x="2555" y="15776"/>
                </a:moveTo>
                <a:cubicBezTo>
                  <a:pt x="2531" y="15803"/>
                  <a:pt x="2478" y="15851"/>
                  <a:pt x="2505" y="15900"/>
                </a:cubicBezTo>
                <a:cubicBezTo>
                  <a:pt x="2535" y="15954"/>
                  <a:pt x="2567" y="15928"/>
                  <a:pt x="2604" y="15949"/>
                </a:cubicBezTo>
                <a:cubicBezTo>
                  <a:pt x="2654" y="15977"/>
                  <a:pt x="2702" y="15985"/>
                  <a:pt x="2753" y="16024"/>
                </a:cubicBezTo>
                <a:cubicBezTo>
                  <a:pt x="2790" y="16052"/>
                  <a:pt x="2842" y="16102"/>
                  <a:pt x="2853" y="16148"/>
                </a:cubicBezTo>
                <a:cubicBezTo>
                  <a:pt x="2871" y="16222"/>
                  <a:pt x="2857" y="16330"/>
                  <a:pt x="2828" y="16396"/>
                </a:cubicBezTo>
                <a:cubicBezTo>
                  <a:pt x="2800" y="16458"/>
                  <a:pt x="2721" y="16523"/>
                  <a:pt x="2654" y="16545"/>
                </a:cubicBezTo>
                <a:cubicBezTo>
                  <a:pt x="2607" y="16561"/>
                  <a:pt x="2539" y="16550"/>
                  <a:pt x="2505" y="16520"/>
                </a:cubicBezTo>
                <a:cubicBezTo>
                  <a:pt x="2467" y="16486"/>
                  <a:pt x="2463" y="16444"/>
                  <a:pt x="2456" y="16396"/>
                </a:cubicBezTo>
              </a:path>
              <a:path w="4590" h="1490">
                <a:moveTo>
                  <a:pt x="3125" y="15825"/>
                </a:moveTo>
                <a:cubicBezTo>
                  <a:pt x="3225" y="15831"/>
                  <a:pt x="3276" y="15850"/>
                  <a:pt x="3349" y="15825"/>
                </a:cubicBezTo>
                <a:cubicBezTo>
                  <a:pt x="3357" y="15825"/>
                  <a:pt x="3365" y="15825"/>
                  <a:pt x="3373" y="15825"/>
                </a:cubicBezTo>
              </a:path>
              <a:path w="4590" h="1490">
                <a:moveTo>
                  <a:pt x="3026" y="15900"/>
                </a:moveTo>
                <a:cubicBezTo>
                  <a:pt x="2998" y="15963"/>
                  <a:pt x="3001" y="16002"/>
                  <a:pt x="3001" y="16073"/>
                </a:cubicBezTo>
                <a:cubicBezTo>
                  <a:pt x="3001" y="16125"/>
                  <a:pt x="3044" y="16120"/>
                  <a:pt x="3076" y="16148"/>
                </a:cubicBezTo>
                <a:cubicBezTo>
                  <a:pt x="3119" y="16186"/>
                  <a:pt x="3153" y="16174"/>
                  <a:pt x="3200" y="16197"/>
                </a:cubicBezTo>
                <a:cubicBezTo>
                  <a:pt x="3249" y="16221"/>
                  <a:pt x="3281" y="16255"/>
                  <a:pt x="3324" y="16297"/>
                </a:cubicBezTo>
                <a:cubicBezTo>
                  <a:pt x="3363" y="16335"/>
                  <a:pt x="3389" y="16389"/>
                  <a:pt x="3373" y="16446"/>
                </a:cubicBezTo>
                <a:cubicBezTo>
                  <a:pt x="3355" y="16510"/>
                  <a:pt x="3340" y="16564"/>
                  <a:pt x="3299" y="16619"/>
                </a:cubicBezTo>
                <a:cubicBezTo>
                  <a:pt x="3280" y="16645"/>
                  <a:pt x="3228" y="16688"/>
                  <a:pt x="3200" y="16694"/>
                </a:cubicBezTo>
                <a:cubicBezTo>
                  <a:pt x="3154" y="16704"/>
                  <a:pt x="3107" y="16672"/>
                  <a:pt x="3076" y="16644"/>
                </a:cubicBezTo>
                <a:cubicBezTo>
                  <a:pt x="3035" y="16608"/>
                  <a:pt x="3033" y="16547"/>
                  <a:pt x="3026" y="16495"/>
                </a:cubicBezTo>
              </a:path>
              <a:path w="4590" h="1490">
                <a:moveTo>
                  <a:pt x="3572" y="15701"/>
                </a:moveTo>
                <a:cubicBezTo>
                  <a:pt x="3534" y="15739"/>
                  <a:pt x="3522" y="15748"/>
                  <a:pt x="3522" y="15801"/>
                </a:cubicBezTo>
                <a:cubicBezTo>
                  <a:pt x="3522" y="15835"/>
                  <a:pt x="3581" y="15903"/>
                  <a:pt x="3621" y="15900"/>
                </a:cubicBezTo>
                <a:cubicBezTo>
                  <a:pt x="3656" y="15897"/>
                  <a:pt x="3743" y="15779"/>
                  <a:pt x="3746" y="15751"/>
                </a:cubicBezTo>
                <a:cubicBezTo>
                  <a:pt x="3752" y="15700"/>
                  <a:pt x="3687" y="15626"/>
                  <a:pt x="3646" y="15602"/>
                </a:cubicBezTo>
                <a:cubicBezTo>
                  <a:pt x="3626" y="15590"/>
                  <a:pt x="3596" y="15583"/>
                  <a:pt x="3572" y="15577"/>
                </a:cubicBezTo>
              </a:path>
              <a:path w="4590" h="1490">
                <a:moveTo>
                  <a:pt x="3696" y="16123"/>
                </a:moveTo>
                <a:cubicBezTo>
                  <a:pt x="3782" y="16145"/>
                  <a:pt x="3837" y="16173"/>
                  <a:pt x="3919" y="16173"/>
                </a:cubicBezTo>
              </a:path>
              <a:path w="4590" h="1490">
                <a:moveTo>
                  <a:pt x="3770" y="16421"/>
                </a:moveTo>
                <a:cubicBezTo>
                  <a:pt x="3876" y="16463"/>
                  <a:pt x="3898" y="16479"/>
                  <a:pt x="3969" y="16470"/>
                </a:cubicBezTo>
              </a:path>
              <a:path w="4590" h="1490">
                <a:moveTo>
                  <a:pt x="4539" y="15553"/>
                </a:moveTo>
                <a:cubicBezTo>
                  <a:pt x="4549" y="15604"/>
                  <a:pt x="4571" y="15708"/>
                  <a:pt x="4589" y="15751"/>
                </a:cubicBezTo>
                <a:cubicBezTo>
                  <a:pt x="4634" y="15859"/>
                  <a:pt x="4685" y="15969"/>
                  <a:pt x="4738" y="16073"/>
                </a:cubicBezTo>
                <a:cubicBezTo>
                  <a:pt x="4789" y="16174"/>
                  <a:pt x="4853" y="16253"/>
                  <a:pt x="4911" y="16346"/>
                </a:cubicBezTo>
              </a:path>
              <a:path w="4590" h="1490">
                <a:moveTo>
                  <a:pt x="4986" y="15478"/>
                </a:moveTo>
                <a:cubicBezTo>
                  <a:pt x="4875" y="15597"/>
                  <a:pt x="4746" y="15734"/>
                  <a:pt x="4663" y="15875"/>
                </a:cubicBezTo>
                <a:cubicBezTo>
                  <a:pt x="4603" y="15976"/>
                  <a:pt x="4560" y="16079"/>
                  <a:pt x="4490" y="16173"/>
                </a:cubicBezTo>
              </a:path>
              <a:path w="4590" h="1490">
                <a:moveTo>
                  <a:pt x="4291" y="16421"/>
                </a:moveTo>
                <a:cubicBezTo>
                  <a:pt x="4517" y="16421"/>
                  <a:pt x="4739" y="16424"/>
                  <a:pt x="4961" y="16446"/>
                </a:cubicBezTo>
                <a:cubicBezTo>
                  <a:pt x="5081" y="16458"/>
                  <a:pt x="5193" y="16436"/>
                  <a:pt x="5308" y="16421"/>
                </a:cubicBezTo>
                <a:cubicBezTo>
                  <a:pt x="5372" y="16413"/>
                  <a:pt x="5451" y="16409"/>
                  <a:pt x="5507" y="16371"/>
                </a:cubicBezTo>
                <a:cubicBezTo>
                  <a:pt x="5535" y="16352"/>
                  <a:pt x="5578" y="16318"/>
                  <a:pt x="5581" y="16297"/>
                </a:cubicBezTo>
                <a:cubicBezTo>
                  <a:pt x="5581" y="16264"/>
                  <a:pt x="5573" y="16255"/>
                  <a:pt x="5531" y="162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9960" y="5599080"/>
            <a:ext cx="1919160" cy="847800"/>
          </a:xfrm>
          <a:custGeom>
            <a:avLst/>
            <a:gdLst/>
            <a:ahLst/>
            <a:rect l="l" t="t" r="r" b="b"/>
            <a:pathLst>
              <a:path w="5334" h="2357">
                <a:moveTo>
                  <a:pt x="4787" y="16892"/>
                </a:moveTo>
                <a:cubicBezTo>
                  <a:pt x="4742" y="16949"/>
                  <a:pt x="4704" y="16982"/>
                  <a:pt x="4713" y="16991"/>
                </a:cubicBezTo>
                <a:cubicBezTo>
                  <a:pt x="4770" y="16966"/>
                  <a:pt x="4787" y="16949"/>
                  <a:pt x="4837" y="16917"/>
                </a:cubicBezTo>
                <a:cubicBezTo>
                  <a:pt x="4876" y="16892"/>
                  <a:pt x="4942" y="16871"/>
                  <a:pt x="4986" y="16867"/>
                </a:cubicBezTo>
                <a:cubicBezTo>
                  <a:pt x="5030" y="16863"/>
                  <a:pt x="5053" y="16863"/>
                  <a:pt x="5085" y="16892"/>
                </a:cubicBezTo>
                <a:cubicBezTo>
                  <a:pt x="5139" y="16940"/>
                  <a:pt x="5093" y="16959"/>
                  <a:pt x="5085" y="17016"/>
                </a:cubicBezTo>
                <a:cubicBezTo>
                  <a:pt x="5070" y="17127"/>
                  <a:pt x="5032" y="17186"/>
                  <a:pt x="4986" y="17289"/>
                </a:cubicBezTo>
                <a:cubicBezTo>
                  <a:pt x="4946" y="17380"/>
                  <a:pt x="4926" y="17460"/>
                  <a:pt x="4862" y="17537"/>
                </a:cubicBezTo>
                <a:cubicBezTo>
                  <a:pt x="4809" y="17601"/>
                  <a:pt x="4791" y="17611"/>
                  <a:pt x="4713" y="17611"/>
                </a:cubicBezTo>
                <a:cubicBezTo>
                  <a:pt x="4670" y="17611"/>
                  <a:pt x="4611" y="17601"/>
                  <a:pt x="4614" y="17537"/>
                </a:cubicBezTo>
                <a:cubicBezTo>
                  <a:pt x="4617" y="17481"/>
                  <a:pt x="4654" y="17386"/>
                  <a:pt x="4688" y="17338"/>
                </a:cubicBezTo>
                <a:cubicBezTo>
                  <a:pt x="4750" y="17250"/>
                  <a:pt x="4822" y="17296"/>
                  <a:pt x="4862" y="17363"/>
                </a:cubicBezTo>
                <a:cubicBezTo>
                  <a:pt x="4905" y="17436"/>
                  <a:pt x="4965" y="17492"/>
                  <a:pt x="5011" y="17562"/>
                </a:cubicBezTo>
                <a:cubicBezTo>
                  <a:pt x="5030" y="17591"/>
                  <a:pt x="5055" y="17667"/>
                  <a:pt x="5110" y="17636"/>
                </a:cubicBezTo>
                <a:cubicBezTo>
                  <a:pt x="5118" y="17628"/>
                  <a:pt x="5127" y="17619"/>
                  <a:pt x="5135" y="17611"/>
                </a:cubicBezTo>
              </a:path>
              <a:path w="5334" h="2357">
                <a:moveTo>
                  <a:pt x="5383" y="16917"/>
                </a:moveTo>
                <a:cubicBezTo>
                  <a:pt x="5513" y="16894"/>
                  <a:pt x="5540" y="16908"/>
                  <a:pt x="5655" y="16917"/>
                </a:cubicBezTo>
                <a:cubicBezTo>
                  <a:pt x="5686" y="16919"/>
                  <a:pt x="5685" y="16894"/>
                  <a:pt x="5705" y="16867"/>
                </a:cubicBezTo>
              </a:path>
              <a:path w="5334" h="2357">
                <a:moveTo>
                  <a:pt x="5383" y="16842"/>
                </a:moveTo>
                <a:cubicBezTo>
                  <a:pt x="5359" y="16887"/>
                  <a:pt x="5299" y="16968"/>
                  <a:pt x="5283" y="17016"/>
                </a:cubicBezTo>
                <a:cubicBezTo>
                  <a:pt x="5268" y="17062"/>
                  <a:pt x="5297" y="17082"/>
                  <a:pt x="5308" y="17115"/>
                </a:cubicBezTo>
                <a:cubicBezTo>
                  <a:pt x="5322" y="17157"/>
                  <a:pt x="5303" y="17172"/>
                  <a:pt x="5358" y="17190"/>
                </a:cubicBezTo>
                <a:cubicBezTo>
                  <a:pt x="5387" y="17200"/>
                  <a:pt x="5429" y="17212"/>
                  <a:pt x="5457" y="17214"/>
                </a:cubicBezTo>
                <a:cubicBezTo>
                  <a:pt x="5487" y="17216"/>
                  <a:pt x="5554" y="17224"/>
                  <a:pt x="5581" y="17239"/>
                </a:cubicBezTo>
                <a:cubicBezTo>
                  <a:pt x="5624" y="17263"/>
                  <a:pt x="5658" y="17322"/>
                  <a:pt x="5680" y="17363"/>
                </a:cubicBezTo>
                <a:cubicBezTo>
                  <a:pt x="5717" y="17434"/>
                  <a:pt x="5721" y="17566"/>
                  <a:pt x="5680" y="17636"/>
                </a:cubicBezTo>
                <a:cubicBezTo>
                  <a:pt x="5659" y="17672"/>
                  <a:pt x="5553" y="17727"/>
                  <a:pt x="5507" y="17735"/>
                </a:cubicBezTo>
                <a:cubicBezTo>
                  <a:pt x="5444" y="17746"/>
                  <a:pt x="5363" y="17686"/>
                  <a:pt x="5308" y="17661"/>
                </a:cubicBezTo>
                <a:cubicBezTo>
                  <a:pt x="5252" y="17632"/>
                  <a:pt x="5228" y="17621"/>
                  <a:pt x="5184" y="17611"/>
                </a:cubicBezTo>
              </a:path>
              <a:path w="5334" h="2357">
                <a:moveTo>
                  <a:pt x="5829" y="16247"/>
                </a:moveTo>
                <a:cubicBezTo>
                  <a:pt x="5866" y="16259"/>
                  <a:pt x="5884" y="16281"/>
                  <a:pt x="5854" y="16222"/>
                </a:cubicBezTo>
              </a:path>
              <a:path w="5334" h="2357">
                <a:moveTo>
                  <a:pt x="6300" y="15577"/>
                </a:moveTo>
                <a:cubicBezTo>
                  <a:pt x="6393" y="15563"/>
                  <a:pt x="6420" y="15544"/>
                  <a:pt x="6474" y="15627"/>
                </a:cubicBezTo>
                <a:cubicBezTo>
                  <a:pt x="6518" y="15695"/>
                  <a:pt x="6545" y="15770"/>
                  <a:pt x="6548" y="15850"/>
                </a:cubicBezTo>
                <a:cubicBezTo>
                  <a:pt x="6553" y="15974"/>
                  <a:pt x="6531" y="16060"/>
                  <a:pt x="6449" y="16148"/>
                </a:cubicBezTo>
                <a:cubicBezTo>
                  <a:pt x="6402" y="16199"/>
                  <a:pt x="6370" y="16218"/>
                  <a:pt x="6300" y="16222"/>
                </a:cubicBezTo>
                <a:cubicBezTo>
                  <a:pt x="6235" y="16226"/>
                  <a:pt x="6226" y="16214"/>
                  <a:pt x="6176" y="16197"/>
                </a:cubicBezTo>
                <a:cubicBezTo>
                  <a:pt x="6128" y="16181"/>
                  <a:pt x="6127" y="16176"/>
                  <a:pt x="6127" y="16123"/>
                </a:cubicBezTo>
                <a:cubicBezTo>
                  <a:pt x="6127" y="16060"/>
                  <a:pt x="6178" y="16073"/>
                  <a:pt x="6226" y="16073"/>
                </a:cubicBezTo>
                <a:cubicBezTo>
                  <a:pt x="6292" y="16073"/>
                  <a:pt x="6348" y="16108"/>
                  <a:pt x="6400" y="16148"/>
                </a:cubicBezTo>
                <a:cubicBezTo>
                  <a:pt x="6446" y="16183"/>
                  <a:pt x="6476" y="16190"/>
                  <a:pt x="6524" y="16222"/>
                </a:cubicBezTo>
                <a:cubicBezTo>
                  <a:pt x="6560" y="16247"/>
                  <a:pt x="6553" y="16247"/>
                  <a:pt x="6598" y="16247"/>
                </a:cubicBezTo>
              </a:path>
              <a:path w="5334" h="2357">
                <a:moveTo>
                  <a:pt x="6995" y="15677"/>
                </a:moveTo>
                <a:cubicBezTo>
                  <a:pt x="7111" y="15686"/>
                  <a:pt x="7088" y="15698"/>
                  <a:pt x="7169" y="15726"/>
                </a:cubicBezTo>
                <a:cubicBezTo>
                  <a:pt x="7177" y="15726"/>
                  <a:pt x="7185" y="15726"/>
                  <a:pt x="7193" y="15726"/>
                </a:cubicBezTo>
              </a:path>
              <a:path w="5334" h="2357">
                <a:moveTo>
                  <a:pt x="6896" y="15776"/>
                </a:moveTo>
                <a:cubicBezTo>
                  <a:pt x="6875" y="15824"/>
                  <a:pt x="6851" y="15873"/>
                  <a:pt x="6846" y="15925"/>
                </a:cubicBezTo>
                <a:cubicBezTo>
                  <a:pt x="6843" y="15955"/>
                  <a:pt x="6891" y="15971"/>
                  <a:pt x="6921" y="15974"/>
                </a:cubicBezTo>
                <a:cubicBezTo>
                  <a:pt x="6968" y="15979"/>
                  <a:pt x="6981" y="15986"/>
                  <a:pt x="7020" y="15999"/>
                </a:cubicBezTo>
                <a:cubicBezTo>
                  <a:pt x="7091" y="16023"/>
                  <a:pt x="7107" y="16062"/>
                  <a:pt x="7119" y="16148"/>
                </a:cubicBezTo>
                <a:cubicBezTo>
                  <a:pt x="7129" y="16220"/>
                  <a:pt x="7101" y="16355"/>
                  <a:pt x="7069" y="16421"/>
                </a:cubicBezTo>
                <a:cubicBezTo>
                  <a:pt x="7030" y="16500"/>
                  <a:pt x="6942" y="16495"/>
                  <a:pt x="6871" y="16495"/>
                </a:cubicBezTo>
                <a:cubicBezTo>
                  <a:pt x="6756" y="16495"/>
                  <a:pt x="6636" y="16449"/>
                  <a:pt x="6524" y="16421"/>
                </a:cubicBezTo>
              </a:path>
              <a:path w="5334" h="2357">
                <a:moveTo>
                  <a:pt x="1860" y="16966"/>
                </a:moveTo>
                <a:cubicBezTo>
                  <a:pt x="1915" y="17052"/>
                  <a:pt x="1966" y="17125"/>
                  <a:pt x="2009" y="17214"/>
                </a:cubicBezTo>
                <a:cubicBezTo>
                  <a:pt x="2064" y="17327"/>
                  <a:pt x="2147" y="17420"/>
                  <a:pt x="2232" y="17512"/>
                </a:cubicBezTo>
                <a:cubicBezTo>
                  <a:pt x="2272" y="17556"/>
                  <a:pt x="2302" y="17555"/>
                  <a:pt x="2356" y="17562"/>
                </a:cubicBezTo>
              </a:path>
              <a:path w="5334" h="2357">
                <a:moveTo>
                  <a:pt x="2406" y="16818"/>
                </a:moveTo>
                <a:cubicBezTo>
                  <a:pt x="2314" y="16902"/>
                  <a:pt x="2238" y="16973"/>
                  <a:pt x="2158" y="17066"/>
                </a:cubicBezTo>
                <a:cubicBezTo>
                  <a:pt x="2091" y="17144"/>
                  <a:pt x="2032" y="17222"/>
                  <a:pt x="1984" y="17314"/>
                </a:cubicBezTo>
                <a:cubicBezTo>
                  <a:pt x="1957" y="17365"/>
                  <a:pt x="1926" y="17397"/>
                  <a:pt x="1885" y="17438"/>
                </a:cubicBezTo>
              </a:path>
              <a:path w="5334" h="2357">
                <a:moveTo>
                  <a:pt x="2580" y="17239"/>
                </a:moveTo>
                <a:cubicBezTo>
                  <a:pt x="2652" y="17272"/>
                  <a:pt x="2688" y="17286"/>
                  <a:pt x="2753" y="17314"/>
                </a:cubicBezTo>
              </a:path>
              <a:path w="5334" h="2357">
                <a:moveTo>
                  <a:pt x="2580" y="17388"/>
                </a:moveTo>
                <a:cubicBezTo>
                  <a:pt x="2643" y="17451"/>
                  <a:pt x="2678" y="17518"/>
                  <a:pt x="2753" y="17487"/>
                </a:cubicBezTo>
              </a:path>
              <a:path w="5334" h="2357">
                <a:moveTo>
                  <a:pt x="3125" y="17016"/>
                </a:moveTo>
                <a:cubicBezTo>
                  <a:pt x="3125" y="17074"/>
                  <a:pt x="3119" y="17137"/>
                  <a:pt x="3101" y="17190"/>
                </a:cubicBezTo>
                <a:cubicBezTo>
                  <a:pt x="3073" y="17272"/>
                  <a:pt x="3083" y="17359"/>
                  <a:pt x="3051" y="17438"/>
                </a:cubicBezTo>
                <a:cubicBezTo>
                  <a:pt x="3034" y="17480"/>
                  <a:pt x="3014" y="17524"/>
                  <a:pt x="3001" y="17562"/>
                </a:cubicBezTo>
                <a:cubicBezTo>
                  <a:pt x="3001" y="17570"/>
                  <a:pt x="3001" y="17579"/>
                  <a:pt x="3001" y="17587"/>
                </a:cubicBezTo>
              </a:path>
              <a:path w="5334" h="2357">
                <a:moveTo>
                  <a:pt x="3324" y="17165"/>
                </a:moveTo>
                <a:cubicBezTo>
                  <a:pt x="3300" y="17197"/>
                  <a:pt x="3278" y="17250"/>
                  <a:pt x="3274" y="17289"/>
                </a:cubicBezTo>
                <a:cubicBezTo>
                  <a:pt x="3273" y="17301"/>
                  <a:pt x="3292" y="17375"/>
                  <a:pt x="3299" y="17388"/>
                </a:cubicBezTo>
                <a:cubicBezTo>
                  <a:pt x="3317" y="17421"/>
                  <a:pt x="3360" y="17495"/>
                  <a:pt x="3398" y="17512"/>
                </a:cubicBezTo>
                <a:cubicBezTo>
                  <a:pt x="3406" y="17512"/>
                  <a:pt x="3415" y="17512"/>
                  <a:pt x="3423" y="17512"/>
                </a:cubicBezTo>
              </a:path>
              <a:path w="5334" h="2357">
                <a:moveTo>
                  <a:pt x="3597" y="17066"/>
                </a:moveTo>
                <a:cubicBezTo>
                  <a:pt x="3563" y="17155"/>
                  <a:pt x="3573" y="17248"/>
                  <a:pt x="3547" y="17338"/>
                </a:cubicBezTo>
                <a:cubicBezTo>
                  <a:pt x="3527" y="17407"/>
                  <a:pt x="3494" y="17467"/>
                  <a:pt x="3473" y="17537"/>
                </a:cubicBezTo>
                <a:cubicBezTo>
                  <a:pt x="3460" y="17581"/>
                  <a:pt x="3426" y="17624"/>
                  <a:pt x="3398" y="17661"/>
                </a:cubicBezTo>
              </a:path>
              <a:path w="5334" h="2357">
                <a:moveTo>
                  <a:pt x="3572" y="17587"/>
                </a:moveTo>
                <a:cubicBezTo>
                  <a:pt x="3605" y="17587"/>
                  <a:pt x="3614" y="17579"/>
                  <a:pt x="3597" y="17537"/>
                </a:cubicBezTo>
              </a:path>
              <a:path w="5334" h="2357">
                <a:moveTo>
                  <a:pt x="3919" y="17190"/>
                </a:moveTo>
                <a:cubicBezTo>
                  <a:pt x="3981" y="17190"/>
                  <a:pt x="3993" y="17181"/>
                  <a:pt x="4018" y="17214"/>
                </a:cubicBezTo>
                <a:cubicBezTo>
                  <a:pt x="4047" y="17252"/>
                  <a:pt x="4043" y="17266"/>
                  <a:pt x="4043" y="17314"/>
                </a:cubicBezTo>
                <a:cubicBezTo>
                  <a:pt x="4043" y="17350"/>
                  <a:pt x="4000" y="17378"/>
                  <a:pt x="3969" y="17388"/>
                </a:cubicBezTo>
                <a:cubicBezTo>
                  <a:pt x="3932" y="17400"/>
                  <a:pt x="3913" y="17413"/>
                  <a:pt x="3870" y="17413"/>
                </a:cubicBezTo>
                <a:cubicBezTo>
                  <a:pt x="3862" y="17413"/>
                  <a:pt x="3853" y="17413"/>
                  <a:pt x="3845" y="17413"/>
                </a:cubicBezTo>
                <a:cubicBezTo>
                  <a:pt x="3845" y="17475"/>
                  <a:pt x="3874" y="17456"/>
                  <a:pt x="3894" y="17487"/>
                </a:cubicBezTo>
                <a:cubicBezTo>
                  <a:pt x="3908" y="17508"/>
                  <a:pt x="3953" y="17526"/>
                  <a:pt x="3969" y="17562"/>
                </a:cubicBezTo>
                <a:cubicBezTo>
                  <a:pt x="3988" y="17605"/>
                  <a:pt x="3972" y="17680"/>
                  <a:pt x="3944" y="17711"/>
                </a:cubicBezTo>
                <a:cubicBezTo>
                  <a:pt x="3901" y="17758"/>
                  <a:pt x="3883" y="17760"/>
                  <a:pt x="3820" y="17760"/>
                </a:cubicBezTo>
                <a:cubicBezTo>
                  <a:pt x="3794" y="17760"/>
                  <a:pt x="3733" y="17753"/>
                  <a:pt x="3721" y="17735"/>
                </a:cubicBezTo>
                <a:cubicBezTo>
                  <a:pt x="3721" y="17707"/>
                  <a:pt x="3718" y="17697"/>
                  <a:pt x="3696" y="17686"/>
                </a:cubicBezTo>
              </a:path>
              <a:path w="5334" h="2357">
                <a:moveTo>
                  <a:pt x="4093" y="17388"/>
                </a:moveTo>
                <a:cubicBezTo>
                  <a:pt x="4093" y="17484"/>
                  <a:pt x="4097" y="17527"/>
                  <a:pt x="4118" y="17611"/>
                </a:cubicBezTo>
                <a:cubicBezTo>
                  <a:pt x="4123" y="17632"/>
                  <a:pt x="4118" y="17664"/>
                  <a:pt x="4118" y="17686"/>
                </a:cubicBezTo>
              </a:path>
              <a:path w="5334" h="2357">
                <a:moveTo>
                  <a:pt x="4291" y="17314"/>
                </a:moveTo>
                <a:cubicBezTo>
                  <a:pt x="4291" y="17388"/>
                  <a:pt x="4268" y="17420"/>
                  <a:pt x="4242" y="17487"/>
                </a:cubicBezTo>
                <a:cubicBezTo>
                  <a:pt x="4210" y="17571"/>
                  <a:pt x="4216" y="17653"/>
                  <a:pt x="4192" y="17735"/>
                </a:cubicBezTo>
                <a:cubicBezTo>
                  <a:pt x="4175" y="17796"/>
                  <a:pt x="4167" y="17851"/>
                  <a:pt x="4142" y="17909"/>
                </a:cubicBezTo>
              </a:path>
              <a:path w="5334" h="2357">
                <a:moveTo>
                  <a:pt x="4564" y="17239"/>
                </a:moveTo>
                <a:cubicBezTo>
                  <a:pt x="4519" y="17310"/>
                  <a:pt x="4471" y="17374"/>
                  <a:pt x="4415" y="17438"/>
                </a:cubicBezTo>
              </a:path>
              <a:path w="5334" h="2357">
                <a:moveTo>
                  <a:pt x="5804" y="16669"/>
                </a:moveTo>
                <a:cubicBezTo>
                  <a:pt x="5779" y="16720"/>
                  <a:pt x="5696" y="16734"/>
                  <a:pt x="5631" y="16743"/>
                </a:cubicBezTo>
                <a:cubicBezTo>
                  <a:pt x="5545" y="16755"/>
                  <a:pt x="5438" y="16755"/>
                  <a:pt x="5358" y="16793"/>
                </a:cubicBezTo>
                <a:cubicBezTo>
                  <a:pt x="5270" y="16835"/>
                  <a:pt x="5162" y="16887"/>
                  <a:pt x="5085" y="16942"/>
                </a:cubicBezTo>
                <a:cubicBezTo>
                  <a:pt x="5018" y="16989"/>
                  <a:pt x="4962" y="17029"/>
                  <a:pt x="4887" y="17066"/>
                </a:cubicBezTo>
                <a:cubicBezTo>
                  <a:pt x="4839" y="17090"/>
                  <a:pt x="4814" y="17178"/>
                  <a:pt x="4762" y="17165"/>
                </a:cubicBezTo>
                <a:cubicBezTo>
                  <a:pt x="4762" y="17140"/>
                  <a:pt x="4762" y="17132"/>
                  <a:pt x="4787" y="17140"/>
                </a:cubicBezTo>
              </a:path>
              <a:path w="5334" h="2357">
                <a:moveTo>
                  <a:pt x="7193" y="15726"/>
                </a:moveTo>
                <a:cubicBezTo>
                  <a:pt x="7101" y="15796"/>
                  <a:pt x="7005" y="15859"/>
                  <a:pt x="6896" y="15900"/>
                </a:cubicBezTo>
                <a:cubicBezTo>
                  <a:pt x="6794" y="15938"/>
                  <a:pt x="6749" y="15972"/>
                  <a:pt x="6672" y="16049"/>
                </a:cubicBezTo>
                <a:cubicBezTo>
                  <a:pt x="6586" y="16135"/>
                  <a:pt x="6506" y="16239"/>
                  <a:pt x="6400" y="16297"/>
                </a:cubicBezTo>
                <a:cubicBezTo>
                  <a:pt x="6383" y="16305"/>
                  <a:pt x="6367" y="16313"/>
                  <a:pt x="6350" y="163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38240" y="4106880"/>
            <a:ext cx="758880" cy="501480"/>
          </a:xfrm>
          <a:custGeom>
            <a:avLst/>
            <a:gdLst/>
            <a:ahLst/>
            <a:rect l="l" t="t" r="r" b="b"/>
            <a:pathLst>
              <a:path w="2109" h="1390">
                <a:moveTo>
                  <a:pt x="5482" y="11410"/>
                </a:moveTo>
                <a:cubicBezTo>
                  <a:pt x="5482" y="11628"/>
                  <a:pt x="5471" y="11838"/>
                  <a:pt x="5457" y="12055"/>
                </a:cubicBezTo>
                <a:cubicBezTo>
                  <a:pt x="5446" y="12222"/>
                  <a:pt x="5449" y="12386"/>
                  <a:pt x="5432" y="12551"/>
                </a:cubicBezTo>
                <a:cubicBezTo>
                  <a:pt x="5426" y="12606"/>
                  <a:pt x="5420" y="12800"/>
                  <a:pt x="5432" y="12774"/>
                </a:cubicBezTo>
                <a:cubicBezTo>
                  <a:pt x="5449" y="12741"/>
                  <a:pt x="5465" y="12708"/>
                  <a:pt x="5482" y="12675"/>
                </a:cubicBezTo>
              </a:path>
              <a:path w="2109" h="1390">
                <a:moveTo>
                  <a:pt x="5904" y="11584"/>
                </a:moveTo>
                <a:cubicBezTo>
                  <a:pt x="5939" y="11691"/>
                  <a:pt x="5953" y="11769"/>
                  <a:pt x="5953" y="11881"/>
                </a:cubicBezTo>
                <a:cubicBezTo>
                  <a:pt x="5953" y="12040"/>
                  <a:pt x="5943" y="12197"/>
                  <a:pt x="5978" y="12353"/>
                </a:cubicBezTo>
                <a:cubicBezTo>
                  <a:pt x="5995" y="12431"/>
                  <a:pt x="6022" y="12498"/>
                  <a:pt x="6028" y="12576"/>
                </a:cubicBezTo>
                <a:cubicBezTo>
                  <a:pt x="6033" y="12640"/>
                  <a:pt x="6035" y="12618"/>
                  <a:pt x="6003" y="12576"/>
                </a:cubicBezTo>
              </a:path>
              <a:path w="2109" h="1390">
                <a:moveTo>
                  <a:pt x="5407" y="12154"/>
                </a:moveTo>
                <a:cubicBezTo>
                  <a:pt x="5385" y="12131"/>
                  <a:pt x="5377" y="12120"/>
                  <a:pt x="5383" y="12154"/>
                </a:cubicBezTo>
                <a:cubicBezTo>
                  <a:pt x="5477" y="12154"/>
                  <a:pt x="5566" y="12174"/>
                  <a:pt x="5655" y="12179"/>
                </a:cubicBezTo>
                <a:cubicBezTo>
                  <a:pt x="5783" y="12186"/>
                  <a:pt x="5942" y="12183"/>
                  <a:pt x="6052" y="12129"/>
                </a:cubicBezTo>
                <a:cubicBezTo>
                  <a:pt x="6105" y="12103"/>
                  <a:pt x="6144" y="12105"/>
                  <a:pt x="6201" y="12105"/>
                </a:cubicBezTo>
                <a:cubicBezTo>
                  <a:pt x="6177" y="12144"/>
                  <a:pt x="6164" y="12204"/>
                  <a:pt x="6152" y="12254"/>
                </a:cubicBezTo>
                <a:cubicBezTo>
                  <a:pt x="6141" y="12301"/>
                  <a:pt x="6150" y="12363"/>
                  <a:pt x="6176" y="12402"/>
                </a:cubicBezTo>
                <a:cubicBezTo>
                  <a:pt x="6200" y="12438"/>
                  <a:pt x="6285" y="12470"/>
                  <a:pt x="6325" y="12477"/>
                </a:cubicBezTo>
                <a:cubicBezTo>
                  <a:pt x="6378" y="12486"/>
                  <a:pt x="6420" y="12453"/>
                  <a:pt x="6424" y="12402"/>
                </a:cubicBezTo>
                <a:cubicBezTo>
                  <a:pt x="6432" y="12293"/>
                  <a:pt x="6424" y="12269"/>
                  <a:pt x="6350" y="12204"/>
                </a:cubicBezTo>
                <a:cubicBezTo>
                  <a:pt x="6300" y="12160"/>
                  <a:pt x="6241" y="12102"/>
                  <a:pt x="6176" y="12080"/>
                </a:cubicBezTo>
                <a:cubicBezTo>
                  <a:pt x="6168" y="12080"/>
                  <a:pt x="6160" y="12080"/>
                  <a:pt x="6152" y="12080"/>
                </a:cubicBezTo>
              </a:path>
              <a:path w="2109" h="1390">
                <a:moveTo>
                  <a:pt x="6449" y="12204"/>
                </a:moveTo>
                <a:cubicBezTo>
                  <a:pt x="6459" y="12313"/>
                  <a:pt x="6445" y="12425"/>
                  <a:pt x="6548" y="12477"/>
                </a:cubicBezTo>
                <a:cubicBezTo>
                  <a:pt x="6606" y="12506"/>
                  <a:pt x="6640" y="12516"/>
                  <a:pt x="6697" y="12477"/>
                </a:cubicBezTo>
                <a:cubicBezTo>
                  <a:pt x="6733" y="12453"/>
                  <a:pt x="6786" y="12396"/>
                  <a:pt x="6796" y="12353"/>
                </a:cubicBezTo>
                <a:cubicBezTo>
                  <a:pt x="6806" y="12309"/>
                  <a:pt x="6821" y="12184"/>
                  <a:pt x="6821" y="12229"/>
                </a:cubicBezTo>
                <a:cubicBezTo>
                  <a:pt x="6821" y="12292"/>
                  <a:pt x="6815" y="12343"/>
                  <a:pt x="6846" y="12402"/>
                </a:cubicBezTo>
                <a:cubicBezTo>
                  <a:pt x="6869" y="12425"/>
                  <a:pt x="6873" y="12433"/>
                  <a:pt x="6896" y="12427"/>
                </a:cubicBezTo>
              </a:path>
              <a:path w="2109" h="1390">
                <a:moveTo>
                  <a:pt x="7144" y="12105"/>
                </a:moveTo>
                <a:cubicBezTo>
                  <a:pt x="7052" y="12135"/>
                  <a:pt x="7104" y="12167"/>
                  <a:pt x="7119" y="12254"/>
                </a:cubicBezTo>
                <a:cubicBezTo>
                  <a:pt x="7134" y="12343"/>
                  <a:pt x="7119" y="12429"/>
                  <a:pt x="7094" y="12502"/>
                </a:cubicBezTo>
                <a:cubicBezTo>
                  <a:pt x="7094" y="12526"/>
                  <a:pt x="7094" y="12534"/>
                  <a:pt x="7069" y="12526"/>
                </a:cubicBezTo>
                <a:cubicBezTo>
                  <a:pt x="7054" y="12467"/>
                  <a:pt x="7044" y="12477"/>
                  <a:pt x="7094" y="12427"/>
                </a:cubicBezTo>
                <a:cubicBezTo>
                  <a:pt x="7131" y="12390"/>
                  <a:pt x="7214" y="12380"/>
                  <a:pt x="7268" y="12353"/>
                </a:cubicBezTo>
                <a:cubicBezTo>
                  <a:pt x="7326" y="12324"/>
                  <a:pt x="7422" y="12305"/>
                  <a:pt x="7466" y="12254"/>
                </a:cubicBezTo>
                <a:cubicBezTo>
                  <a:pt x="7507" y="12206"/>
                  <a:pt x="7496" y="12169"/>
                  <a:pt x="7466" y="12129"/>
                </a:cubicBezTo>
                <a:cubicBezTo>
                  <a:pt x="7379" y="12140"/>
                  <a:pt x="7345" y="12146"/>
                  <a:pt x="7293" y="12204"/>
                </a:cubicBezTo>
                <a:cubicBezTo>
                  <a:pt x="7259" y="12242"/>
                  <a:pt x="7246" y="12303"/>
                  <a:pt x="7243" y="12353"/>
                </a:cubicBezTo>
                <a:cubicBezTo>
                  <a:pt x="7243" y="12369"/>
                  <a:pt x="7243" y="12386"/>
                  <a:pt x="7243" y="124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27240" y="3875040"/>
            <a:ext cx="5518440" cy="928800"/>
          </a:xfrm>
          <a:custGeom>
            <a:avLst/>
            <a:gdLst/>
            <a:ahLst/>
            <a:rect l="l" t="t" r="r" b="b"/>
            <a:pathLst>
              <a:path w="15330" h="2581">
                <a:moveTo>
                  <a:pt x="10492" y="11237"/>
                </a:moveTo>
                <a:cubicBezTo>
                  <a:pt x="10492" y="11178"/>
                  <a:pt x="10482" y="11137"/>
                  <a:pt x="10468" y="11088"/>
                </a:cubicBezTo>
                <a:cubicBezTo>
                  <a:pt x="10457" y="11052"/>
                  <a:pt x="10447" y="11042"/>
                  <a:pt x="10418" y="11013"/>
                </a:cubicBezTo>
                <a:cubicBezTo>
                  <a:pt x="10356" y="11057"/>
                  <a:pt x="10266" y="11101"/>
                  <a:pt x="10220" y="11162"/>
                </a:cubicBezTo>
                <a:cubicBezTo>
                  <a:pt x="10164" y="11236"/>
                  <a:pt x="10132" y="11299"/>
                  <a:pt x="10096" y="11385"/>
                </a:cubicBezTo>
                <a:cubicBezTo>
                  <a:pt x="10059" y="11472"/>
                  <a:pt x="10024" y="11560"/>
                  <a:pt x="10046" y="11658"/>
                </a:cubicBezTo>
                <a:cubicBezTo>
                  <a:pt x="10061" y="11725"/>
                  <a:pt x="10105" y="11823"/>
                  <a:pt x="10145" y="11881"/>
                </a:cubicBezTo>
                <a:cubicBezTo>
                  <a:pt x="10193" y="11950"/>
                  <a:pt x="10237" y="11938"/>
                  <a:pt x="10294" y="11931"/>
                </a:cubicBezTo>
                <a:cubicBezTo>
                  <a:pt x="10346" y="11931"/>
                  <a:pt x="10364" y="11930"/>
                  <a:pt x="10393" y="11906"/>
                </a:cubicBezTo>
              </a:path>
              <a:path w="15330" h="2581">
                <a:moveTo>
                  <a:pt x="10691" y="11336"/>
                </a:moveTo>
                <a:cubicBezTo>
                  <a:pt x="10691" y="11440"/>
                  <a:pt x="10670" y="11513"/>
                  <a:pt x="10666" y="11609"/>
                </a:cubicBezTo>
                <a:cubicBezTo>
                  <a:pt x="10664" y="11662"/>
                  <a:pt x="10674" y="11772"/>
                  <a:pt x="10716" y="11807"/>
                </a:cubicBezTo>
                <a:cubicBezTo>
                  <a:pt x="10784" y="11864"/>
                  <a:pt x="10831" y="11907"/>
                  <a:pt x="10914" y="11857"/>
                </a:cubicBezTo>
                <a:cubicBezTo>
                  <a:pt x="10967" y="11825"/>
                  <a:pt x="11034" y="11764"/>
                  <a:pt x="11063" y="11708"/>
                </a:cubicBezTo>
                <a:cubicBezTo>
                  <a:pt x="11095" y="11648"/>
                  <a:pt x="11105" y="11526"/>
                  <a:pt x="11088" y="11460"/>
                </a:cubicBezTo>
                <a:cubicBezTo>
                  <a:pt x="11067" y="11381"/>
                  <a:pt x="11017" y="11360"/>
                  <a:pt x="10964" y="11311"/>
                </a:cubicBezTo>
                <a:cubicBezTo>
                  <a:pt x="10940" y="11289"/>
                  <a:pt x="10875" y="11267"/>
                  <a:pt x="10840" y="11286"/>
                </a:cubicBezTo>
                <a:cubicBezTo>
                  <a:pt x="10795" y="11312"/>
                  <a:pt x="10796" y="11320"/>
                  <a:pt x="10765" y="11361"/>
                </a:cubicBezTo>
              </a:path>
              <a:path w="15330" h="2581">
                <a:moveTo>
                  <a:pt x="11633" y="11261"/>
                </a:moveTo>
                <a:cubicBezTo>
                  <a:pt x="11606" y="11247"/>
                  <a:pt x="11534" y="11247"/>
                  <a:pt x="11485" y="11261"/>
                </a:cubicBezTo>
                <a:cubicBezTo>
                  <a:pt x="11424" y="11278"/>
                  <a:pt x="11372" y="11321"/>
                  <a:pt x="11311" y="11336"/>
                </a:cubicBezTo>
                <a:cubicBezTo>
                  <a:pt x="11267" y="11347"/>
                  <a:pt x="11282" y="11378"/>
                  <a:pt x="11311" y="11410"/>
                </a:cubicBezTo>
                <a:cubicBezTo>
                  <a:pt x="11370" y="11476"/>
                  <a:pt x="11418" y="11499"/>
                  <a:pt x="11485" y="11559"/>
                </a:cubicBezTo>
                <a:cubicBezTo>
                  <a:pt x="11550" y="11618"/>
                  <a:pt x="11603" y="11665"/>
                  <a:pt x="11609" y="11757"/>
                </a:cubicBezTo>
                <a:cubicBezTo>
                  <a:pt x="11613" y="11825"/>
                  <a:pt x="11553" y="11887"/>
                  <a:pt x="11485" y="11906"/>
                </a:cubicBezTo>
                <a:cubicBezTo>
                  <a:pt x="11404" y="11929"/>
                  <a:pt x="11365" y="11924"/>
                  <a:pt x="11286" y="11906"/>
                </a:cubicBezTo>
                <a:cubicBezTo>
                  <a:pt x="11261" y="11906"/>
                  <a:pt x="11253" y="11906"/>
                  <a:pt x="11261" y="11881"/>
                </a:cubicBezTo>
              </a:path>
              <a:path w="15330" h="2581">
                <a:moveTo>
                  <a:pt x="12005" y="11162"/>
                </a:moveTo>
                <a:cubicBezTo>
                  <a:pt x="12096" y="11162"/>
                  <a:pt x="12170" y="11151"/>
                  <a:pt x="12254" y="11137"/>
                </a:cubicBezTo>
                <a:cubicBezTo>
                  <a:pt x="12293" y="11130"/>
                  <a:pt x="12338" y="11137"/>
                  <a:pt x="12378" y="11137"/>
                </a:cubicBezTo>
                <a:cubicBezTo>
                  <a:pt x="12378" y="11093"/>
                  <a:pt x="12380" y="11098"/>
                  <a:pt x="12353" y="11063"/>
                </a:cubicBezTo>
              </a:path>
              <a:path w="15330" h="2581">
                <a:moveTo>
                  <a:pt x="11857" y="11212"/>
                </a:moveTo>
                <a:cubicBezTo>
                  <a:pt x="11834" y="11264"/>
                  <a:pt x="11832" y="11282"/>
                  <a:pt x="11832" y="11336"/>
                </a:cubicBezTo>
                <a:cubicBezTo>
                  <a:pt x="11832" y="11372"/>
                  <a:pt x="11875" y="11400"/>
                  <a:pt x="11906" y="11410"/>
                </a:cubicBezTo>
                <a:cubicBezTo>
                  <a:pt x="11947" y="11424"/>
                  <a:pt x="12019" y="11427"/>
                  <a:pt x="12055" y="11435"/>
                </a:cubicBezTo>
                <a:cubicBezTo>
                  <a:pt x="12156" y="11457"/>
                  <a:pt x="12166" y="11515"/>
                  <a:pt x="12204" y="11609"/>
                </a:cubicBezTo>
                <a:cubicBezTo>
                  <a:pt x="12235" y="11686"/>
                  <a:pt x="12238" y="11730"/>
                  <a:pt x="12204" y="11807"/>
                </a:cubicBezTo>
                <a:cubicBezTo>
                  <a:pt x="12173" y="11877"/>
                  <a:pt x="12128" y="11894"/>
                  <a:pt x="12055" y="11906"/>
                </a:cubicBezTo>
                <a:cubicBezTo>
                  <a:pt x="12016" y="11912"/>
                  <a:pt x="11940" y="11880"/>
                  <a:pt x="11906" y="11857"/>
                </a:cubicBezTo>
                <a:cubicBezTo>
                  <a:pt x="11872" y="11835"/>
                  <a:pt x="11881" y="11816"/>
                  <a:pt x="11881" y="11782"/>
                </a:cubicBezTo>
              </a:path>
              <a:path w="15330" h="2581">
                <a:moveTo>
                  <a:pt x="12526" y="11237"/>
                </a:moveTo>
                <a:cubicBezTo>
                  <a:pt x="12650" y="11237"/>
                  <a:pt x="12774" y="11237"/>
                  <a:pt x="12898" y="11237"/>
                </a:cubicBezTo>
              </a:path>
              <a:path w="15330" h="2581">
                <a:moveTo>
                  <a:pt x="12427" y="11336"/>
                </a:moveTo>
                <a:cubicBezTo>
                  <a:pt x="12408" y="11399"/>
                  <a:pt x="12402" y="11424"/>
                  <a:pt x="12402" y="11485"/>
                </a:cubicBezTo>
                <a:cubicBezTo>
                  <a:pt x="12460" y="11485"/>
                  <a:pt x="12497" y="11497"/>
                  <a:pt x="12551" y="11509"/>
                </a:cubicBezTo>
                <a:cubicBezTo>
                  <a:pt x="12616" y="11524"/>
                  <a:pt x="12624" y="11508"/>
                  <a:pt x="12675" y="11559"/>
                </a:cubicBezTo>
                <a:cubicBezTo>
                  <a:pt x="12736" y="11620"/>
                  <a:pt x="12769" y="11645"/>
                  <a:pt x="12774" y="11733"/>
                </a:cubicBezTo>
                <a:cubicBezTo>
                  <a:pt x="12779" y="11824"/>
                  <a:pt x="12713" y="11883"/>
                  <a:pt x="12626" y="11906"/>
                </a:cubicBezTo>
                <a:cubicBezTo>
                  <a:pt x="12570" y="11921"/>
                  <a:pt x="12504" y="11937"/>
                  <a:pt x="12452" y="11906"/>
                </a:cubicBezTo>
                <a:cubicBezTo>
                  <a:pt x="12398" y="11873"/>
                  <a:pt x="12402" y="11838"/>
                  <a:pt x="12402" y="11782"/>
                </a:cubicBezTo>
                <a:cubicBezTo>
                  <a:pt x="12402" y="11766"/>
                  <a:pt x="12402" y="11749"/>
                  <a:pt x="12402" y="11733"/>
                </a:cubicBezTo>
              </a:path>
              <a:path w="15330" h="2581">
                <a:moveTo>
                  <a:pt x="13022" y="11063"/>
                </a:moveTo>
                <a:cubicBezTo>
                  <a:pt x="13005" y="11120"/>
                  <a:pt x="12985" y="11162"/>
                  <a:pt x="12973" y="11212"/>
                </a:cubicBezTo>
                <a:cubicBezTo>
                  <a:pt x="13016" y="11223"/>
                  <a:pt x="13031" y="11240"/>
                  <a:pt x="13072" y="11212"/>
                </a:cubicBezTo>
                <a:cubicBezTo>
                  <a:pt x="13107" y="11189"/>
                  <a:pt x="13143" y="11184"/>
                  <a:pt x="13146" y="11137"/>
                </a:cubicBezTo>
                <a:cubicBezTo>
                  <a:pt x="13150" y="11081"/>
                  <a:pt x="13150" y="11038"/>
                  <a:pt x="13122" y="11013"/>
                </a:cubicBezTo>
                <a:cubicBezTo>
                  <a:pt x="13101" y="10995"/>
                  <a:pt x="13054" y="10970"/>
                  <a:pt x="13022" y="10988"/>
                </a:cubicBezTo>
                <a:cubicBezTo>
                  <a:pt x="13014" y="10996"/>
                  <a:pt x="13006" y="11005"/>
                  <a:pt x="12998" y="11013"/>
                </a:cubicBezTo>
              </a:path>
              <a:path w="15330" h="2581">
                <a:moveTo>
                  <a:pt x="13271" y="11485"/>
                </a:moveTo>
                <a:cubicBezTo>
                  <a:pt x="13357" y="11491"/>
                  <a:pt x="13389" y="11509"/>
                  <a:pt x="13469" y="11509"/>
                </a:cubicBezTo>
                <a:cubicBezTo>
                  <a:pt x="13477" y="11509"/>
                  <a:pt x="13486" y="11509"/>
                  <a:pt x="13494" y="11509"/>
                </a:cubicBezTo>
              </a:path>
              <a:path w="15330" h="2581">
                <a:moveTo>
                  <a:pt x="13295" y="11782"/>
                </a:moveTo>
                <a:cubicBezTo>
                  <a:pt x="13460" y="11782"/>
                  <a:pt x="13581" y="11778"/>
                  <a:pt x="13742" y="11733"/>
                </a:cubicBezTo>
              </a:path>
              <a:path w="15330" h="2581">
                <a:moveTo>
                  <a:pt x="14114" y="11286"/>
                </a:moveTo>
                <a:cubicBezTo>
                  <a:pt x="14135" y="11376"/>
                  <a:pt x="14154" y="11527"/>
                  <a:pt x="14188" y="11609"/>
                </a:cubicBezTo>
                <a:cubicBezTo>
                  <a:pt x="14223" y="11695"/>
                  <a:pt x="14283" y="11801"/>
                  <a:pt x="14362" y="11857"/>
                </a:cubicBezTo>
                <a:cubicBezTo>
                  <a:pt x="14419" y="11898"/>
                  <a:pt x="14470" y="11906"/>
                  <a:pt x="14536" y="11906"/>
                </a:cubicBezTo>
              </a:path>
              <a:path w="15330" h="2581">
                <a:moveTo>
                  <a:pt x="14412" y="11261"/>
                </a:moveTo>
                <a:cubicBezTo>
                  <a:pt x="14335" y="11354"/>
                  <a:pt x="14241" y="11455"/>
                  <a:pt x="14188" y="11559"/>
                </a:cubicBezTo>
                <a:cubicBezTo>
                  <a:pt x="14146" y="11642"/>
                  <a:pt x="14119" y="11774"/>
                  <a:pt x="14039" y="11832"/>
                </a:cubicBezTo>
                <a:cubicBezTo>
                  <a:pt x="14023" y="11840"/>
                  <a:pt x="14006" y="11849"/>
                  <a:pt x="13990" y="11857"/>
                </a:cubicBezTo>
              </a:path>
              <a:path w="15330" h="2581">
                <a:moveTo>
                  <a:pt x="13816" y="12030"/>
                </a:moveTo>
                <a:cubicBezTo>
                  <a:pt x="14097" y="12030"/>
                  <a:pt x="14379" y="12030"/>
                  <a:pt x="14660" y="12030"/>
                </a:cubicBezTo>
              </a:path>
              <a:path w="15330" h="2581">
                <a:moveTo>
                  <a:pt x="14039" y="12427"/>
                </a:moveTo>
                <a:cubicBezTo>
                  <a:pt x="13986" y="12427"/>
                  <a:pt x="14070" y="12404"/>
                  <a:pt x="14089" y="12402"/>
                </a:cubicBezTo>
                <a:cubicBezTo>
                  <a:pt x="14161" y="12394"/>
                  <a:pt x="14152" y="12483"/>
                  <a:pt x="14163" y="12526"/>
                </a:cubicBezTo>
                <a:cubicBezTo>
                  <a:pt x="14185" y="12611"/>
                  <a:pt x="14197" y="12714"/>
                  <a:pt x="14163" y="12799"/>
                </a:cubicBezTo>
                <a:cubicBezTo>
                  <a:pt x="14108" y="12935"/>
                  <a:pt x="14075" y="13036"/>
                  <a:pt x="13940" y="13047"/>
                </a:cubicBezTo>
                <a:cubicBezTo>
                  <a:pt x="13901" y="13050"/>
                  <a:pt x="13859" y="13039"/>
                  <a:pt x="13841" y="12998"/>
                </a:cubicBezTo>
                <a:cubicBezTo>
                  <a:pt x="13823" y="12958"/>
                  <a:pt x="13849" y="12927"/>
                  <a:pt x="13866" y="12898"/>
                </a:cubicBezTo>
                <a:cubicBezTo>
                  <a:pt x="13932" y="12908"/>
                  <a:pt x="13975" y="12941"/>
                  <a:pt x="14039" y="12973"/>
                </a:cubicBezTo>
                <a:cubicBezTo>
                  <a:pt x="14117" y="13012"/>
                  <a:pt x="14177" y="13022"/>
                  <a:pt x="14263" y="13022"/>
                </a:cubicBezTo>
                <a:cubicBezTo>
                  <a:pt x="14279" y="13022"/>
                  <a:pt x="14296" y="13022"/>
                  <a:pt x="14312" y="13022"/>
                </a:cubicBezTo>
              </a:path>
              <a:path w="15330" h="2581">
                <a:moveTo>
                  <a:pt x="14660" y="12452"/>
                </a:moveTo>
                <a:cubicBezTo>
                  <a:pt x="14777" y="12452"/>
                  <a:pt x="14863" y="12488"/>
                  <a:pt x="14908" y="12378"/>
                </a:cubicBezTo>
              </a:path>
              <a:path w="15330" h="2581">
                <a:moveTo>
                  <a:pt x="14486" y="12502"/>
                </a:moveTo>
                <a:cubicBezTo>
                  <a:pt x="14532" y="12630"/>
                  <a:pt x="14586" y="12676"/>
                  <a:pt x="14684" y="12774"/>
                </a:cubicBezTo>
                <a:cubicBezTo>
                  <a:pt x="14742" y="12832"/>
                  <a:pt x="14791" y="12909"/>
                  <a:pt x="14759" y="12998"/>
                </a:cubicBezTo>
                <a:cubicBezTo>
                  <a:pt x="14740" y="13050"/>
                  <a:pt x="14691" y="13093"/>
                  <a:pt x="14635" y="13097"/>
                </a:cubicBezTo>
                <a:cubicBezTo>
                  <a:pt x="14573" y="13101"/>
                  <a:pt x="14494" y="13091"/>
                  <a:pt x="14486" y="13022"/>
                </a:cubicBezTo>
                <a:cubicBezTo>
                  <a:pt x="14486" y="13014"/>
                  <a:pt x="14486" y="13006"/>
                  <a:pt x="14486" y="12998"/>
                </a:cubicBezTo>
              </a:path>
              <a:path w="15330" h="2581">
                <a:moveTo>
                  <a:pt x="17884" y="11361"/>
                </a:moveTo>
                <a:cubicBezTo>
                  <a:pt x="17884" y="11398"/>
                  <a:pt x="17877" y="11489"/>
                  <a:pt x="17909" y="11509"/>
                </a:cubicBezTo>
                <a:cubicBezTo>
                  <a:pt x="17917" y="11509"/>
                  <a:pt x="17926" y="11509"/>
                  <a:pt x="17934" y="11509"/>
                </a:cubicBezTo>
                <a:cubicBezTo>
                  <a:pt x="17923" y="11467"/>
                  <a:pt x="17913" y="11420"/>
                  <a:pt x="17884" y="11385"/>
                </a:cubicBezTo>
                <a:cubicBezTo>
                  <a:pt x="17857" y="11352"/>
                  <a:pt x="17829" y="11293"/>
                  <a:pt x="17785" y="11286"/>
                </a:cubicBezTo>
                <a:cubicBezTo>
                  <a:pt x="17692" y="11271"/>
                  <a:pt x="17625" y="11357"/>
                  <a:pt x="17587" y="11435"/>
                </a:cubicBezTo>
                <a:cubicBezTo>
                  <a:pt x="17534" y="11545"/>
                  <a:pt x="17512" y="11610"/>
                  <a:pt x="17512" y="11733"/>
                </a:cubicBezTo>
                <a:cubicBezTo>
                  <a:pt x="17512" y="11822"/>
                  <a:pt x="17536" y="11907"/>
                  <a:pt x="17587" y="11981"/>
                </a:cubicBezTo>
                <a:cubicBezTo>
                  <a:pt x="17619" y="12027"/>
                  <a:pt x="17680" y="12051"/>
                  <a:pt x="17735" y="12030"/>
                </a:cubicBezTo>
                <a:cubicBezTo>
                  <a:pt x="17778" y="12013"/>
                  <a:pt x="17825" y="11961"/>
                  <a:pt x="17859" y="11931"/>
                </a:cubicBezTo>
              </a:path>
              <a:path w="15330" h="2581">
                <a:moveTo>
                  <a:pt x="18083" y="11509"/>
                </a:moveTo>
                <a:cubicBezTo>
                  <a:pt x="18076" y="11553"/>
                  <a:pt x="18004" y="11819"/>
                  <a:pt x="18058" y="11881"/>
                </a:cubicBezTo>
                <a:cubicBezTo>
                  <a:pt x="18112" y="11943"/>
                  <a:pt x="18181" y="11956"/>
                  <a:pt x="18256" y="11956"/>
                </a:cubicBezTo>
                <a:cubicBezTo>
                  <a:pt x="18395" y="11956"/>
                  <a:pt x="18380" y="11807"/>
                  <a:pt x="18380" y="11708"/>
                </a:cubicBezTo>
                <a:cubicBezTo>
                  <a:pt x="18380" y="11632"/>
                  <a:pt x="18318" y="11571"/>
                  <a:pt x="18256" y="11534"/>
                </a:cubicBezTo>
                <a:cubicBezTo>
                  <a:pt x="18199" y="11500"/>
                  <a:pt x="18147" y="11509"/>
                  <a:pt x="18083" y="11509"/>
                </a:cubicBezTo>
                <a:cubicBezTo>
                  <a:pt x="18055" y="11509"/>
                  <a:pt x="18049" y="11507"/>
                  <a:pt x="18083" y="11485"/>
                </a:cubicBezTo>
              </a:path>
              <a:path w="15330" h="2581">
                <a:moveTo>
                  <a:pt x="18653" y="11311"/>
                </a:moveTo>
                <a:cubicBezTo>
                  <a:pt x="18569" y="11335"/>
                  <a:pt x="18496" y="11351"/>
                  <a:pt x="18430" y="11410"/>
                </a:cubicBezTo>
                <a:cubicBezTo>
                  <a:pt x="18393" y="11444"/>
                  <a:pt x="18396" y="11494"/>
                  <a:pt x="18430" y="11534"/>
                </a:cubicBezTo>
                <a:cubicBezTo>
                  <a:pt x="18511" y="11629"/>
                  <a:pt x="18615" y="11694"/>
                  <a:pt x="18703" y="11782"/>
                </a:cubicBezTo>
                <a:cubicBezTo>
                  <a:pt x="18747" y="11827"/>
                  <a:pt x="18763" y="11837"/>
                  <a:pt x="18752" y="11881"/>
                </a:cubicBezTo>
                <a:cubicBezTo>
                  <a:pt x="18738" y="11924"/>
                  <a:pt x="18682" y="11928"/>
                  <a:pt x="18628" y="11931"/>
                </a:cubicBezTo>
                <a:cubicBezTo>
                  <a:pt x="18573" y="11934"/>
                  <a:pt x="18501" y="11934"/>
                  <a:pt x="18455" y="11906"/>
                </a:cubicBezTo>
                <a:cubicBezTo>
                  <a:pt x="18433" y="11884"/>
                  <a:pt x="18424" y="11879"/>
                  <a:pt x="18430" y="11857"/>
                </a:cubicBezTo>
              </a:path>
              <a:path w="15330" h="2581">
                <a:moveTo>
                  <a:pt x="19075" y="11261"/>
                </a:moveTo>
                <a:cubicBezTo>
                  <a:pt x="19157" y="11221"/>
                  <a:pt x="19206" y="11212"/>
                  <a:pt x="19298" y="11212"/>
                </a:cubicBezTo>
                <a:cubicBezTo>
                  <a:pt x="19355" y="11212"/>
                  <a:pt x="19456" y="11236"/>
                  <a:pt x="19472" y="11187"/>
                </a:cubicBezTo>
              </a:path>
              <a:path w="15330" h="2581">
                <a:moveTo>
                  <a:pt x="19075" y="11336"/>
                </a:moveTo>
                <a:cubicBezTo>
                  <a:pt x="19039" y="11377"/>
                  <a:pt x="18987" y="11428"/>
                  <a:pt x="19050" y="11485"/>
                </a:cubicBezTo>
                <a:cubicBezTo>
                  <a:pt x="19124" y="11552"/>
                  <a:pt x="19249" y="11559"/>
                  <a:pt x="19323" y="11633"/>
                </a:cubicBezTo>
                <a:cubicBezTo>
                  <a:pt x="19375" y="11686"/>
                  <a:pt x="19482" y="11803"/>
                  <a:pt x="19472" y="11881"/>
                </a:cubicBezTo>
                <a:cubicBezTo>
                  <a:pt x="19458" y="11991"/>
                  <a:pt x="19370" y="12035"/>
                  <a:pt x="19273" y="12055"/>
                </a:cubicBezTo>
                <a:cubicBezTo>
                  <a:pt x="19203" y="12070"/>
                  <a:pt x="19150" y="12050"/>
                  <a:pt x="19100" y="12005"/>
                </a:cubicBezTo>
                <a:cubicBezTo>
                  <a:pt x="19071" y="11977"/>
                  <a:pt x="19063" y="11964"/>
                  <a:pt x="19075" y="11931"/>
                </a:cubicBezTo>
              </a:path>
              <a:path w="15330" h="2581">
                <a:moveTo>
                  <a:pt x="19645" y="11509"/>
                </a:moveTo>
                <a:cubicBezTo>
                  <a:pt x="19619" y="11649"/>
                  <a:pt x="19514" y="11815"/>
                  <a:pt x="19596" y="11931"/>
                </a:cubicBezTo>
                <a:cubicBezTo>
                  <a:pt x="19629" y="11978"/>
                  <a:pt x="19696" y="11981"/>
                  <a:pt x="19745" y="11981"/>
                </a:cubicBezTo>
                <a:cubicBezTo>
                  <a:pt x="19802" y="11981"/>
                  <a:pt x="19855" y="11938"/>
                  <a:pt x="19869" y="11881"/>
                </a:cubicBezTo>
                <a:cubicBezTo>
                  <a:pt x="19894" y="11775"/>
                  <a:pt x="19867" y="11688"/>
                  <a:pt x="19819" y="11609"/>
                </a:cubicBezTo>
                <a:cubicBezTo>
                  <a:pt x="19776" y="11539"/>
                  <a:pt x="19706" y="11497"/>
                  <a:pt x="19645" y="11435"/>
                </a:cubicBezTo>
                <a:cubicBezTo>
                  <a:pt x="19637" y="11427"/>
                  <a:pt x="19629" y="11418"/>
                  <a:pt x="19621" y="11410"/>
                </a:cubicBezTo>
              </a:path>
              <a:path w="15330" h="2581">
                <a:moveTo>
                  <a:pt x="20216" y="11509"/>
                </a:moveTo>
                <a:cubicBezTo>
                  <a:pt x="20301" y="11526"/>
                  <a:pt x="20382" y="11543"/>
                  <a:pt x="20464" y="11559"/>
                </a:cubicBezTo>
              </a:path>
              <a:path w="15330" h="2581">
                <a:moveTo>
                  <a:pt x="20216" y="11757"/>
                </a:moveTo>
                <a:cubicBezTo>
                  <a:pt x="20322" y="11776"/>
                  <a:pt x="20406" y="11782"/>
                  <a:pt x="20513" y="11782"/>
                </a:cubicBezTo>
                <a:cubicBezTo>
                  <a:pt x="20573" y="11782"/>
                  <a:pt x="20567" y="11792"/>
                  <a:pt x="20563" y="11782"/>
                </a:cubicBezTo>
                <a:cubicBezTo>
                  <a:pt x="20546" y="11739"/>
                  <a:pt x="20528" y="11777"/>
                  <a:pt x="20513" y="11733"/>
                </a:cubicBezTo>
              </a:path>
              <a:path w="15330" h="2581">
                <a:moveTo>
                  <a:pt x="21109" y="10988"/>
                </a:moveTo>
                <a:cubicBezTo>
                  <a:pt x="21109" y="11119"/>
                  <a:pt x="21109" y="11258"/>
                  <a:pt x="21084" y="11385"/>
                </a:cubicBezTo>
                <a:cubicBezTo>
                  <a:pt x="21063" y="11495"/>
                  <a:pt x="21059" y="11594"/>
                  <a:pt x="21059" y="11708"/>
                </a:cubicBezTo>
                <a:cubicBezTo>
                  <a:pt x="21059" y="11789"/>
                  <a:pt x="21071" y="11863"/>
                  <a:pt x="21084" y="11931"/>
                </a:cubicBezTo>
                <a:cubicBezTo>
                  <a:pt x="21085" y="11935"/>
                  <a:pt x="21072" y="12089"/>
                  <a:pt x="21109" y="12005"/>
                </a:cubicBezTo>
                <a:cubicBezTo>
                  <a:pt x="21109" y="11997"/>
                  <a:pt x="21109" y="11989"/>
                  <a:pt x="21109" y="11981"/>
                </a:cubicBezTo>
              </a:path>
              <a:path w="15330" h="2581">
                <a:moveTo>
                  <a:pt x="21382" y="11162"/>
                </a:moveTo>
                <a:cubicBezTo>
                  <a:pt x="21469" y="11133"/>
                  <a:pt x="21542" y="11154"/>
                  <a:pt x="21630" y="11137"/>
                </a:cubicBezTo>
                <a:cubicBezTo>
                  <a:pt x="21694" y="11125"/>
                  <a:pt x="21755" y="11106"/>
                  <a:pt x="21803" y="11063"/>
                </a:cubicBezTo>
                <a:cubicBezTo>
                  <a:pt x="21811" y="11055"/>
                  <a:pt x="21820" y="11046"/>
                  <a:pt x="21828" y="11038"/>
                </a:cubicBezTo>
              </a:path>
              <a:path w="15330" h="2581">
                <a:moveTo>
                  <a:pt x="21431" y="11187"/>
                </a:moveTo>
                <a:cubicBezTo>
                  <a:pt x="21421" y="11198"/>
                  <a:pt x="21314" y="11296"/>
                  <a:pt x="21332" y="11336"/>
                </a:cubicBezTo>
                <a:cubicBezTo>
                  <a:pt x="21358" y="11396"/>
                  <a:pt x="21364" y="11362"/>
                  <a:pt x="21406" y="11385"/>
                </a:cubicBezTo>
                <a:cubicBezTo>
                  <a:pt x="21471" y="11422"/>
                  <a:pt x="21561" y="11412"/>
                  <a:pt x="21630" y="11460"/>
                </a:cubicBezTo>
                <a:cubicBezTo>
                  <a:pt x="21712" y="11517"/>
                  <a:pt x="21750" y="11586"/>
                  <a:pt x="21754" y="11683"/>
                </a:cubicBezTo>
                <a:cubicBezTo>
                  <a:pt x="21758" y="11767"/>
                  <a:pt x="21761" y="11818"/>
                  <a:pt x="21704" y="11881"/>
                </a:cubicBezTo>
                <a:cubicBezTo>
                  <a:pt x="21681" y="11906"/>
                  <a:pt x="21591" y="11960"/>
                  <a:pt x="21555" y="11956"/>
                </a:cubicBezTo>
                <a:cubicBezTo>
                  <a:pt x="21515" y="11936"/>
                  <a:pt x="21509" y="11927"/>
                  <a:pt x="21481" y="11931"/>
                </a:cubicBezTo>
              </a:path>
              <a:path w="15330" h="2581">
                <a:moveTo>
                  <a:pt x="20985" y="12005"/>
                </a:moveTo>
                <a:cubicBezTo>
                  <a:pt x="21064" y="12032"/>
                  <a:pt x="21172" y="12047"/>
                  <a:pt x="21258" y="12055"/>
                </a:cubicBezTo>
                <a:cubicBezTo>
                  <a:pt x="21397" y="12067"/>
                  <a:pt x="21540" y="12076"/>
                  <a:pt x="21679" y="12080"/>
                </a:cubicBezTo>
                <a:cubicBezTo>
                  <a:pt x="21786" y="12083"/>
                  <a:pt x="21877" y="12051"/>
                  <a:pt x="21977" y="12030"/>
                </a:cubicBezTo>
                <a:cubicBezTo>
                  <a:pt x="21985" y="12030"/>
                  <a:pt x="21994" y="12030"/>
                  <a:pt x="22002" y="12030"/>
                </a:cubicBezTo>
              </a:path>
              <a:path w="15330" h="2581">
                <a:moveTo>
                  <a:pt x="21307" y="12427"/>
                </a:moveTo>
                <a:cubicBezTo>
                  <a:pt x="21377" y="12590"/>
                  <a:pt x="21460" y="12690"/>
                  <a:pt x="21580" y="12824"/>
                </a:cubicBezTo>
                <a:cubicBezTo>
                  <a:pt x="21674" y="12929"/>
                  <a:pt x="21779" y="12990"/>
                  <a:pt x="21903" y="13047"/>
                </a:cubicBezTo>
                <a:cubicBezTo>
                  <a:pt x="21969" y="13080"/>
                  <a:pt x="22002" y="13080"/>
                  <a:pt x="22051" y="13022"/>
                </a:cubicBezTo>
              </a:path>
              <a:path w="15330" h="2581">
                <a:moveTo>
                  <a:pt x="21654" y="12378"/>
                </a:moveTo>
                <a:cubicBezTo>
                  <a:pt x="21504" y="12534"/>
                  <a:pt x="21336" y="12699"/>
                  <a:pt x="21208" y="12874"/>
                </a:cubicBezTo>
                <a:cubicBezTo>
                  <a:pt x="21111" y="13006"/>
                  <a:pt x="21017" y="13146"/>
                  <a:pt x="20910" y="13271"/>
                </a:cubicBezTo>
                <a:cubicBezTo>
                  <a:pt x="20885" y="13296"/>
                  <a:pt x="20861" y="13320"/>
                  <a:pt x="20836" y="13345"/>
                </a:cubicBezTo>
              </a:path>
              <a:path w="15330" h="2581">
                <a:moveTo>
                  <a:pt x="14883" y="11931"/>
                </a:moveTo>
                <a:lnTo>
                  <a:pt x="14883" y="11931"/>
                </a:lnTo>
              </a:path>
              <a:path w="15330" h="2581">
                <a:moveTo>
                  <a:pt x="15280" y="11286"/>
                </a:moveTo>
                <a:cubicBezTo>
                  <a:pt x="15412" y="11261"/>
                  <a:pt x="15421" y="11229"/>
                  <a:pt x="15478" y="11336"/>
                </a:cubicBezTo>
                <a:cubicBezTo>
                  <a:pt x="15517" y="11409"/>
                  <a:pt x="15537" y="11479"/>
                  <a:pt x="15503" y="11559"/>
                </a:cubicBezTo>
                <a:cubicBezTo>
                  <a:pt x="15470" y="11635"/>
                  <a:pt x="15412" y="11700"/>
                  <a:pt x="15354" y="11757"/>
                </a:cubicBezTo>
                <a:cubicBezTo>
                  <a:pt x="15293" y="11817"/>
                  <a:pt x="15271" y="11820"/>
                  <a:pt x="15205" y="11807"/>
                </a:cubicBezTo>
                <a:cubicBezTo>
                  <a:pt x="15155" y="11797"/>
                  <a:pt x="15173" y="11765"/>
                  <a:pt x="15180" y="11733"/>
                </a:cubicBezTo>
                <a:cubicBezTo>
                  <a:pt x="15193" y="11672"/>
                  <a:pt x="15220" y="11683"/>
                  <a:pt x="15280" y="11683"/>
                </a:cubicBezTo>
                <a:cubicBezTo>
                  <a:pt x="15375" y="11683"/>
                  <a:pt x="15381" y="11740"/>
                  <a:pt x="15453" y="11782"/>
                </a:cubicBezTo>
                <a:cubicBezTo>
                  <a:pt x="15486" y="11802"/>
                  <a:pt x="15598" y="11861"/>
                  <a:pt x="15627" y="11857"/>
                </a:cubicBezTo>
                <a:cubicBezTo>
                  <a:pt x="15644" y="11849"/>
                  <a:pt x="15660" y="11840"/>
                  <a:pt x="15677" y="11832"/>
                </a:cubicBezTo>
              </a:path>
              <a:path w="15330" h="2581">
                <a:moveTo>
                  <a:pt x="15850" y="11237"/>
                </a:moveTo>
                <a:cubicBezTo>
                  <a:pt x="15919" y="11237"/>
                  <a:pt x="15967" y="11245"/>
                  <a:pt x="16024" y="11261"/>
                </a:cubicBezTo>
                <a:cubicBezTo>
                  <a:pt x="16032" y="11261"/>
                  <a:pt x="16041" y="11261"/>
                  <a:pt x="16049" y="11261"/>
                </a:cubicBezTo>
              </a:path>
              <a:path w="15330" h="2581">
                <a:moveTo>
                  <a:pt x="15701" y="11261"/>
                </a:moveTo>
                <a:cubicBezTo>
                  <a:pt x="15677" y="11353"/>
                  <a:pt x="15661" y="11370"/>
                  <a:pt x="15726" y="11435"/>
                </a:cubicBezTo>
                <a:cubicBezTo>
                  <a:pt x="15779" y="11488"/>
                  <a:pt x="15820" y="11466"/>
                  <a:pt x="15875" y="11509"/>
                </a:cubicBezTo>
                <a:cubicBezTo>
                  <a:pt x="15932" y="11554"/>
                  <a:pt x="16033" y="11652"/>
                  <a:pt x="16024" y="11733"/>
                </a:cubicBezTo>
                <a:cubicBezTo>
                  <a:pt x="16015" y="11813"/>
                  <a:pt x="15974" y="11829"/>
                  <a:pt x="15925" y="11857"/>
                </a:cubicBezTo>
                <a:cubicBezTo>
                  <a:pt x="15853" y="11898"/>
                  <a:pt x="15827" y="11867"/>
                  <a:pt x="15751" y="11857"/>
                </a:cubicBezTo>
                <a:cubicBezTo>
                  <a:pt x="15726" y="11857"/>
                  <a:pt x="15702" y="11857"/>
                  <a:pt x="15677" y="11857"/>
                </a:cubicBezTo>
              </a:path>
              <a:path w="15330" h="2581">
                <a:moveTo>
                  <a:pt x="9624" y="11237"/>
                </a:moveTo>
                <a:cubicBezTo>
                  <a:pt x="9601" y="11259"/>
                  <a:pt x="9593" y="11264"/>
                  <a:pt x="9599" y="11286"/>
                </a:cubicBezTo>
              </a:path>
              <a:path w="15330" h="2581">
                <a:moveTo>
                  <a:pt x="8607" y="10939"/>
                </a:moveTo>
                <a:cubicBezTo>
                  <a:pt x="8579" y="10846"/>
                  <a:pt x="8569" y="10853"/>
                  <a:pt x="8632" y="10790"/>
                </a:cubicBezTo>
                <a:cubicBezTo>
                  <a:pt x="8666" y="10756"/>
                  <a:pt x="8743" y="10749"/>
                  <a:pt x="8781" y="10790"/>
                </a:cubicBezTo>
                <a:cubicBezTo>
                  <a:pt x="8901" y="10920"/>
                  <a:pt x="8891" y="11055"/>
                  <a:pt x="8905" y="11237"/>
                </a:cubicBezTo>
                <a:cubicBezTo>
                  <a:pt x="8913" y="11336"/>
                  <a:pt x="8866" y="11433"/>
                  <a:pt x="8806" y="11509"/>
                </a:cubicBezTo>
                <a:cubicBezTo>
                  <a:pt x="8745" y="11586"/>
                  <a:pt x="8679" y="11633"/>
                  <a:pt x="8582" y="11633"/>
                </a:cubicBezTo>
                <a:cubicBezTo>
                  <a:pt x="8507" y="11633"/>
                  <a:pt x="8486" y="11637"/>
                  <a:pt x="8434" y="11584"/>
                </a:cubicBezTo>
                <a:cubicBezTo>
                  <a:pt x="8404" y="11554"/>
                  <a:pt x="8409" y="11549"/>
                  <a:pt x="8409" y="11509"/>
                </a:cubicBezTo>
                <a:cubicBezTo>
                  <a:pt x="8462" y="11509"/>
                  <a:pt x="8489" y="11510"/>
                  <a:pt x="8533" y="11534"/>
                </a:cubicBezTo>
                <a:cubicBezTo>
                  <a:pt x="8612" y="11577"/>
                  <a:pt x="8692" y="11626"/>
                  <a:pt x="8781" y="11633"/>
                </a:cubicBezTo>
                <a:cubicBezTo>
                  <a:pt x="8861" y="11639"/>
                  <a:pt x="8867" y="11626"/>
                  <a:pt x="8905" y="11559"/>
                </a:cubicBezTo>
              </a:path>
              <a:path w="15330" h="2581">
                <a:moveTo>
                  <a:pt x="9103" y="10914"/>
                </a:moveTo>
                <a:cubicBezTo>
                  <a:pt x="9198" y="10894"/>
                  <a:pt x="9246" y="10872"/>
                  <a:pt x="9327" y="10840"/>
                </a:cubicBezTo>
                <a:cubicBezTo>
                  <a:pt x="9351" y="10840"/>
                  <a:pt x="9360" y="10840"/>
                  <a:pt x="9376" y="10840"/>
                </a:cubicBezTo>
              </a:path>
              <a:path w="15330" h="2581">
                <a:moveTo>
                  <a:pt x="9054" y="10939"/>
                </a:moveTo>
                <a:cubicBezTo>
                  <a:pt x="9054" y="11049"/>
                  <a:pt x="9057" y="11046"/>
                  <a:pt x="9153" y="11112"/>
                </a:cubicBezTo>
                <a:cubicBezTo>
                  <a:pt x="9223" y="11160"/>
                  <a:pt x="9333" y="11235"/>
                  <a:pt x="9376" y="11311"/>
                </a:cubicBezTo>
                <a:cubicBezTo>
                  <a:pt x="9410" y="11371"/>
                  <a:pt x="9418" y="11458"/>
                  <a:pt x="9376" y="11509"/>
                </a:cubicBezTo>
                <a:cubicBezTo>
                  <a:pt x="9331" y="11565"/>
                  <a:pt x="9277" y="11559"/>
                  <a:pt x="9227" y="11584"/>
                </a:cubicBezTo>
                <a:cubicBezTo>
                  <a:pt x="9188" y="11604"/>
                  <a:pt x="9200" y="11609"/>
                  <a:pt x="9153" y="11609"/>
                </a:cubicBezTo>
              </a:path>
              <a:path w="15330" h="2581">
                <a:moveTo>
                  <a:pt x="22374" y="12005"/>
                </a:moveTo>
                <a:lnTo>
                  <a:pt x="22374" y="12005"/>
                </a:lnTo>
              </a:path>
              <a:path w="15330" h="2581">
                <a:moveTo>
                  <a:pt x="22870" y="11137"/>
                </a:moveTo>
                <a:cubicBezTo>
                  <a:pt x="22925" y="11181"/>
                  <a:pt x="22960" y="11197"/>
                  <a:pt x="22994" y="11261"/>
                </a:cubicBezTo>
                <a:cubicBezTo>
                  <a:pt x="23034" y="11336"/>
                  <a:pt x="23096" y="11377"/>
                  <a:pt x="23143" y="11435"/>
                </a:cubicBezTo>
                <a:cubicBezTo>
                  <a:pt x="23198" y="11504"/>
                  <a:pt x="23233" y="11524"/>
                  <a:pt x="23316" y="11584"/>
                </a:cubicBezTo>
              </a:path>
              <a:path w="15330" h="2581">
                <a:moveTo>
                  <a:pt x="23515" y="11038"/>
                </a:moveTo>
                <a:cubicBezTo>
                  <a:pt x="23397" y="11135"/>
                  <a:pt x="23321" y="11228"/>
                  <a:pt x="23217" y="11336"/>
                </a:cubicBezTo>
                <a:cubicBezTo>
                  <a:pt x="23131" y="11425"/>
                  <a:pt x="23057" y="11521"/>
                  <a:pt x="22969" y="11609"/>
                </a:cubicBezTo>
              </a:path>
              <a:path w="15330" h="2581">
                <a:moveTo>
                  <a:pt x="17165" y="11733"/>
                </a:moveTo>
                <a:cubicBezTo>
                  <a:pt x="17148" y="11741"/>
                  <a:pt x="17132" y="11749"/>
                  <a:pt x="17115" y="11757"/>
                </a:cubicBezTo>
              </a:path>
              <a:path w="15330" h="2581">
                <a:moveTo>
                  <a:pt x="16743" y="11212"/>
                </a:moveTo>
                <a:cubicBezTo>
                  <a:pt x="16766" y="11295"/>
                  <a:pt x="16770" y="11381"/>
                  <a:pt x="16793" y="11460"/>
                </a:cubicBezTo>
                <a:cubicBezTo>
                  <a:pt x="16810" y="11518"/>
                  <a:pt x="16815" y="11636"/>
                  <a:pt x="16842" y="11683"/>
                </a:cubicBezTo>
                <a:cubicBezTo>
                  <a:pt x="16877" y="11743"/>
                  <a:pt x="16918" y="11790"/>
                  <a:pt x="16966" y="11832"/>
                </a:cubicBezTo>
              </a:path>
              <a:path w="15330" h="2581">
                <a:moveTo>
                  <a:pt x="17314" y="11038"/>
                </a:moveTo>
                <a:cubicBezTo>
                  <a:pt x="17138" y="11214"/>
                  <a:pt x="17005" y="11370"/>
                  <a:pt x="16842" y="11559"/>
                </a:cubicBezTo>
                <a:cubicBezTo>
                  <a:pt x="16706" y="11716"/>
                  <a:pt x="16624" y="11861"/>
                  <a:pt x="16545" y="12055"/>
                </a:cubicBezTo>
                <a:cubicBezTo>
                  <a:pt x="16537" y="12080"/>
                  <a:pt x="16528" y="12104"/>
                  <a:pt x="16520" y="12129"/>
                </a:cubicBezTo>
              </a:path>
              <a:path w="15330" h="2581">
                <a:moveTo>
                  <a:pt x="20638" y="13122"/>
                </a:moveTo>
                <a:cubicBezTo>
                  <a:pt x="20675" y="13129"/>
                  <a:pt x="20646" y="13136"/>
                  <a:pt x="20712" y="13097"/>
                </a:cubicBezTo>
                <a:cubicBezTo>
                  <a:pt x="20803" y="13044"/>
                  <a:pt x="20905" y="12991"/>
                  <a:pt x="20985" y="12923"/>
                </a:cubicBezTo>
                <a:cubicBezTo>
                  <a:pt x="21113" y="12814"/>
                  <a:pt x="21242" y="12719"/>
                  <a:pt x="21382" y="12626"/>
                </a:cubicBezTo>
                <a:cubicBezTo>
                  <a:pt x="21527" y="12530"/>
                  <a:pt x="21677" y="12437"/>
                  <a:pt x="21828" y="12353"/>
                </a:cubicBezTo>
                <a:cubicBezTo>
                  <a:pt x="22006" y="12254"/>
                  <a:pt x="22144" y="12175"/>
                  <a:pt x="22299" y="12055"/>
                </a:cubicBezTo>
                <a:cubicBezTo>
                  <a:pt x="22378" y="12002"/>
                  <a:pt x="22406" y="11982"/>
                  <a:pt x="22448" y="11931"/>
                </a:cubicBezTo>
              </a:path>
              <a:path w="15330" h="2581">
                <a:moveTo>
                  <a:pt x="22895" y="11460"/>
                </a:moveTo>
                <a:cubicBezTo>
                  <a:pt x="23048" y="11357"/>
                  <a:pt x="23222" y="11287"/>
                  <a:pt x="23391" y="11212"/>
                </a:cubicBezTo>
                <a:cubicBezTo>
                  <a:pt x="23464" y="11180"/>
                  <a:pt x="23563" y="11150"/>
                  <a:pt x="23639" y="11137"/>
                </a:cubicBezTo>
                <a:cubicBezTo>
                  <a:pt x="23698" y="11127"/>
                  <a:pt x="23711" y="11153"/>
                  <a:pt x="23738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67120" y="4786200"/>
            <a:ext cx="884160" cy="588960"/>
          </a:xfrm>
          <a:custGeom>
            <a:avLst/>
            <a:gdLst/>
            <a:ahLst/>
            <a:rect l="l" t="t" r="r" b="b"/>
            <a:pathLst>
              <a:path w="2457" h="1638">
                <a:moveTo>
                  <a:pt x="11038" y="13345"/>
                </a:moveTo>
                <a:cubicBezTo>
                  <a:pt x="11027" y="13435"/>
                  <a:pt x="10996" y="13530"/>
                  <a:pt x="10964" y="13618"/>
                </a:cubicBezTo>
                <a:cubicBezTo>
                  <a:pt x="10916" y="13748"/>
                  <a:pt x="10858" y="13857"/>
                  <a:pt x="10815" y="13990"/>
                </a:cubicBezTo>
                <a:cubicBezTo>
                  <a:pt x="10788" y="14074"/>
                  <a:pt x="10751" y="14153"/>
                  <a:pt x="10740" y="14238"/>
                </a:cubicBezTo>
                <a:cubicBezTo>
                  <a:pt x="10765" y="14188"/>
                  <a:pt x="10773" y="14172"/>
                  <a:pt x="10790" y="14139"/>
                </a:cubicBezTo>
              </a:path>
              <a:path w="2457" h="1638">
                <a:moveTo>
                  <a:pt x="11336" y="13419"/>
                </a:moveTo>
                <a:cubicBezTo>
                  <a:pt x="11310" y="13479"/>
                  <a:pt x="11265" y="13557"/>
                  <a:pt x="11261" y="13618"/>
                </a:cubicBezTo>
                <a:cubicBezTo>
                  <a:pt x="11257" y="13676"/>
                  <a:pt x="11297" y="13725"/>
                  <a:pt x="11336" y="13767"/>
                </a:cubicBezTo>
                <a:cubicBezTo>
                  <a:pt x="11377" y="13811"/>
                  <a:pt x="11453" y="13844"/>
                  <a:pt x="11509" y="13866"/>
                </a:cubicBezTo>
                <a:cubicBezTo>
                  <a:pt x="11615" y="13908"/>
                  <a:pt x="11612" y="13893"/>
                  <a:pt x="11708" y="13841"/>
                </a:cubicBezTo>
              </a:path>
              <a:path w="2457" h="1638">
                <a:moveTo>
                  <a:pt x="11733" y="13295"/>
                </a:moveTo>
                <a:cubicBezTo>
                  <a:pt x="11674" y="13455"/>
                  <a:pt x="11648" y="13606"/>
                  <a:pt x="11609" y="13767"/>
                </a:cubicBezTo>
                <a:cubicBezTo>
                  <a:pt x="11583" y="13875"/>
                  <a:pt x="11549" y="13981"/>
                  <a:pt x="11534" y="14089"/>
                </a:cubicBezTo>
                <a:cubicBezTo>
                  <a:pt x="11527" y="14137"/>
                  <a:pt x="11534" y="14190"/>
                  <a:pt x="11534" y="14238"/>
                </a:cubicBezTo>
              </a:path>
              <a:path w="2457" h="1638">
                <a:moveTo>
                  <a:pt x="11832" y="14139"/>
                </a:moveTo>
                <a:cubicBezTo>
                  <a:pt x="11857" y="14089"/>
                  <a:pt x="11881" y="14040"/>
                  <a:pt x="11906" y="13990"/>
                </a:cubicBezTo>
              </a:path>
              <a:path w="2457" h="1638">
                <a:moveTo>
                  <a:pt x="12229" y="13345"/>
                </a:moveTo>
                <a:cubicBezTo>
                  <a:pt x="12313" y="13322"/>
                  <a:pt x="12354" y="13306"/>
                  <a:pt x="12427" y="13345"/>
                </a:cubicBezTo>
                <a:cubicBezTo>
                  <a:pt x="12507" y="13388"/>
                  <a:pt x="12486" y="13417"/>
                  <a:pt x="12477" y="13494"/>
                </a:cubicBezTo>
                <a:cubicBezTo>
                  <a:pt x="12468" y="13574"/>
                  <a:pt x="12410" y="13610"/>
                  <a:pt x="12353" y="13667"/>
                </a:cubicBezTo>
                <a:cubicBezTo>
                  <a:pt x="12323" y="13697"/>
                  <a:pt x="12266" y="13730"/>
                  <a:pt x="12229" y="13742"/>
                </a:cubicBezTo>
                <a:cubicBezTo>
                  <a:pt x="12221" y="13742"/>
                  <a:pt x="12212" y="13742"/>
                  <a:pt x="12204" y="13742"/>
                </a:cubicBezTo>
                <a:cubicBezTo>
                  <a:pt x="12218" y="13783"/>
                  <a:pt x="12257" y="13773"/>
                  <a:pt x="12303" y="13791"/>
                </a:cubicBezTo>
                <a:cubicBezTo>
                  <a:pt x="12388" y="13825"/>
                  <a:pt x="12432" y="13872"/>
                  <a:pt x="12452" y="13965"/>
                </a:cubicBezTo>
                <a:cubicBezTo>
                  <a:pt x="12466" y="14032"/>
                  <a:pt x="12443" y="14110"/>
                  <a:pt x="12402" y="14163"/>
                </a:cubicBezTo>
                <a:cubicBezTo>
                  <a:pt x="12350" y="14231"/>
                  <a:pt x="12260" y="14233"/>
                  <a:pt x="12179" y="14238"/>
                </a:cubicBezTo>
                <a:cubicBezTo>
                  <a:pt x="12129" y="14241"/>
                  <a:pt x="12094" y="14186"/>
                  <a:pt x="12105" y="14139"/>
                </a:cubicBezTo>
                <a:cubicBezTo>
                  <a:pt x="12129" y="14089"/>
                  <a:pt x="12137" y="14072"/>
                  <a:pt x="12154" y="14039"/>
                </a:cubicBezTo>
              </a:path>
              <a:path w="2457" h="1638">
                <a:moveTo>
                  <a:pt x="12626" y="13494"/>
                </a:moveTo>
                <a:cubicBezTo>
                  <a:pt x="12626" y="13569"/>
                  <a:pt x="12626" y="13622"/>
                  <a:pt x="12650" y="13692"/>
                </a:cubicBezTo>
                <a:cubicBezTo>
                  <a:pt x="12697" y="13828"/>
                  <a:pt x="12816" y="13861"/>
                  <a:pt x="12948" y="13866"/>
                </a:cubicBezTo>
                <a:cubicBezTo>
                  <a:pt x="12973" y="13866"/>
                  <a:pt x="12997" y="13866"/>
                  <a:pt x="13022" y="13866"/>
                </a:cubicBezTo>
              </a:path>
              <a:path w="2457" h="1638">
                <a:moveTo>
                  <a:pt x="13196" y="13295"/>
                </a:moveTo>
                <a:cubicBezTo>
                  <a:pt x="13089" y="13666"/>
                  <a:pt x="12996" y="14024"/>
                  <a:pt x="12973" y="14412"/>
                </a:cubicBezTo>
                <a:cubicBezTo>
                  <a:pt x="12966" y="14537"/>
                  <a:pt x="12924" y="14763"/>
                  <a:pt x="12948" y="14883"/>
                </a:cubicBezTo>
                <a:cubicBezTo>
                  <a:pt x="12956" y="14899"/>
                  <a:pt x="12965" y="14916"/>
                  <a:pt x="12973" y="149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61040" y="4884840"/>
            <a:ext cx="2305080" cy="1062000"/>
          </a:xfrm>
          <a:custGeom>
            <a:avLst/>
            <a:gdLst/>
            <a:ahLst/>
            <a:rect l="l" t="t" r="r" b="b"/>
            <a:pathLst>
              <a:path w="6401" h="2953">
                <a:moveTo>
                  <a:pt x="17214" y="15056"/>
                </a:moveTo>
                <a:cubicBezTo>
                  <a:pt x="17197" y="15047"/>
                  <a:pt x="17123" y="15017"/>
                  <a:pt x="17115" y="15007"/>
                </a:cubicBezTo>
                <a:cubicBezTo>
                  <a:pt x="17115" y="14999"/>
                  <a:pt x="17115" y="14990"/>
                  <a:pt x="17115" y="14982"/>
                </a:cubicBezTo>
                <a:cubicBezTo>
                  <a:pt x="17149" y="14965"/>
                  <a:pt x="17181" y="14948"/>
                  <a:pt x="17214" y="14932"/>
                </a:cubicBezTo>
                <a:cubicBezTo>
                  <a:pt x="17268" y="14906"/>
                  <a:pt x="17300" y="14919"/>
                  <a:pt x="17363" y="14908"/>
                </a:cubicBezTo>
                <a:cubicBezTo>
                  <a:pt x="17498" y="14884"/>
                  <a:pt x="17621" y="14883"/>
                  <a:pt x="17760" y="14883"/>
                </a:cubicBezTo>
                <a:cubicBezTo>
                  <a:pt x="18060" y="14883"/>
                  <a:pt x="18358" y="14880"/>
                  <a:pt x="18653" y="14858"/>
                </a:cubicBezTo>
                <a:cubicBezTo>
                  <a:pt x="18795" y="14848"/>
                  <a:pt x="18935" y="14856"/>
                  <a:pt x="19075" y="14833"/>
                </a:cubicBezTo>
                <a:cubicBezTo>
                  <a:pt x="19187" y="14814"/>
                  <a:pt x="19283" y="14808"/>
                  <a:pt x="19397" y="14808"/>
                </a:cubicBezTo>
                <a:cubicBezTo>
                  <a:pt x="19478" y="14808"/>
                  <a:pt x="19600" y="14777"/>
                  <a:pt x="19670" y="14784"/>
                </a:cubicBezTo>
                <a:cubicBezTo>
                  <a:pt x="19698" y="14784"/>
                  <a:pt x="19709" y="14786"/>
                  <a:pt x="19720" y="14808"/>
                </a:cubicBezTo>
              </a:path>
              <a:path w="6401" h="2953">
                <a:moveTo>
                  <a:pt x="18157" y="15354"/>
                </a:moveTo>
                <a:cubicBezTo>
                  <a:pt x="18101" y="15354"/>
                  <a:pt x="18123" y="15334"/>
                  <a:pt x="18083" y="15329"/>
                </a:cubicBezTo>
                <a:cubicBezTo>
                  <a:pt x="18011" y="15320"/>
                  <a:pt x="17987" y="15330"/>
                  <a:pt x="17934" y="15379"/>
                </a:cubicBezTo>
                <a:cubicBezTo>
                  <a:pt x="17872" y="15437"/>
                  <a:pt x="17827" y="15490"/>
                  <a:pt x="17810" y="15577"/>
                </a:cubicBezTo>
                <a:cubicBezTo>
                  <a:pt x="17795" y="15656"/>
                  <a:pt x="17769" y="15745"/>
                  <a:pt x="17760" y="15825"/>
                </a:cubicBezTo>
                <a:cubicBezTo>
                  <a:pt x="17753" y="15888"/>
                  <a:pt x="17756" y="16020"/>
                  <a:pt x="17785" y="16073"/>
                </a:cubicBezTo>
                <a:cubicBezTo>
                  <a:pt x="17843" y="16179"/>
                  <a:pt x="17878" y="16197"/>
                  <a:pt x="17983" y="16197"/>
                </a:cubicBezTo>
                <a:cubicBezTo>
                  <a:pt x="18084" y="16197"/>
                  <a:pt x="18184" y="16087"/>
                  <a:pt x="18256" y="16024"/>
                </a:cubicBezTo>
              </a:path>
              <a:path w="6401" h="2953">
                <a:moveTo>
                  <a:pt x="18405" y="15751"/>
                </a:moveTo>
                <a:cubicBezTo>
                  <a:pt x="18388" y="15792"/>
                  <a:pt x="18372" y="15834"/>
                  <a:pt x="18355" y="15875"/>
                </a:cubicBezTo>
              </a:path>
              <a:path w="6401" h="2953">
                <a:moveTo>
                  <a:pt x="18430" y="16073"/>
                </a:moveTo>
                <a:cubicBezTo>
                  <a:pt x="18481" y="16036"/>
                  <a:pt x="18487" y="16030"/>
                  <a:pt x="18529" y="15974"/>
                </a:cubicBezTo>
                <a:cubicBezTo>
                  <a:pt x="18575" y="15913"/>
                  <a:pt x="18582" y="15868"/>
                  <a:pt x="18604" y="15801"/>
                </a:cubicBezTo>
                <a:cubicBezTo>
                  <a:pt x="18632" y="15716"/>
                  <a:pt x="18610" y="15688"/>
                  <a:pt x="18604" y="15602"/>
                </a:cubicBezTo>
                <a:cubicBezTo>
                  <a:pt x="18604" y="15594"/>
                  <a:pt x="18604" y="15585"/>
                  <a:pt x="18604" y="15577"/>
                </a:cubicBezTo>
                <a:cubicBezTo>
                  <a:pt x="18562" y="15571"/>
                  <a:pt x="18501" y="15534"/>
                  <a:pt x="18455" y="15553"/>
                </a:cubicBezTo>
                <a:cubicBezTo>
                  <a:pt x="18417" y="15569"/>
                  <a:pt x="18425" y="15577"/>
                  <a:pt x="18380" y="15577"/>
                </a:cubicBezTo>
              </a:path>
              <a:path w="6401" h="2953">
                <a:moveTo>
                  <a:pt x="18852" y="15280"/>
                </a:moveTo>
                <a:cubicBezTo>
                  <a:pt x="18843" y="15372"/>
                  <a:pt x="18829" y="15473"/>
                  <a:pt x="18777" y="15553"/>
                </a:cubicBezTo>
                <a:cubicBezTo>
                  <a:pt x="18745" y="15602"/>
                  <a:pt x="18715" y="15656"/>
                  <a:pt x="18678" y="15701"/>
                </a:cubicBezTo>
                <a:cubicBezTo>
                  <a:pt x="18687" y="15728"/>
                  <a:pt x="18696" y="15747"/>
                  <a:pt x="18728" y="15751"/>
                </a:cubicBezTo>
                <a:cubicBezTo>
                  <a:pt x="18774" y="15757"/>
                  <a:pt x="18788" y="15763"/>
                  <a:pt x="18827" y="15776"/>
                </a:cubicBezTo>
                <a:cubicBezTo>
                  <a:pt x="18890" y="15797"/>
                  <a:pt x="18916" y="15849"/>
                  <a:pt x="18901" y="15925"/>
                </a:cubicBezTo>
                <a:cubicBezTo>
                  <a:pt x="18895" y="15955"/>
                  <a:pt x="18841" y="16050"/>
                  <a:pt x="18827" y="16073"/>
                </a:cubicBezTo>
                <a:cubicBezTo>
                  <a:pt x="18819" y="16081"/>
                  <a:pt x="18810" y="16090"/>
                  <a:pt x="18802" y="16098"/>
                </a:cubicBezTo>
              </a:path>
              <a:path w="6401" h="2953">
                <a:moveTo>
                  <a:pt x="19149" y="15404"/>
                </a:moveTo>
                <a:cubicBezTo>
                  <a:pt x="19157" y="15404"/>
                  <a:pt x="19166" y="15404"/>
                  <a:pt x="19174" y="15404"/>
                </a:cubicBezTo>
                <a:cubicBezTo>
                  <a:pt x="19187" y="15365"/>
                  <a:pt x="19210" y="15388"/>
                  <a:pt x="19248" y="15354"/>
                </a:cubicBezTo>
                <a:cubicBezTo>
                  <a:pt x="19292" y="15315"/>
                  <a:pt x="19345" y="15283"/>
                  <a:pt x="19397" y="15255"/>
                </a:cubicBezTo>
                <a:cubicBezTo>
                  <a:pt x="19457" y="15225"/>
                  <a:pt x="19480" y="15208"/>
                  <a:pt x="19496" y="15156"/>
                </a:cubicBezTo>
              </a:path>
              <a:path w="6401" h="2953">
                <a:moveTo>
                  <a:pt x="19124" y="15354"/>
                </a:moveTo>
                <a:cubicBezTo>
                  <a:pt x="19118" y="15366"/>
                  <a:pt x="19034" y="15495"/>
                  <a:pt x="19075" y="15528"/>
                </a:cubicBezTo>
                <a:cubicBezTo>
                  <a:pt x="19119" y="15563"/>
                  <a:pt x="19115" y="15531"/>
                  <a:pt x="19149" y="15528"/>
                </a:cubicBezTo>
                <a:cubicBezTo>
                  <a:pt x="19162" y="15527"/>
                  <a:pt x="19273" y="15503"/>
                  <a:pt x="19273" y="15503"/>
                </a:cubicBezTo>
                <a:cubicBezTo>
                  <a:pt x="19277" y="15503"/>
                  <a:pt x="19418" y="15542"/>
                  <a:pt x="19422" y="15553"/>
                </a:cubicBezTo>
                <a:cubicBezTo>
                  <a:pt x="19443" y="15610"/>
                  <a:pt x="19400" y="15732"/>
                  <a:pt x="19372" y="15776"/>
                </a:cubicBezTo>
                <a:cubicBezTo>
                  <a:pt x="19318" y="15860"/>
                  <a:pt x="19247" y="15933"/>
                  <a:pt x="19199" y="16024"/>
                </a:cubicBezTo>
                <a:cubicBezTo>
                  <a:pt x="19172" y="16075"/>
                  <a:pt x="19173" y="16086"/>
                  <a:pt x="19124" y="16098"/>
                </a:cubicBezTo>
              </a:path>
              <a:path w="6401" h="2953">
                <a:moveTo>
                  <a:pt x="19521" y="15404"/>
                </a:moveTo>
                <a:cubicBezTo>
                  <a:pt x="19521" y="15474"/>
                  <a:pt x="19500" y="15533"/>
                  <a:pt x="19496" y="15602"/>
                </a:cubicBezTo>
                <a:cubicBezTo>
                  <a:pt x="19493" y="15664"/>
                  <a:pt x="19489" y="15748"/>
                  <a:pt x="19521" y="15801"/>
                </a:cubicBezTo>
                <a:cubicBezTo>
                  <a:pt x="19539" y="15830"/>
                  <a:pt x="19609" y="15870"/>
                  <a:pt x="19645" y="15850"/>
                </a:cubicBezTo>
                <a:cubicBezTo>
                  <a:pt x="19681" y="15830"/>
                  <a:pt x="19736" y="15765"/>
                  <a:pt x="19745" y="15726"/>
                </a:cubicBezTo>
                <a:cubicBezTo>
                  <a:pt x="19759" y="15665"/>
                  <a:pt x="19769" y="15621"/>
                  <a:pt x="19769" y="15553"/>
                </a:cubicBezTo>
                <a:cubicBezTo>
                  <a:pt x="19769" y="15503"/>
                  <a:pt x="19738" y="15467"/>
                  <a:pt x="19695" y="15453"/>
                </a:cubicBezTo>
                <a:cubicBezTo>
                  <a:pt x="19653" y="15439"/>
                  <a:pt x="19619" y="15423"/>
                  <a:pt x="19571" y="15404"/>
                </a:cubicBezTo>
              </a:path>
              <a:path w="6401" h="2953">
                <a:moveTo>
                  <a:pt x="19794" y="15032"/>
                </a:moveTo>
                <a:cubicBezTo>
                  <a:pt x="19787" y="15054"/>
                  <a:pt x="19750" y="15146"/>
                  <a:pt x="19769" y="15180"/>
                </a:cubicBezTo>
                <a:cubicBezTo>
                  <a:pt x="19789" y="15216"/>
                  <a:pt x="19849" y="15218"/>
                  <a:pt x="19869" y="15180"/>
                </a:cubicBezTo>
                <a:cubicBezTo>
                  <a:pt x="19885" y="15149"/>
                  <a:pt x="19893" y="15155"/>
                  <a:pt x="19893" y="15106"/>
                </a:cubicBezTo>
                <a:cubicBezTo>
                  <a:pt x="19893" y="15054"/>
                  <a:pt x="19867" y="15088"/>
                  <a:pt x="19844" y="15106"/>
                </a:cubicBezTo>
              </a:path>
              <a:path w="6401" h="2953">
                <a:moveTo>
                  <a:pt x="20414" y="14982"/>
                </a:moveTo>
                <a:cubicBezTo>
                  <a:pt x="20513" y="15003"/>
                  <a:pt x="20587" y="15007"/>
                  <a:pt x="20687" y="15007"/>
                </a:cubicBezTo>
                <a:cubicBezTo>
                  <a:pt x="20828" y="15007"/>
                  <a:pt x="20975" y="14984"/>
                  <a:pt x="21109" y="14932"/>
                </a:cubicBezTo>
                <a:cubicBezTo>
                  <a:pt x="21261" y="14873"/>
                  <a:pt x="21422" y="14826"/>
                  <a:pt x="21580" y="14784"/>
                </a:cubicBezTo>
                <a:cubicBezTo>
                  <a:pt x="21755" y="14737"/>
                  <a:pt x="21922" y="14693"/>
                  <a:pt x="22101" y="14660"/>
                </a:cubicBezTo>
                <a:cubicBezTo>
                  <a:pt x="22272" y="14628"/>
                  <a:pt x="22423" y="14585"/>
                  <a:pt x="22597" y="14585"/>
                </a:cubicBezTo>
                <a:cubicBezTo>
                  <a:pt x="22664" y="14585"/>
                  <a:pt x="22693" y="14586"/>
                  <a:pt x="22746" y="14610"/>
                </a:cubicBezTo>
                <a:cubicBezTo>
                  <a:pt x="22774" y="14610"/>
                  <a:pt x="22785" y="14612"/>
                  <a:pt x="22796" y="14635"/>
                </a:cubicBezTo>
              </a:path>
              <a:path w="6401" h="2953">
                <a:moveTo>
                  <a:pt x="21679" y="15230"/>
                </a:moveTo>
                <a:cubicBezTo>
                  <a:pt x="21674" y="15246"/>
                  <a:pt x="21656" y="15291"/>
                  <a:pt x="21630" y="15304"/>
                </a:cubicBezTo>
                <a:cubicBezTo>
                  <a:pt x="21581" y="15328"/>
                  <a:pt x="21518" y="15288"/>
                  <a:pt x="21481" y="15280"/>
                </a:cubicBezTo>
                <a:cubicBezTo>
                  <a:pt x="21440" y="15272"/>
                  <a:pt x="21386" y="15285"/>
                  <a:pt x="21357" y="15304"/>
                </a:cubicBezTo>
                <a:cubicBezTo>
                  <a:pt x="21324" y="15326"/>
                  <a:pt x="21267" y="15394"/>
                  <a:pt x="21258" y="15429"/>
                </a:cubicBezTo>
                <a:cubicBezTo>
                  <a:pt x="21235" y="15515"/>
                  <a:pt x="21212" y="15609"/>
                  <a:pt x="21208" y="15701"/>
                </a:cubicBezTo>
                <a:cubicBezTo>
                  <a:pt x="21205" y="15778"/>
                  <a:pt x="21228" y="15856"/>
                  <a:pt x="21258" y="15925"/>
                </a:cubicBezTo>
                <a:cubicBezTo>
                  <a:pt x="21281" y="15978"/>
                  <a:pt x="21306" y="16040"/>
                  <a:pt x="21357" y="16073"/>
                </a:cubicBezTo>
                <a:cubicBezTo>
                  <a:pt x="21412" y="16108"/>
                  <a:pt x="21482" y="16114"/>
                  <a:pt x="21530" y="16073"/>
                </a:cubicBezTo>
                <a:cubicBezTo>
                  <a:pt x="21597" y="16008"/>
                  <a:pt x="21630" y="15975"/>
                  <a:pt x="21679" y="15925"/>
                </a:cubicBezTo>
              </a:path>
              <a:path w="6401" h="2953">
                <a:moveTo>
                  <a:pt x="21853" y="15553"/>
                </a:moveTo>
                <a:cubicBezTo>
                  <a:pt x="21785" y="15530"/>
                  <a:pt x="21790" y="15567"/>
                  <a:pt x="21779" y="15652"/>
                </a:cubicBezTo>
                <a:cubicBezTo>
                  <a:pt x="21770" y="15726"/>
                  <a:pt x="21758" y="15869"/>
                  <a:pt x="21803" y="15925"/>
                </a:cubicBezTo>
                <a:cubicBezTo>
                  <a:pt x="21855" y="15990"/>
                  <a:pt x="21892" y="15984"/>
                  <a:pt x="21952" y="15974"/>
                </a:cubicBezTo>
                <a:cubicBezTo>
                  <a:pt x="22036" y="15960"/>
                  <a:pt x="22046" y="15919"/>
                  <a:pt x="22101" y="15875"/>
                </a:cubicBezTo>
                <a:cubicBezTo>
                  <a:pt x="22163" y="15825"/>
                  <a:pt x="22186" y="15784"/>
                  <a:pt x="22200" y="15701"/>
                </a:cubicBezTo>
                <a:cubicBezTo>
                  <a:pt x="22208" y="15652"/>
                  <a:pt x="22215" y="15561"/>
                  <a:pt x="22175" y="15528"/>
                </a:cubicBezTo>
                <a:cubicBezTo>
                  <a:pt x="22096" y="15462"/>
                  <a:pt x="22043" y="15447"/>
                  <a:pt x="21952" y="15478"/>
                </a:cubicBezTo>
                <a:cubicBezTo>
                  <a:pt x="21904" y="15494"/>
                  <a:pt x="21868" y="15504"/>
                  <a:pt x="21828" y="15528"/>
                </a:cubicBezTo>
              </a:path>
              <a:path w="6401" h="2953">
                <a:moveTo>
                  <a:pt x="22399" y="15106"/>
                </a:moveTo>
                <a:cubicBezTo>
                  <a:pt x="22368" y="15157"/>
                  <a:pt x="22355" y="15220"/>
                  <a:pt x="22324" y="15280"/>
                </a:cubicBezTo>
                <a:cubicBezTo>
                  <a:pt x="22282" y="15363"/>
                  <a:pt x="22192" y="15420"/>
                  <a:pt x="22151" y="15503"/>
                </a:cubicBezTo>
                <a:cubicBezTo>
                  <a:pt x="22132" y="15541"/>
                  <a:pt x="22171" y="15568"/>
                  <a:pt x="22200" y="15577"/>
                </a:cubicBezTo>
                <a:cubicBezTo>
                  <a:pt x="22235" y="15588"/>
                  <a:pt x="22266" y="15588"/>
                  <a:pt x="22299" y="15602"/>
                </a:cubicBezTo>
                <a:cubicBezTo>
                  <a:pt x="22359" y="15628"/>
                  <a:pt x="22394" y="15627"/>
                  <a:pt x="22399" y="15701"/>
                </a:cubicBezTo>
                <a:cubicBezTo>
                  <a:pt x="22405" y="15785"/>
                  <a:pt x="22332" y="15895"/>
                  <a:pt x="22275" y="15949"/>
                </a:cubicBezTo>
                <a:cubicBezTo>
                  <a:pt x="22227" y="15995"/>
                  <a:pt x="22168" y="16067"/>
                  <a:pt x="22101" y="16073"/>
                </a:cubicBezTo>
                <a:cubicBezTo>
                  <a:pt x="22045" y="16078"/>
                  <a:pt x="22090" y="16024"/>
                  <a:pt x="22101" y="15999"/>
                </a:cubicBezTo>
              </a:path>
              <a:path w="6401" h="2953">
                <a:moveTo>
                  <a:pt x="22572" y="15255"/>
                </a:moveTo>
                <a:cubicBezTo>
                  <a:pt x="22620" y="15207"/>
                  <a:pt x="22627" y="15205"/>
                  <a:pt x="22696" y="15205"/>
                </a:cubicBezTo>
                <a:cubicBezTo>
                  <a:pt x="22738" y="15205"/>
                  <a:pt x="22803" y="15175"/>
                  <a:pt x="22845" y="15156"/>
                </a:cubicBezTo>
                <a:cubicBezTo>
                  <a:pt x="22903" y="15131"/>
                  <a:pt x="22925" y="15126"/>
                  <a:pt x="22969" y="15081"/>
                </a:cubicBezTo>
              </a:path>
              <a:path w="6401" h="2953">
                <a:moveTo>
                  <a:pt x="22696" y="15106"/>
                </a:moveTo>
                <a:cubicBezTo>
                  <a:pt x="22637" y="15148"/>
                  <a:pt x="22564" y="15193"/>
                  <a:pt x="22523" y="15255"/>
                </a:cubicBezTo>
                <a:cubicBezTo>
                  <a:pt x="22485" y="15312"/>
                  <a:pt x="22473" y="15336"/>
                  <a:pt x="22473" y="15404"/>
                </a:cubicBezTo>
                <a:cubicBezTo>
                  <a:pt x="22473" y="15440"/>
                  <a:pt x="22509" y="15474"/>
                  <a:pt x="22547" y="15453"/>
                </a:cubicBezTo>
                <a:cubicBezTo>
                  <a:pt x="22603" y="15423"/>
                  <a:pt x="22653" y="15429"/>
                  <a:pt x="22721" y="15429"/>
                </a:cubicBezTo>
                <a:cubicBezTo>
                  <a:pt x="22791" y="15429"/>
                  <a:pt x="22890" y="15410"/>
                  <a:pt x="22944" y="15453"/>
                </a:cubicBezTo>
                <a:cubicBezTo>
                  <a:pt x="22993" y="15492"/>
                  <a:pt x="23014" y="15517"/>
                  <a:pt x="23019" y="15577"/>
                </a:cubicBezTo>
                <a:cubicBezTo>
                  <a:pt x="23025" y="15648"/>
                  <a:pt x="23000" y="15689"/>
                  <a:pt x="22969" y="15751"/>
                </a:cubicBezTo>
                <a:cubicBezTo>
                  <a:pt x="22923" y="15843"/>
                  <a:pt x="22871" y="15878"/>
                  <a:pt x="22796" y="15949"/>
                </a:cubicBezTo>
                <a:cubicBezTo>
                  <a:pt x="22751" y="15992"/>
                  <a:pt x="22704" y="16034"/>
                  <a:pt x="22647" y="16049"/>
                </a:cubicBezTo>
              </a:path>
              <a:path w="6401" h="2953">
                <a:moveTo>
                  <a:pt x="23192" y="15255"/>
                </a:moveTo>
                <a:cubicBezTo>
                  <a:pt x="23192" y="15336"/>
                  <a:pt x="23171" y="15394"/>
                  <a:pt x="23168" y="15478"/>
                </a:cubicBezTo>
                <a:cubicBezTo>
                  <a:pt x="23166" y="15539"/>
                  <a:pt x="23155" y="15605"/>
                  <a:pt x="23192" y="15652"/>
                </a:cubicBezTo>
                <a:cubicBezTo>
                  <a:pt x="23239" y="15711"/>
                  <a:pt x="23239" y="15694"/>
                  <a:pt x="23292" y="15677"/>
                </a:cubicBezTo>
                <a:cubicBezTo>
                  <a:pt x="23353" y="15657"/>
                  <a:pt x="23375" y="15627"/>
                  <a:pt x="23416" y="15577"/>
                </a:cubicBezTo>
                <a:cubicBezTo>
                  <a:pt x="23450" y="15536"/>
                  <a:pt x="23485" y="15487"/>
                  <a:pt x="23465" y="15429"/>
                </a:cubicBezTo>
                <a:cubicBezTo>
                  <a:pt x="23438" y="15349"/>
                  <a:pt x="23399" y="15364"/>
                  <a:pt x="23341" y="15329"/>
                </a:cubicBezTo>
                <a:cubicBezTo>
                  <a:pt x="23313" y="15301"/>
                  <a:pt x="23300" y="15292"/>
                  <a:pt x="23267" y="15304"/>
                </a:cubicBezTo>
              </a:path>
              <a:path w="6401" h="2953">
                <a:moveTo>
                  <a:pt x="23465" y="14932"/>
                </a:moveTo>
                <a:cubicBezTo>
                  <a:pt x="23465" y="15023"/>
                  <a:pt x="23470" y="15016"/>
                  <a:pt x="23490" y="15056"/>
                </a:cubicBezTo>
                <a:cubicBezTo>
                  <a:pt x="23490" y="15081"/>
                  <a:pt x="23490" y="15089"/>
                  <a:pt x="23515" y="15081"/>
                </a:cubicBezTo>
                <a:cubicBezTo>
                  <a:pt x="23515" y="15059"/>
                  <a:pt x="23504" y="14987"/>
                  <a:pt x="23490" y="14982"/>
                </a:cubicBezTo>
                <a:cubicBezTo>
                  <a:pt x="23469" y="14974"/>
                  <a:pt x="23389" y="14982"/>
                  <a:pt x="23366" y="14982"/>
                </a:cubicBezTo>
              </a:path>
              <a:path w="6401" h="2953">
                <a:moveTo>
                  <a:pt x="18033" y="16297"/>
                </a:moveTo>
                <a:cubicBezTo>
                  <a:pt x="17989" y="16357"/>
                  <a:pt x="17917" y="16419"/>
                  <a:pt x="17909" y="16495"/>
                </a:cubicBezTo>
                <a:cubicBezTo>
                  <a:pt x="17909" y="16503"/>
                  <a:pt x="17909" y="16512"/>
                  <a:pt x="17909" y="16520"/>
                </a:cubicBezTo>
                <a:cubicBezTo>
                  <a:pt x="17964" y="16520"/>
                  <a:pt x="17991" y="16507"/>
                  <a:pt x="18033" y="16470"/>
                </a:cubicBezTo>
                <a:cubicBezTo>
                  <a:pt x="18108" y="16403"/>
                  <a:pt x="18124" y="16392"/>
                  <a:pt x="18207" y="16297"/>
                </a:cubicBezTo>
              </a:path>
              <a:path w="6401" h="2953">
                <a:moveTo>
                  <a:pt x="18306" y="16148"/>
                </a:moveTo>
                <a:cubicBezTo>
                  <a:pt x="18436" y="15974"/>
                  <a:pt x="18549" y="15823"/>
                  <a:pt x="18703" y="15677"/>
                </a:cubicBezTo>
                <a:cubicBezTo>
                  <a:pt x="18834" y="15553"/>
                  <a:pt x="18952" y="15434"/>
                  <a:pt x="19100" y="15329"/>
                </a:cubicBezTo>
                <a:cubicBezTo>
                  <a:pt x="19189" y="15266"/>
                  <a:pt x="19280" y="15231"/>
                  <a:pt x="19372" y="15180"/>
                </a:cubicBezTo>
                <a:cubicBezTo>
                  <a:pt x="19412" y="15158"/>
                  <a:pt x="19402" y="15162"/>
                  <a:pt x="19447" y="15156"/>
                </a:cubicBezTo>
              </a:path>
              <a:path w="6401" h="2953">
                <a:moveTo>
                  <a:pt x="18455" y="14957"/>
                </a:moveTo>
                <a:cubicBezTo>
                  <a:pt x="18498" y="14941"/>
                  <a:pt x="18539" y="14935"/>
                  <a:pt x="18579" y="14908"/>
                </a:cubicBezTo>
                <a:cubicBezTo>
                  <a:pt x="18699" y="14828"/>
                  <a:pt x="18773" y="14681"/>
                  <a:pt x="18876" y="14585"/>
                </a:cubicBezTo>
                <a:cubicBezTo>
                  <a:pt x="19015" y="14456"/>
                  <a:pt x="19116" y="14295"/>
                  <a:pt x="19248" y="14163"/>
                </a:cubicBezTo>
                <a:cubicBezTo>
                  <a:pt x="19416" y="13994"/>
                  <a:pt x="19616" y="13850"/>
                  <a:pt x="19794" y="13692"/>
                </a:cubicBezTo>
                <a:cubicBezTo>
                  <a:pt x="19868" y="13627"/>
                  <a:pt x="19906" y="13607"/>
                  <a:pt x="19993" y="13568"/>
                </a:cubicBezTo>
                <a:cubicBezTo>
                  <a:pt x="20013" y="13624"/>
                  <a:pt x="20028" y="13630"/>
                  <a:pt x="19993" y="13692"/>
                </a:cubicBezTo>
                <a:cubicBezTo>
                  <a:pt x="19976" y="13709"/>
                  <a:pt x="19960" y="13725"/>
                  <a:pt x="19943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03960" y="4956120"/>
            <a:ext cx="1679400" cy="455760"/>
          </a:xfrm>
          <a:custGeom>
            <a:avLst/>
            <a:gdLst/>
            <a:ahLst/>
            <a:rect l="l" t="t" r="r" b="b"/>
            <a:pathLst>
              <a:path w="4664" h="1266">
                <a:moveTo>
                  <a:pt x="17711" y="14263"/>
                </a:moveTo>
                <a:cubicBezTo>
                  <a:pt x="17692" y="14261"/>
                  <a:pt x="17573" y="14252"/>
                  <a:pt x="17562" y="14238"/>
                </a:cubicBezTo>
                <a:cubicBezTo>
                  <a:pt x="17562" y="14213"/>
                  <a:pt x="17562" y="14205"/>
                  <a:pt x="17537" y="14213"/>
                </a:cubicBezTo>
                <a:cubicBezTo>
                  <a:pt x="17550" y="14265"/>
                  <a:pt x="17596" y="14297"/>
                  <a:pt x="17636" y="14337"/>
                </a:cubicBezTo>
                <a:cubicBezTo>
                  <a:pt x="17705" y="14406"/>
                  <a:pt x="17744" y="14450"/>
                  <a:pt x="17785" y="14536"/>
                </a:cubicBezTo>
                <a:cubicBezTo>
                  <a:pt x="17823" y="14615"/>
                  <a:pt x="17856" y="14696"/>
                  <a:pt x="17859" y="14784"/>
                </a:cubicBezTo>
                <a:cubicBezTo>
                  <a:pt x="17861" y="14833"/>
                  <a:pt x="17860" y="14960"/>
                  <a:pt x="17884" y="15007"/>
                </a:cubicBezTo>
                <a:cubicBezTo>
                  <a:pt x="17909" y="15032"/>
                  <a:pt x="17917" y="15040"/>
                  <a:pt x="17934" y="15007"/>
                </a:cubicBezTo>
              </a:path>
              <a:path w="4664" h="1266">
                <a:moveTo>
                  <a:pt x="17983" y="14064"/>
                </a:moveTo>
                <a:cubicBezTo>
                  <a:pt x="17927" y="14129"/>
                  <a:pt x="17871" y="14209"/>
                  <a:pt x="17835" y="14288"/>
                </a:cubicBezTo>
                <a:cubicBezTo>
                  <a:pt x="17781" y="14406"/>
                  <a:pt x="17729" y="14523"/>
                  <a:pt x="17661" y="14635"/>
                </a:cubicBezTo>
                <a:cubicBezTo>
                  <a:pt x="17605" y="14728"/>
                  <a:pt x="17556" y="14809"/>
                  <a:pt x="17512" y="14908"/>
                </a:cubicBezTo>
              </a:path>
              <a:path w="4664" h="1266">
                <a:moveTo>
                  <a:pt x="18380" y="14064"/>
                </a:moveTo>
                <a:cubicBezTo>
                  <a:pt x="18404" y="14119"/>
                  <a:pt x="18412" y="14141"/>
                  <a:pt x="18380" y="14188"/>
                </a:cubicBezTo>
                <a:cubicBezTo>
                  <a:pt x="18346" y="14239"/>
                  <a:pt x="18322" y="14209"/>
                  <a:pt x="18306" y="14188"/>
                </a:cubicBezTo>
                <a:cubicBezTo>
                  <a:pt x="18288" y="14164"/>
                  <a:pt x="18213" y="14075"/>
                  <a:pt x="18182" y="14089"/>
                </a:cubicBezTo>
                <a:cubicBezTo>
                  <a:pt x="18123" y="14116"/>
                  <a:pt x="18144" y="14132"/>
                  <a:pt x="18107" y="14188"/>
                </a:cubicBezTo>
                <a:cubicBezTo>
                  <a:pt x="18062" y="14257"/>
                  <a:pt x="18053" y="14309"/>
                  <a:pt x="18033" y="14387"/>
                </a:cubicBezTo>
                <a:cubicBezTo>
                  <a:pt x="18014" y="14460"/>
                  <a:pt x="17968" y="14559"/>
                  <a:pt x="17983" y="14635"/>
                </a:cubicBezTo>
                <a:cubicBezTo>
                  <a:pt x="17991" y="14678"/>
                  <a:pt x="18011" y="14772"/>
                  <a:pt x="18033" y="14808"/>
                </a:cubicBezTo>
                <a:cubicBezTo>
                  <a:pt x="18085" y="14893"/>
                  <a:pt x="18165" y="14839"/>
                  <a:pt x="18231" y="14808"/>
                </a:cubicBezTo>
                <a:cubicBezTo>
                  <a:pt x="18292" y="14780"/>
                  <a:pt x="18346" y="14742"/>
                  <a:pt x="18405" y="14709"/>
                </a:cubicBezTo>
              </a:path>
              <a:path w="4664" h="1266">
                <a:moveTo>
                  <a:pt x="18628" y="14288"/>
                </a:moveTo>
                <a:cubicBezTo>
                  <a:pt x="18622" y="14341"/>
                  <a:pt x="18623" y="14437"/>
                  <a:pt x="18604" y="14486"/>
                </a:cubicBezTo>
                <a:cubicBezTo>
                  <a:pt x="18578" y="14552"/>
                  <a:pt x="18583" y="14585"/>
                  <a:pt x="18628" y="14660"/>
                </a:cubicBezTo>
                <a:cubicBezTo>
                  <a:pt x="18651" y="14699"/>
                  <a:pt x="18714" y="14684"/>
                  <a:pt x="18752" y="14684"/>
                </a:cubicBezTo>
                <a:cubicBezTo>
                  <a:pt x="18784" y="14684"/>
                  <a:pt x="18838" y="14641"/>
                  <a:pt x="18852" y="14610"/>
                </a:cubicBezTo>
                <a:cubicBezTo>
                  <a:pt x="18873" y="14562"/>
                  <a:pt x="18876" y="14520"/>
                  <a:pt x="18876" y="14461"/>
                </a:cubicBezTo>
                <a:cubicBezTo>
                  <a:pt x="18876" y="14404"/>
                  <a:pt x="18839" y="14374"/>
                  <a:pt x="18802" y="14337"/>
                </a:cubicBezTo>
                <a:cubicBezTo>
                  <a:pt x="18753" y="14288"/>
                  <a:pt x="18718" y="14288"/>
                  <a:pt x="18653" y="14288"/>
                </a:cubicBezTo>
                <a:cubicBezTo>
                  <a:pt x="18628" y="14288"/>
                  <a:pt x="18604" y="14288"/>
                  <a:pt x="18579" y="14288"/>
                </a:cubicBezTo>
              </a:path>
              <a:path w="4664" h="1266">
                <a:moveTo>
                  <a:pt x="19124" y="14015"/>
                </a:moveTo>
                <a:cubicBezTo>
                  <a:pt x="19094" y="14068"/>
                  <a:pt x="19063" y="14141"/>
                  <a:pt x="19025" y="14188"/>
                </a:cubicBezTo>
                <a:cubicBezTo>
                  <a:pt x="18982" y="14241"/>
                  <a:pt x="18942" y="14286"/>
                  <a:pt x="18901" y="14337"/>
                </a:cubicBezTo>
              </a:path>
              <a:path w="4664" h="1266">
                <a:moveTo>
                  <a:pt x="18926" y="14387"/>
                </a:moveTo>
                <a:cubicBezTo>
                  <a:pt x="19028" y="14363"/>
                  <a:pt x="19080" y="14363"/>
                  <a:pt x="19174" y="14387"/>
                </a:cubicBezTo>
                <a:cubicBezTo>
                  <a:pt x="19205" y="14395"/>
                  <a:pt x="19235" y="14439"/>
                  <a:pt x="19224" y="14486"/>
                </a:cubicBezTo>
                <a:cubicBezTo>
                  <a:pt x="19203" y="14576"/>
                  <a:pt x="19124" y="14615"/>
                  <a:pt x="19075" y="14684"/>
                </a:cubicBezTo>
                <a:cubicBezTo>
                  <a:pt x="19047" y="14723"/>
                  <a:pt x="19035" y="14749"/>
                  <a:pt x="19000" y="14784"/>
                </a:cubicBezTo>
              </a:path>
              <a:path w="4664" h="1266">
                <a:moveTo>
                  <a:pt x="19496" y="14064"/>
                </a:moveTo>
                <a:cubicBezTo>
                  <a:pt x="19567" y="14036"/>
                  <a:pt x="19597" y="14015"/>
                  <a:pt x="19670" y="14015"/>
                </a:cubicBezTo>
                <a:cubicBezTo>
                  <a:pt x="19740" y="14015"/>
                  <a:pt x="19815" y="14031"/>
                  <a:pt x="19869" y="13990"/>
                </a:cubicBezTo>
              </a:path>
              <a:path w="4664" h="1266">
                <a:moveTo>
                  <a:pt x="19472" y="14064"/>
                </a:moveTo>
                <a:cubicBezTo>
                  <a:pt x="19428" y="14093"/>
                  <a:pt x="19394" y="14134"/>
                  <a:pt x="19372" y="14188"/>
                </a:cubicBezTo>
                <a:cubicBezTo>
                  <a:pt x="19366" y="14203"/>
                  <a:pt x="19326" y="14319"/>
                  <a:pt x="19348" y="14337"/>
                </a:cubicBezTo>
                <a:cubicBezTo>
                  <a:pt x="19371" y="14356"/>
                  <a:pt x="19379" y="14362"/>
                  <a:pt x="19422" y="14362"/>
                </a:cubicBezTo>
                <a:cubicBezTo>
                  <a:pt x="19469" y="14362"/>
                  <a:pt x="19501" y="14340"/>
                  <a:pt x="19546" y="14337"/>
                </a:cubicBezTo>
                <a:cubicBezTo>
                  <a:pt x="19620" y="14332"/>
                  <a:pt x="19764" y="14313"/>
                  <a:pt x="19819" y="14362"/>
                </a:cubicBezTo>
                <a:cubicBezTo>
                  <a:pt x="19849" y="14388"/>
                  <a:pt x="19856" y="14446"/>
                  <a:pt x="19844" y="14486"/>
                </a:cubicBezTo>
                <a:cubicBezTo>
                  <a:pt x="19816" y="14581"/>
                  <a:pt x="19688" y="14700"/>
                  <a:pt x="19621" y="14759"/>
                </a:cubicBezTo>
                <a:cubicBezTo>
                  <a:pt x="19589" y="14787"/>
                  <a:pt x="19535" y="14800"/>
                  <a:pt x="19496" y="14808"/>
                </a:cubicBezTo>
              </a:path>
              <a:path w="4664" h="1266">
                <a:moveTo>
                  <a:pt x="19968" y="14064"/>
                </a:moveTo>
                <a:cubicBezTo>
                  <a:pt x="19950" y="14147"/>
                  <a:pt x="19923" y="14230"/>
                  <a:pt x="19918" y="14312"/>
                </a:cubicBezTo>
                <a:cubicBezTo>
                  <a:pt x="19914" y="14386"/>
                  <a:pt x="19917" y="14430"/>
                  <a:pt x="19968" y="14486"/>
                </a:cubicBezTo>
                <a:cubicBezTo>
                  <a:pt x="19998" y="14519"/>
                  <a:pt x="20024" y="14555"/>
                  <a:pt x="20067" y="14560"/>
                </a:cubicBezTo>
                <a:cubicBezTo>
                  <a:pt x="20110" y="14565"/>
                  <a:pt x="20134" y="14564"/>
                  <a:pt x="20166" y="14536"/>
                </a:cubicBezTo>
                <a:cubicBezTo>
                  <a:pt x="20207" y="14500"/>
                  <a:pt x="20191" y="14438"/>
                  <a:pt x="20191" y="14387"/>
                </a:cubicBezTo>
                <a:cubicBezTo>
                  <a:pt x="20191" y="14358"/>
                  <a:pt x="20165" y="14260"/>
                  <a:pt x="20141" y="14238"/>
                </a:cubicBezTo>
                <a:cubicBezTo>
                  <a:pt x="20097" y="14197"/>
                  <a:pt x="20073" y="14184"/>
                  <a:pt x="20042" y="14139"/>
                </a:cubicBezTo>
                <a:cubicBezTo>
                  <a:pt x="19999" y="14096"/>
                  <a:pt x="20002" y="14065"/>
                  <a:pt x="20067" y="14015"/>
                </a:cubicBezTo>
              </a:path>
              <a:path w="4664" h="1266">
                <a:moveTo>
                  <a:pt x="20141" y="13841"/>
                </a:moveTo>
                <a:cubicBezTo>
                  <a:pt x="20141" y="13915"/>
                  <a:pt x="20128" y="13937"/>
                  <a:pt x="20166" y="13965"/>
                </a:cubicBezTo>
                <a:cubicBezTo>
                  <a:pt x="20174" y="13973"/>
                  <a:pt x="20183" y="13982"/>
                  <a:pt x="20191" y="13990"/>
                </a:cubicBezTo>
                <a:cubicBezTo>
                  <a:pt x="20207" y="13985"/>
                  <a:pt x="20252" y="13967"/>
                  <a:pt x="20265" y="13940"/>
                </a:cubicBezTo>
                <a:cubicBezTo>
                  <a:pt x="20279" y="13911"/>
                  <a:pt x="20313" y="13866"/>
                  <a:pt x="20265" y="13841"/>
                </a:cubicBezTo>
                <a:cubicBezTo>
                  <a:pt x="20233" y="13825"/>
                  <a:pt x="20206" y="13816"/>
                  <a:pt x="20166" y="13816"/>
                </a:cubicBezTo>
              </a:path>
              <a:path w="4664" h="1266">
                <a:moveTo>
                  <a:pt x="20662" y="14089"/>
                </a:moveTo>
                <a:cubicBezTo>
                  <a:pt x="20720" y="14114"/>
                  <a:pt x="20747" y="14114"/>
                  <a:pt x="20811" y="14114"/>
                </a:cubicBezTo>
                <a:cubicBezTo>
                  <a:pt x="20828" y="14114"/>
                  <a:pt x="20844" y="14114"/>
                  <a:pt x="20861" y="14114"/>
                </a:cubicBezTo>
              </a:path>
              <a:path w="4664" h="1266">
                <a:moveTo>
                  <a:pt x="20687" y="14263"/>
                </a:moveTo>
                <a:cubicBezTo>
                  <a:pt x="20755" y="14263"/>
                  <a:pt x="20805" y="14249"/>
                  <a:pt x="20861" y="14238"/>
                </a:cubicBezTo>
                <a:cubicBezTo>
                  <a:pt x="20905" y="14238"/>
                  <a:pt x="20919" y="14241"/>
                  <a:pt x="20935" y="14213"/>
                </a:cubicBezTo>
              </a:path>
              <a:path w="4664" h="1266">
                <a:moveTo>
                  <a:pt x="21307" y="13866"/>
                </a:moveTo>
                <a:cubicBezTo>
                  <a:pt x="21307" y="13950"/>
                  <a:pt x="21292" y="14013"/>
                  <a:pt x="21282" y="14089"/>
                </a:cubicBezTo>
                <a:cubicBezTo>
                  <a:pt x="21270" y="14179"/>
                  <a:pt x="21270" y="14273"/>
                  <a:pt x="21258" y="14362"/>
                </a:cubicBezTo>
                <a:cubicBezTo>
                  <a:pt x="21250" y="14426"/>
                  <a:pt x="21237" y="14497"/>
                  <a:pt x="21233" y="14560"/>
                </a:cubicBezTo>
                <a:cubicBezTo>
                  <a:pt x="21233" y="14605"/>
                  <a:pt x="21230" y="14618"/>
                  <a:pt x="21258" y="14635"/>
                </a:cubicBezTo>
              </a:path>
              <a:path w="4664" h="1266">
                <a:moveTo>
                  <a:pt x="21654" y="13866"/>
                </a:moveTo>
                <a:cubicBezTo>
                  <a:pt x="21686" y="13852"/>
                  <a:pt x="21750" y="13822"/>
                  <a:pt x="21779" y="13816"/>
                </a:cubicBezTo>
                <a:cubicBezTo>
                  <a:pt x="21866" y="13797"/>
                  <a:pt x="21950" y="13837"/>
                  <a:pt x="22027" y="13791"/>
                </a:cubicBezTo>
              </a:path>
              <a:path w="4664" h="1266">
                <a:moveTo>
                  <a:pt x="21729" y="13767"/>
                </a:moveTo>
                <a:cubicBezTo>
                  <a:pt x="21680" y="13829"/>
                  <a:pt x="21685" y="13847"/>
                  <a:pt x="21654" y="13915"/>
                </a:cubicBezTo>
                <a:cubicBezTo>
                  <a:pt x="21642" y="13941"/>
                  <a:pt x="21619" y="13981"/>
                  <a:pt x="21630" y="14015"/>
                </a:cubicBezTo>
                <a:cubicBezTo>
                  <a:pt x="21640" y="14046"/>
                  <a:pt x="21648" y="14055"/>
                  <a:pt x="21679" y="14064"/>
                </a:cubicBezTo>
                <a:cubicBezTo>
                  <a:pt x="21732" y="14079"/>
                  <a:pt x="21766" y="14045"/>
                  <a:pt x="21803" y="14039"/>
                </a:cubicBezTo>
                <a:cubicBezTo>
                  <a:pt x="21889" y="14026"/>
                  <a:pt x="21980" y="14050"/>
                  <a:pt x="22051" y="14064"/>
                </a:cubicBezTo>
                <a:cubicBezTo>
                  <a:pt x="22116" y="14077"/>
                  <a:pt x="22157" y="14124"/>
                  <a:pt x="22175" y="14188"/>
                </a:cubicBezTo>
                <a:cubicBezTo>
                  <a:pt x="22190" y="14241"/>
                  <a:pt x="22124" y="14315"/>
                  <a:pt x="22101" y="14362"/>
                </a:cubicBezTo>
                <a:cubicBezTo>
                  <a:pt x="22042" y="14479"/>
                  <a:pt x="21930" y="14526"/>
                  <a:pt x="21828" y="14585"/>
                </a:cubicBezTo>
                <a:cubicBezTo>
                  <a:pt x="21745" y="14633"/>
                  <a:pt x="21666" y="14727"/>
                  <a:pt x="21580" y="14759"/>
                </a:cubicBezTo>
                <a:cubicBezTo>
                  <a:pt x="21535" y="14759"/>
                  <a:pt x="21522" y="14755"/>
                  <a:pt x="21506" y="147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5938920"/>
            <a:ext cx="1098360" cy="527040"/>
          </a:xfrm>
          <a:custGeom>
            <a:avLst/>
            <a:gdLst/>
            <a:ahLst/>
            <a:rect l="l" t="t" r="r" b="b"/>
            <a:pathLst>
              <a:path w="3052" h="1465">
                <a:moveTo>
                  <a:pt x="18628" y="17165"/>
                </a:moveTo>
                <a:cubicBezTo>
                  <a:pt x="18639" y="17209"/>
                  <a:pt x="18669" y="17230"/>
                  <a:pt x="18703" y="17264"/>
                </a:cubicBezTo>
                <a:cubicBezTo>
                  <a:pt x="18783" y="17345"/>
                  <a:pt x="18852" y="17426"/>
                  <a:pt x="18926" y="17512"/>
                </a:cubicBezTo>
                <a:cubicBezTo>
                  <a:pt x="18996" y="17593"/>
                  <a:pt x="19009" y="17661"/>
                  <a:pt x="19050" y="17760"/>
                </a:cubicBezTo>
                <a:cubicBezTo>
                  <a:pt x="19084" y="17843"/>
                  <a:pt x="19090" y="17909"/>
                  <a:pt x="19149" y="17959"/>
                </a:cubicBezTo>
                <a:cubicBezTo>
                  <a:pt x="19173" y="17911"/>
                  <a:pt x="19181" y="17896"/>
                  <a:pt x="19174" y="17859"/>
                </a:cubicBezTo>
              </a:path>
              <a:path w="3052" h="1465">
                <a:moveTo>
                  <a:pt x="19149" y="16768"/>
                </a:moveTo>
                <a:cubicBezTo>
                  <a:pt x="19064" y="16900"/>
                  <a:pt x="18996" y="17025"/>
                  <a:pt x="18926" y="17165"/>
                </a:cubicBezTo>
                <a:cubicBezTo>
                  <a:pt x="18849" y="17317"/>
                  <a:pt x="18791" y="17478"/>
                  <a:pt x="18728" y="17636"/>
                </a:cubicBezTo>
                <a:cubicBezTo>
                  <a:pt x="18682" y="17750"/>
                  <a:pt x="18662" y="17838"/>
                  <a:pt x="18653" y="17959"/>
                </a:cubicBezTo>
              </a:path>
              <a:path w="3052" h="1465">
                <a:moveTo>
                  <a:pt x="19546" y="17214"/>
                </a:moveTo>
                <a:cubicBezTo>
                  <a:pt x="19636" y="17239"/>
                  <a:pt x="19704" y="17239"/>
                  <a:pt x="19794" y="17214"/>
                </a:cubicBezTo>
                <a:cubicBezTo>
                  <a:pt x="19873" y="17192"/>
                  <a:pt x="19931" y="17190"/>
                  <a:pt x="20017" y="17190"/>
                </a:cubicBezTo>
                <a:cubicBezTo>
                  <a:pt x="20092" y="17190"/>
                  <a:pt x="20166" y="17190"/>
                  <a:pt x="20241" y="17190"/>
                </a:cubicBezTo>
              </a:path>
              <a:path w="3052" h="1465">
                <a:moveTo>
                  <a:pt x="19819" y="17611"/>
                </a:moveTo>
                <a:cubicBezTo>
                  <a:pt x="19889" y="17611"/>
                  <a:pt x="19935" y="17616"/>
                  <a:pt x="19993" y="17636"/>
                </a:cubicBezTo>
                <a:cubicBezTo>
                  <a:pt x="20035" y="17650"/>
                  <a:pt x="20052" y="17693"/>
                  <a:pt x="20092" y="17711"/>
                </a:cubicBezTo>
                <a:cubicBezTo>
                  <a:pt x="20100" y="17711"/>
                  <a:pt x="20109" y="17711"/>
                  <a:pt x="20117" y="17711"/>
                </a:cubicBezTo>
              </a:path>
              <a:path w="3052" h="1465">
                <a:moveTo>
                  <a:pt x="20910" y="16768"/>
                </a:moveTo>
                <a:cubicBezTo>
                  <a:pt x="20938" y="16777"/>
                  <a:pt x="20969" y="16791"/>
                  <a:pt x="21010" y="16818"/>
                </a:cubicBezTo>
                <a:cubicBezTo>
                  <a:pt x="21036" y="16835"/>
                  <a:pt x="21068" y="16868"/>
                  <a:pt x="21084" y="16917"/>
                </a:cubicBezTo>
                <a:cubicBezTo>
                  <a:pt x="21107" y="16985"/>
                  <a:pt x="21091" y="17024"/>
                  <a:pt x="21084" y="17090"/>
                </a:cubicBezTo>
                <a:cubicBezTo>
                  <a:pt x="21071" y="17215"/>
                  <a:pt x="21026" y="17304"/>
                  <a:pt x="20960" y="17413"/>
                </a:cubicBezTo>
                <a:cubicBezTo>
                  <a:pt x="20915" y="17488"/>
                  <a:pt x="20851" y="17604"/>
                  <a:pt x="20786" y="17661"/>
                </a:cubicBezTo>
                <a:cubicBezTo>
                  <a:pt x="20742" y="17699"/>
                  <a:pt x="20690" y="17704"/>
                  <a:pt x="20638" y="17711"/>
                </a:cubicBezTo>
                <a:cubicBezTo>
                  <a:pt x="20606" y="17669"/>
                  <a:pt x="20613" y="17643"/>
                  <a:pt x="20613" y="17587"/>
                </a:cubicBezTo>
                <a:cubicBezTo>
                  <a:pt x="20613" y="17532"/>
                  <a:pt x="20629" y="17434"/>
                  <a:pt x="20662" y="17388"/>
                </a:cubicBezTo>
                <a:cubicBezTo>
                  <a:pt x="20722" y="17304"/>
                  <a:pt x="20737" y="17289"/>
                  <a:pt x="20836" y="17289"/>
                </a:cubicBezTo>
                <a:cubicBezTo>
                  <a:pt x="20917" y="17289"/>
                  <a:pt x="20961" y="17388"/>
                  <a:pt x="20985" y="17462"/>
                </a:cubicBezTo>
                <a:cubicBezTo>
                  <a:pt x="21026" y="17588"/>
                  <a:pt x="20985" y="17738"/>
                  <a:pt x="21034" y="17859"/>
                </a:cubicBezTo>
                <a:cubicBezTo>
                  <a:pt x="21060" y="17924"/>
                  <a:pt x="21111" y="17858"/>
                  <a:pt x="21134" y="17835"/>
                </a:cubicBezTo>
              </a:path>
              <a:path w="3052" h="1465">
                <a:moveTo>
                  <a:pt x="21357" y="16694"/>
                </a:moveTo>
                <a:cubicBezTo>
                  <a:pt x="21384" y="16644"/>
                  <a:pt x="21439" y="16518"/>
                  <a:pt x="21506" y="16495"/>
                </a:cubicBezTo>
                <a:cubicBezTo>
                  <a:pt x="21538" y="16484"/>
                  <a:pt x="21610" y="16501"/>
                  <a:pt x="21630" y="16520"/>
                </a:cubicBezTo>
                <a:cubicBezTo>
                  <a:pt x="21671" y="16559"/>
                  <a:pt x="21695" y="16639"/>
                  <a:pt x="21679" y="16694"/>
                </a:cubicBezTo>
                <a:cubicBezTo>
                  <a:pt x="21660" y="16761"/>
                  <a:pt x="21619" y="16884"/>
                  <a:pt x="21580" y="16942"/>
                </a:cubicBezTo>
                <a:cubicBezTo>
                  <a:pt x="21542" y="16998"/>
                  <a:pt x="21499" y="17062"/>
                  <a:pt x="21456" y="17115"/>
                </a:cubicBezTo>
                <a:cubicBezTo>
                  <a:pt x="21426" y="17152"/>
                  <a:pt x="21472" y="17079"/>
                  <a:pt x="21481" y="17066"/>
                </a:cubicBezTo>
                <a:cubicBezTo>
                  <a:pt x="21505" y="17034"/>
                  <a:pt x="21569" y="17012"/>
                  <a:pt x="21605" y="16991"/>
                </a:cubicBezTo>
                <a:cubicBezTo>
                  <a:pt x="21625" y="17025"/>
                  <a:pt x="21640" y="17045"/>
                  <a:pt x="21630" y="17090"/>
                </a:cubicBezTo>
                <a:cubicBezTo>
                  <a:pt x="21616" y="17152"/>
                  <a:pt x="21544" y="17267"/>
                  <a:pt x="21506" y="17314"/>
                </a:cubicBezTo>
                <a:cubicBezTo>
                  <a:pt x="21418" y="17422"/>
                  <a:pt x="21322" y="17528"/>
                  <a:pt x="21233" y="17636"/>
                </a:cubicBezTo>
                <a:cubicBezTo>
                  <a:pt x="21198" y="17679"/>
                  <a:pt x="21168" y="17717"/>
                  <a:pt x="21134" y="177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29120" y="4116240"/>
            <a:ext cx="830160" cy="1251000"/>
          </a:xfrm>
          <a:custGeom>
            <a:avLst/>
            <a:gdLst/>
            <a:ahLst/>
            <a:rect l="l" t="t" r="r" b="b"/>
            <a:pathLst>
              <a:path w="2308" h="3474">
                <a:moveTo>
                  <a:pt x="13692" y="12849"/>
                </a:moveTo>
                <a:cubicBezTo>
                  <a:pt x="13791" y="12828"/>
                  <a:pt x="13893" y="12821"/>
                  <a:pt x="13990" y="12799"/>
                </a:cubicBezTo>
                <a:cubicBezTo>
                  <a:pt x="14172" y="12758"/>
                  <a:pt x="14335" y="12679"/>
                  <a:pt x="14511" y="12626"/>
                </a:cubicBezTo>
                <a:cubicBezTo>
                  <a:pt x="14636" y="12588"/>
                  <a:pt x="14744" y="12539"/>
                  <a:pt x="14858" y="12477"/>
                </a:cubicBezTo>
                <a:cubicBezTo>
                  <a:pt x="14928" y="12439"/>
                  <a:pt x="15000" y="12413"/>
                  <a:pt x="15056" y="12378"/>
                </a:cubicBezTo>
                <a:cubicBezTo>
                  <a:pt x="15082" y="12361"/>
                  <a:pt x="15135" y="12368"/>
                  <a:pt x="15131" y="12328"/>
                </a:cubicBezTo>
                <a:cubicBezTo>
                  <a:pt x="15108" y="12305"/>
                  <a:pt x="15100" y="12301"/>
                  <a:pt x="15106" y="12278"/>
                </a:cubicBezTo>
              </a:path>
              <a:path w="2308" h="3474">
                <a:moveTo>
                  <a:pt x="14982" y="11832"/>
                </a:moveTo>
                <a:cubicBezTo>
                  <a:pt x="15064" y="11772"/>
                  <a:pt x="15150" y="11737"/>
                  <a:pt x="15230" y="11683"/>
                </a:cubicBezTo>
                <a:cubicBezTo>
                  <a:pt x="15314" y="11627"/>
                  <a:pt x="15388" y="11606"/>
                  <a:pt x="15478" y="11559"/>
                </a:cubicBezTo>
                <a:cubicBezTo>
                  <a:pt x="15568" y="11512"/>
                  <a:pt x="15620" y="11464"/>
                  <a:pt x="15726" y="11460"/>
                </a:cubicBezTo>
                <a:cubicBezTo>
                  <a:pt x="15800" y="11457"/>
                  <a:pt x="15852" y="11435"/>
                  <a:pt x="15925" y="11435"/>
                </a:cubicBezTo>
                <a:cubicBezTo>
                  <a:pt x="15958" y="11435"/>
                  <a:pt x="16007" y="11435"/>
                  <a:pt x="15974" y="11435"/>
                </a:cubicBezTo>
              </a:path>
              <a:path w="2308" h="3474">
                <a:moveTo>
                  <a:pt x="13990" y="14139"/>
                </a:moveTo>
                <a:cubicBezTo>
                  <a:pt x="14094" y="14139"/>
                  <a:pt x="14186" y="14158"/>
                  <a:pt x="14288" y="14163"/>
                </a:cubicBezTo>
                <a:cubicBezTo>
                  <a:pt x="14337" y="14163"/>
                  <a:pt x="14354" y="14163"/>
                  <a:pt x="14387" y="14163"/>
                </a:cubicBezTo>
              </a:path>
              <a:path w="2308" h="3474">
                <a:moveTo>
                  <a:pt x="13965" y="14337"/>
                </a:moveTo>
                <a:cubicBezTo>
                  <a:pt x="14038" y="14405"/>
                  <a:pt x="14146" y="14516"/>
                  <a:pt x="14263" y="14511"/>
                </a:cubicBezTo>
                <a:cubicBezTo>
                  <a:pt x="14279" y="14503"/>
                  <a:pt x="14296" y="14494"/>
                  <a:pt x="14312" y="14486"/>
                </a:cubicBezTo>
              </a:path>
              <a:path w="2308" h="3474">
                <a:moveTo>
                  <a:pt x="14560" y="14015"/>
                </a:moveTo>
                <a:cubicBezTo>
                  <a:pt x="14629" y="14093"/>
                  <a:pt x="14643" y="14183"/>
                  <a:pt x="14709" y="14263"/>
                </a:cubicBezTo>
                <a:cubicBezTo>
                  <a:pt x="14802" y="14377"/>
                  <a:pt x="14919" y="14464"/>
                  <a:pt x="15007" y="14585"/>
                </a:cubicBezTo>
                <a:cubicBezTo>
                  <a:pt x="15069" y="14669"/>
                  <a:pt x="15148" y="14822"/>
                  <a:pt x="15255" y="14858"/>
                </a:cubicBezTo>
                <a:cubicBezTo>
                  <a:pt x="15280" y="14858"/>
                  <a:pt x="15304" y="14858"/>
                  <a:pt x="15329" y="14858"/>
                </a:cubicBezTo>
              </a:path>
              <a:path w="2308" h="3474">
                <a:moveTo>
                  <a:pt x="15032" y="14089"/>
                </a:moveTo>
                <a:cubicBezTo>
                  <a:pt x="14826" y="14288"/>
                  <a:pt x="14791" y="14360"/>
                  <a:pt x="14660" y="14585"/>
                </a:cubicBezTo>
                <a:cubicBezTo>
                  <a:pt x="14600" y="14689"/>
                  <a:pt x="14562" y="14796"/>
                  <a:pt x="14511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Lesson 4.4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45720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to find reference angle and evaluate trigonometric functions using a calculator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Arial"/>
              </a:rPr>
              <a:t>Know your “trigonometric” quadrants</a:t>
            </a:r>
            <a:endParaRPr b="0" lang="en-US" sz="5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297180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4343400"/>
            <a:ext cx="4419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3200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+,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2767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-,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4648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-,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72428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+,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687840"/>
            <a:ext cx="473400" cy="376200"/>
          </a:xfrm>
          <a:custGeom>
            <a:avLst/>
            <a:gdLst/>
            <a:ahLst/>
            <a:rect l="l" t="t" r="r" b="b"/>
            <a:pathLst>
              <a:path w="1316" h="1043">
                <a:moveTo>
                  <a:pt x="13494" y="10294"/>
                </a:moveTo>
                <a:cubicBezTo>
                  <a:pt x="13494" y="10455"/>
                  <a:pt x="13495" y="10612"/>
                  <a:pt x="13519" y="10765"/>
                </a:cubicBezTo>
                <a:cubicBezTo>
                  <a:pt x="13529" y="10831"/>
                  <a:pt x="13533" y="10900"/>
                  <a:pt x="13543" y="10964"/>
                </a:cubicBezTo>
                <a:cubicBezTo>
                  <a:pt x="13553" y="11026"/>
                  <a:pt x="13540" y="11081"/>
                  <a:pt x="13519" y="11137"/>
                </a:cubicBezTo>
              </a:path>
              <a:path w="1316" h="1043">
                <a:moveTo>
                  <a:pt x="12948" y="11187"/>
                </a:moveTo>
                <a:cubicBezTo>
                  <a:pt x="13074" y="11208"/>
                  <a:pt x="13196" y="11194"/>
                  <a:pt x="13320" y="11212"/>
                </a:cubicBezTo>
                <a:cubicBezTo>
                  <a:pt x="13459" y="11232"/>
                  <a:pt x="13601" y="11251"/>
                  <a:pt x="13742" y="11261"/>
                </a:cubicBezTo>
                <a:cubicBezTo>
                  <a:pt x="13859" y="11270"/>
                  <a:pt x="13974" y="11282"/>
                  <a:pt x="14089" y="11286"/>
                </a:cubicBezTo>
                <a:cubicBezTo>
                  <a:pt x="14139" y="11288"/>
                  <a:pt x="14242" y="11302"/>
                  <a:pt x="14213" y="11261"/>
                </a:cubicBezTo>
                <a:cubicBezTo>
                  <a:pt x="14196" y="11245"/>
                  <a:pt x="14180" y="11228"/>
                  <a:pt x="14163" y="11212"/>
                </a:cubicBezTo>
              </a:path>
              <a:path w="1316" h="1043">
                <a:moveTo>
                  <a:pt x="12898" y="10269"/>
                </a:moveTo>
                <a:cubicBezTo>
                  <a:pt x="13235" y="10269"/>
                  <a:pt x="13612" y="10320"/>
                  <a:pt x="13940" y="10294"/>
                </a:cubicBezTo>
                <a:cubicBezTo>
                  <a:pt x="14001" y="10289"/>
                  <a:pt x="14034" y="10274"/>
                  <a:pt x="14015" y="102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4200" y="3054240"/>
            <a:ext cx="581040" cy="490680"/>
          </a:xfrm>
          <a:custGeom>
            <a:avLst/>
            <a:gdLst/>
            <a:ahLst/>
            <a:rect l="l" t="t" r="r" b="b"/>
            <a:pathLst>
              <a:path w="1613" h="1365">
                <a:moveTo>
                  <a:pt x="7689" y="8607"/>
                </a:moveTo>
                <a:cubicBezTo>
                  <a:pt x="7689" y="8736"/>
                  <a:pt x="7702" y="8855"/>
                  <a:pt x="7714" y="8979"/>
                </a:cubicBezTo>
                <a:cubicBezTo>
                  <a:pt x="7735" y="9206"/>
                  <a:pt x="7714" y="9445"/>
                  <a:pt x="7714" y="9674"/>
                </a:cubicBezTo>
              </a:path>
              <a:path w="1613" h="1365">
                <a:moveTo>
                  <a:pt x="8136" y="8607"/>
                </a:moveTo>
                <a:cubicBezTo>
                  <a:pt x="8142" y="8745"/>
                  <a:pt x="8173" y="8871"/>
                  <a:pt x="8186" y="9004"/>
                </a:cubicBezTo>
                <a:cubicBezTo>
                  <a:pt x="8198" y="9133"/>
                  <a:pt x="8242" y="9250"/>
                  <a:pt x="8260" y="9376"/>
                </a:cubicBezTo>
                <a:cubicBezTo>
                  <a:pt x="8273" y="9466"/>
                  <a:pt x="8286" y="9563"/>
                  <a:pt x="8310" y="9649"/>
                </a:cubicBezTo>
                <a:cubicBezTo>
                  <a:pt x="8325" y="9703"/>
                  <a:pt x="8379" y="9776"/>
                  <a:pt x="8334" y="9823"/>
                </a:cubicBezTo>
                <a:cubicBezTo>
                  <a:pt x="8326" y="9823"/>
                  <a:pt x="8318" y="9823"/>
                  <a:pt x="8310" y="9823"/>
                </a:cubicBezTo>
              </a:path>
              <a:path w="1613" h="1365">
                <a:moveTo>
                  <a:pt x="7441" y="9798"/>
                </a:moveTo>
                <a:cubicBezTo>
                  <a:pt x="7518" y="9827"/>
                  <a:pt x="7581" y="9823"/>
                  <a:pt x="7665" y="9823"/>
                </a:cubicBezTo>
                <a:cubicBezTo>
                  <a:pt x="7807" y="9823"/>
                  <a:pt x="7942" y="9847"/>
                  <a:pt x="8086" y="9847"/>
                </a:cubicBezTo>
                <a:cubicBezTo>
                  <a:pt x="8288" y="9847"/>
                  <a:pt x="8484" y="9851"/>
                  <a:pt x="8682" y="9823"/>
                </a:cubicBezTo>
                <a:cubicBezTo>
                  <a:pt x="8690" y="9823"/>
                  <a:pt x="8698" y="9823"/>
                  <a:pt x="8706" y="9823"/>
                </a:cubicBezTo>
                <a:cubicBezTo>
                  <a:pt x="8695" y="9746"/>
                  <a:pt x="8666" y="9732"/>
                  <a:pt x="8607" y="9674"/>
                </a:cubicBezTo>
              </a:path>
              <a:path w="1613" h="1365">
                <a:moveTo>
                  <a:pt x="7094" y="8657"/>
                </a:moveTo>
                <a:cubicBezTo>
                  <a:pt x="7237" y="8609"/>
                  <a:pt x="7390" y="8549"/>
                  <a:pt x="7541" y="8533"/>
                </a:cubicBezTo>
                <a:cubicBezTo>
                  <a:pt x="7698" y="8516"/>
                  <a:pt x="7853" y="8508"/>
                  <a:pt x="8012" y="8508"/>
                </a:cubicBezTo>
                <a:cubicBezTo>
                  <a:pt x="8161" y="8508"/>
                  <a:pt x="8464" y="8646"/>
                  <a:pt x="8409" y="8508"/>
                </a:cubicBezTo>
                <a:cubicBezTo>
                  <a:pt x="8409" y="8500"/>
                  <a:pt x="8409" y="8491"/>
                  <a:pt x="8409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20920" y="5170320"/>
            <a:ext cx="831960" cy="455760"/>
          </a:xfrm>
          <a:custGeom>
            <a:avLst/>
            <a:gdLst/>
            <a:ahLst/>
            <a:rect l="l" t="t" r="r" b="b"/>
            <a:pathLst>
              <a:path w="2308" h="1266">
                <a:moveTo>
                  <a:pt x="7367" y="14412"/>
                </a:moveTo>
                <a:cubicBezTo>
                  <a:pt x="7367" y="14532"/>
                  <a:pt x="7355" y="14643"/>
                  <a:pt x="7342" y="14759"/>
                </a:cubicBezTo>
                <a:cubicBezTo>
                  <a:pt x="7316" y="14988"/>
                  <a:pt x="7342" y="15223"/>
                  <a:pt x="7317" y="15453"/>
                </a:cubicBezTo>
                <a:cubicBezTo>
                  <a:pt x="7312" y="15498"/>
                  <a:pt x="7298" y="15555"/>
                  <a:pt x="7317" y="15528"/>
                </a:cubicBezTo>
                <a:cubicBezTo>
                  <a:pt x="7325" y="15520"/>
                  <a:pt x="7334" y="15511"/>
                  <a:pt x="7342" y="15503"/>
                </a:cubicBezTo>
              </a:path>
              <a:path w="2308" h="1266">
                <a:moveTo>
                  <a:pt x="7714" y="14536"/>
                </a:moveTo>
                <a:cubicBezTo>
                  <a:pt x="7728" y="14700"/>
                  <a:pt x="7731" y="14894"/>
                  <a:pt x="7764" y="15056"/>
                </a:cubicBezTo>
                <a:cubicBezTo>
                  <a:pt x="7786" y="15163"/>
                  <a:pt x="7809" y="15269"/>
                  <a:pt x="7813" y="15379"/>
                </a:cubicBezTo>
                <a:cubicBezTo>
                  <a:pt x="7816" y="15456"/>
                  <a:pt x="7817" y="15492"/>
                  <a:pt x="7838" y="15553"/>
                </a:cubicBezTo>
                <a:cubicBezTo>
                  <a:pt x="7838" y="15577"/>
                  <a:pt x="7838" y="15585"/>
                  <a:pt x="7838" y="15553"/>
                </a:cubicBezTo>
              </a:path>
              <a:path w="2308" h="1266">
                <a:moveTo>
                  <a:pt x="8260" y="14511"/>
                </a:moveTo>
                <a:cubicBezTo>
                  <a:pt x="8260" y="14626"/>
                  <a:pt x="8257" y="14723"/>
                  <a:pt x="8285" y="14833"/>
                </a:cubicBezTo>
                <a:cubicBezTo>
                  <a:pt x="8316" y="14957"/>
                  <a:pt x="8323" y="15080"/>
                  <a:pt x="8359" y="15205"/>
                </a:cubicBezTo>
                <a:cubicBezTo>
                  <a:pt x="8391" y="15314"/>
                  <a:pt x="8371" y="15455"/>
                  <a:pt x="8409" y="15553"/>
                </a:cubicBezTo>
                <a:cubicBezTo>
                  <a:pt x="8424" y="15592"/>
                  <a:pt x="8434" y="15581"/>
                  <a:pt x="8434" y="15627"/>
                </a:cubicBezTo>
              </a:path>
              <a:path w="2308" h="1266">
                <a:moveTo>
                  <a:pt x="8756" y="15602"/>
                </a:moveTo>
                <a:cubicBezTo>
                  <a:pt x="8547" y="15602"/>
                  <a:pt x="8341" y="15612"/>
                  <a:pt x="8136" y="15627"/>
                </a:cubicBezTo>
                <a:cubicBezTo>
                  <a:pt x="7916" y="15643"/>
                  <a:pt x="7324" y="15722"/>
                  <a:pt x="7144" y="15602"/>
                </a:cubicBezTo>
                <a:cubicBezTo>
                  <a:pt x="7105" y="15576"/>
                  <a:pt x="7118" y="15603"/>
                  <a:pt x="7144" y="15553"/>
                </a:cubicBezTo>
              </a:path>
              <a:path w="2308" h="1266">
                <a:moveTo>
                  <a:pt x="8458" y="14362"/>
                </a:moveTo>
                <a:cubicBezTo>
                  <a:pt x="8325" y="14362"/>
                  <a:pt x="8215" y="14399"/>
                  <a:pt x="8086" y="14412"/>
                </a:cubicBezTo>
                <a:cubicBezTo>
                  <a:pt x="7842" y="14436"/>
                  <a:pt x="7586" y="14420"/>
                  <a:pt x="7342" y="14436"/>
                </a:cubicBezTo>
                <a:cubicBezTo>
                  <a:pt x="7181" y="14446"/>
                  <a:pt x="7031" y="14439"/>
                  <a:pt x="6871" y="14461"/>
                </a:cubicBezTo>
                <a:cubicBezTo>
                  <a:pt x="6718" y="14482"/>
                  <a:pt x="6590" y="14479"/>
                  <a:pt x="6449" y="145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03880" y="5384880"/>
            <a:ext cx="662040" cy="419040"/>
          </a:xfrm>
          <a:custGeom>
            <a:avLst/>
            <a:gdLst/>
            <a:ahLst/>
            <a:rect l="l" t="t" r="r" b="b"/>
            <a:pathLst>
              <a:path w="1837" h="1167">
                <a:moveTo>
                  <a:pt x="15205" y="15056"/>
                </a:moveTo>
                <a:cubicBezTo>
                  <a:pt x="15205" y="15152"/>
                  <a:pt x="15221" y="15237"/>
                  <a:pt x="15230" y="15329"/>
                </a:cubicBezTo>
                <a:cubicBezTo>
                  <a:pt x="15242" y="15460"/>
                  <a:pt x="15269" y="15573"/>
                  <a:pt x="15304" y="15701"/>
                </a:cubicBezTo>
                <a:cubicBezTo>
                  <a:pt x="15328" y="15788"/>
                  <a:pt x="15349" y="15887"/>
                  <a:pt x="15354" y="15974"/>
                </a:cubicBezTo>
                <a:cubicBezTo>
                  <a:pt x="15354" y="16016"/>
                  <a:pt x="15354" y="16024"/>
                  <a:pt x="15354" y="16049"/>
                </a:cubicBezTo>
                <a:cubicBezTo>
                  <a:pt x="15300" y="16031"/>
                  <a:pt x="15341" y="15957"/>
                  <a:pt x="15354" y="15900"/>
                </a:cubicBezTo>
              </a:path>
              <a:path w="1837" h="1167">
                <a:moveTo>
                  <a:pt x="15553" y="15156"/>
                </a:moveTo>
                <a:cubicBezTo>
                  <a:pt x="15583" y="15317"/>
                  <a:pt x="15618" y="15499"/>
                  <a:pt x="15677" y="15652"/>
                </a:cubicBezTo>
                <a:cubicBezTo>
                  <a:pt x="15721" y="15766"/>
                  <a:pt x="15799" y="15881"/>
                  <a:pt x="15825" y="15999"/>
                </a:cubicBezTo>
                <a:cubicBezTo>
                  <a:pt x="15825" y="16051"/>
                  <a:pt x="15826" y="16069"/>
                  <a:pt x="15850" y="16098"/>
                </a:cubicBezTo>
                <a:cubicBezTo>
                  <a:pt x="15850" y="16046"/>
                  <a:pt x="15854" y="16046"/>
                  <a:pt x="15875" y="15999"/>
                </a:cubicBezTo>
                <a:cubicBezTo>
                  <a:pt x="15918" y="15902"/>
                  <a:pt x="15938" y="15782"/>
                  <a:pt x="15974" y="15677"/>
                </a:cubicBezTo>
                <a:cubicBezTo>
                  <a:pt x="16018" y="15550"/>
                  <a:pt x="16080" y="15432"/>
                  <a:pt x="16123" y="15304"/>
                </a:cubicBezTo>
                <a:cubicBezTo>
                  <a:pt x="16145" y="15237"/>
                  <a:pt x="16170" y="15140"/>
                  <a:pt x="16197" y="15081"/>
                </a:cubicBezTo>
                <a:cubicBezTo>
                  <a:pt x="16212" y="15048"/>
                  <a:pt x="16211" y="15007"/>
                  <a:pt x="16247" y="15007"/>
                </a:cubicBezTo>
                <a:cubicBezTo>
                  <a:pt x="16247" y="15015"/>
                  <a:pt x="16247" y="15024"/>
                  <a:pt x="16247" y="15032"/>
                </a:cubicBezTo>
              </a:path>
              <a:path w="1837" h="1167">
                <a:moveTo>
                  <a:pt x="16421" y="15949"/>
                </a:moveTo>
                <a:cubicBezTo>
                  <a:pt x="16244" y="16007"/>
                  <a:pt x="16085" y="16059"/>
                  <a:pt x="15900" y="16073"/>
                </a:cubicBezTo>
                <a:cubicBezTo>
                  <a:pt x="15766" y="16083"/>
                  <a:pt x="15636" y="16112"/>
                  <a:pt x="15503" y="16123"/>
                </a:cubicBezTo>
                <a:cubicBezTo>
                  <a:pt x="15437" y="16129"/>
                  <a:pt x="15013" y="16149"/>
                  <a:pt x="15007" y="16098"/>
                </a:cubicBezTo>
                <a:cubicBezTo>
                  <a:pt x="15007" y="16090"/>
                  <a:pt x="15007" y="16081"/>
                  <a:pt x="15007" y="16073"/>
                </a:cubicBezTo>
              </a:path>
              <a:path w="1837" h="1167">
                <a:moveTo>
                  <a:pt x="16570" y="15032"/>
                </a:moveTo>
                <a:cubicBezTo>
                  <a:pt x="16404" y="14964"/>
                  <a:pt x="16282" y="14936"/>
                  <a:pt x="16098" y="14957"/>
                </a:cubicBezTo>
                <a:cubicBezTo>
                  <a:pt x="15932" y="14976"/>
                  <a:pt x="15769" y="15022"/>
                  <a:pt x="15602" y="15032"/>
                </a:cubicBezTo>
                <a:cubicBezTo>
                  <a:pt x="15432" y="15042"/>
                  <a:pt x="15250" y="15035"/>
                  <a:pt x="15081" y="15056"/>
                </a:cubicBezTo>
                <a:cubicBezTo>
                  <a:pt x="14934" y="15093"/>
                  <a:pt x="14853" y="15106"/>
                  <a:pt x="14734" y="151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mind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unit circl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=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= y/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= x/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= 1/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= 1/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960" y="3160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09" y="8781"/>
                </a:moveTo>
                <a:lnTo>
                  <a:pt x="2009" y="8781"/>
                </a:lnTo>
              </a:path>
              <a:path w="1" h="1">
                <a:moveTo>
                  <a:pt x="2009" y="8781"/>
                </a:moveTo>
                <a:lnTo>
                  <a:pt x="2009" y="8781"/>
                </a:lnTo>
                <a:lnTo>
                  <a:pt x="2009" y="8781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880" y="4956120"/>
            <a:ext cx="36360" cy="81000"/>
          </a:xfrm>
          <a:custGeom>
            <a:avLst/>
            <a:gdLst/>
            <a:ahLst/>
            <a:rect l="l" t="t" r="r" b="b"/>
            <a:pathLst>
              <a:path w="100" h="224">
                <a:moveTo>
                  <a:pt x="2133" y="13767"/>
                </a:moveTo>
                <a:lnTo>
                  <a:pt x="2133" y="13767"/>
                </a:lnTo>
              </a:path>
              <a:path w="100" h="224">
                <a:moveTo>
                  <a:pt x="2133" y="13767"/>
                </a:moveTo>
                <a:lnTo>
                  <a:pt x="2133" y="13767"/>
                </a:lnTo>
              </a:path>
              <a:path w="100" h="224">
                <a:moveTo>
                  <a:pt x="2133" y="13767"/>
                </a:moveTo>
                <a:lnTo>
                  <a:pt x="2133" y="13767"/>
                </a:lnTo>
              </a:path>
              <a:path w="100" h="224">
                <a:moveTo>
                  <a:pt x="2133" y="13767"/>
                </a:moveTo>
                <a:cubicBezTo>
                  <a:pt x="2125" y="13767"/>
                  <a:pt x="2116" y="13767"/>
                  <a:pt x="2108" y="13767"/>
                </a:cubicBezTo>
              </a:path>
              <a:path w="100" h="224">
                <a:moveTo>
                  <a:pt x="2108" y="13767"/>
                </a:moveTo>
                <a:cubicBezTo>
                  <a:pt x="2133" y="13767"/>
                  <a:pt x="2141" y="13767"/>
                  <a:pt x="2108" y="13767"/>
                </a:cubicBezTo>
              </a:path>
              <a:path w="100" h="224">
                <a:moveTo>
                  <a:pt x="2084" y="13990"/>
                </a:moveTo>
                <a:cubicBezTo>
                  <a:pt x="2084" y="13965"/>
                  <a:pt x="2084" y="13957"/>
                  <a:pt x="2084" y="13990"/>
                </a:cubicBezTo>
              </a:path>
              <a:path w="100" h="224">
                <a:moveTo>
                  <a:pt x="2084" y="13990"/>
                </a:moveTo>
                <a:cubicBezTo>
                  <a:pt x="2084" y="13973"/>
                  <a:pt x="2084" y="13957"/>
                  <a:pt x="2084" y="13940"/>
                </a:cubicBezTo>
              </a:path>
              <a:path w="100" h="224">
                <a:moveTo>
                  <a:pt x="2084" y="13915"/>
                </a:moveTo>
                <a:cubicBezTo>
                  <a:pt x="2084" y="13923"/>
                  <a:pt x="2084" y="13932"/>
                  <a:pt x="2084" y="13940"/>
                </a:cubicBezTo>
              </a:path>
              <a:path w="100" h="224">
                <a:moveTo>
                  <a:pt x="2084" y="13915"/>
                </a:moveTo>
                <a:cubicBezTo>
                  <a:pt x="2076" y="13915"/>
                  <a:pt x="2067" y="13915"/>
                  <a:pt x="2059" y="13915"/>
                </a:cubicBezTo>
              </a:path>
              <a:path w="100" h="224">
                <a:moveTo>
                  <a:pt x="2084" y="13915"/>
                </a:moveTo>
                <a:cubicBezTo>
                  <a:pt x="2067" y="13907"/>
                  <a:pt x="2051" y="13899"/>
                  <a:pt x="2034" y="13891"/>
                </a:cubicBezTo>
              </a:path>
              <a:path w="100" h="224">
                <a:moveTo>
                  <a:pt x="2034" y="13891"/>
                </a:moveTo>
                <a:cubicBezTo>
                  <a:pt x="2042" y="13891"/>
                  <a:pt x="2051" y="13891"/>
                  <a:pt x="2059" y="13891"/>
                </a:cubicBezTo>
              </a:path>
              <a:path w="100" h="224">
                <a:moveTo>
                  <a:pt x="2059" y="13891"/>
                </a:moveTo>
                <a:lnTo>
                  <a:pt x="2059" y="13891"/>
                </a:lnTo>
              </a:path>
              <a:path w="100" h="224">
                <a:moveTo>
                  <a:pt x="2034" y="13816"/>
                </a:moveTo>
                <a:lnTo>
                  <a:pt x="2034" y="13816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e the quadrant that </a:t>
            </a:r>
            <a:r>
              <a:rPr b="0" lang="el-GR" sz="4400" spc="-1" strike="noStrike">
                <a:solidFill>
                  <a:srgbClr val="ccffff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 lies in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&gt; 0 and Cos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&gt;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s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&gt; 0 and Cot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&lt;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n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&gt; 0 and Sec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&lt;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81840" y="1589040"/>
            <a:ext cx="776160" cy="1617840"/>
          </a:xfrm>
          <a:custGeom>
            <a:avLst/>
            <a:gdLst/>
            <a:ahLst/>
            <a:rect l="l" t="t" r="r" b="b"/>
            <a:pathLst>
              <a:path w="2159" h="4491">
                <a:moveTo>
                  <a:pt x="18405" y="4514"/>
                </a:moveTo>
                <a:cubicBezTo>
                  <a:pt x="18405" y="4595"/>
                  <a:pt x="18393" y="4663"/>
                  <a:pt x="18380" y="4738"/>
                </a:cubicBezTo>
                <a:cubicBezTo>
                  <a:pt x="18356" y="4880"/>
                  <a:pt x="18394" y="5029"/>
                  <a:pt x="18355" y="5159"/>
                </a:cubicBezTo>
                <a:cubicBezTo>
                  <a:pt x="18347" y="5186"/>
                  <a:pt x="18355" y="5230"/>
                  <a:pt x="18355" y="5259"/>
                </a:cubicBezTo>
              </a:path>
              <a:path w="2159" h="4491">
                <a:moveTo>
                  <a:pt x="17735" y="5358"/>
                </a:moveTo>
                <a:cubicBezTo>
                  <a:pt x="17802" y="5358"/>
                  <a:pt x="17822" y="5337"/>
                  <a:pt x="17884" y="5333"/>
                </a:cubicBezTo>
                <a:cubicBezTo>
                  <a:pt x="18214" y="5313"/>
                  <a:pt x="19000" y="5604"/>
                  <a:pt x="18852" y="5308"/>
                </a:cubicBezTo>
                <a:cubicBezTo>
                  <a:pt x="18827" y="5283"/>
                  <a:pt x="18819" y="5275"/>
                  <a:pt x="18802" y="5259"/>
                </a:cubicBezTo>
              </a:path>
              <a:path w="2159" h="4491">
                <a:moveTo>
                  <a:pt x="17835" y="4465"/>
                </a:moveTo>
                <a:cubicBezTo>
                  <a:pt x="17979" y="4458"/>
                  <a:pt x="18111" y="4440"/>
                  <a:pt x="18256" y="4440"/>
                </a:cubicBezTo>
                <a:cubicBezTo>
                  <a:pt x="18394" y="4440"/>
                  <a:pt x="18986" y="4511"/>
                  <a:pt x="19050" y="4415"/>
                </a:cubicBezTo>
              </a:path>
              <a:path w="2159" h="4491">
                <a:moveTo>
                  <a:pt x="17810" y="6176"/>
                </a:moveTo>
                <a:cubicBezTo>
                  <a:pt x="17779" y="6287"/>
                  <a:pt x="17798" y="6338"/>
                  <a:pt x="17810" y="6449"/>
                </a:cubicBezTo>
                <a:cubicBezTo>
                  <a:pt x="17832" y="6646"/>
                  <a:pt x="17810" y="7194"/>
                  <a:pt x="17810" y="6995"/>
                </a:cubicBezTo>
                <a:cubicBezTo>
                  <a:pt x="17810" y="6925"/>
                  <a:pt x="17813" y="6920"/>
                  <a:pt x="17835" y="6846"/>
                </a:cubicBezTo>
              </a:path>
              <a:path w="2159" h="4491">
                <a:moveTo>
                  <a:pt x="18058" y="6300"/>
                </a:moveTo>
                <a:cubicBezTo>
                  <a:pt x="18069" y="6401"/>
                  <a:pt x="18069" y="6449"/>
                  <a:pt x="18058" y="6548"/>
                </a:cubicBezTo>
                <a:cubicBezTo>
                  <a:pt x="18044" y="6669"/>
                  <a:pt x="18061" y="6781"/>
                  <a:pt x="18083" y="6896"/>
                </a:cubicBezTo>
                <a:cubicBezTo>
                  <a:pt x="18095" y="6961"/>
                  <a:pt x="18083" y="6970"/>
                  <a:pt x="18132" y="7020"/>
                </a:cubicBezTo>
                <a:cubicBezTo>
                  <a:pt x="18161" y="7010"/>
                  <a:pt x="18197" y="6941"/>
                  <a:pt x="18207" y="6896"/>
                </a:cubicBezTo>
                <a:cubicBezTo>
                  <a:pt x="18223" y="6826"/>
                  <a:pt x="18229" y="6764"/>
                  <a:pt x="18256" y="6697"/>
                </a:cubicBezTo>
                <a:cubicBezTo>
                  <a:pt x="18296" y="6595"/>
                  <a:pt x="18341" y="6490"/>
                  <a:pt x="18405" y="6400"/>
                </a:cubicBezTo>
                <a:cubicBezTo>
                  <a:pt x="18442" y="6348"/>
                  <a:pt x="18494" y="6303"/>
                  <a:pt x="18529" y="6251"/>
                </a:cubicBezTo>
                <a:cubicBezTo>
                  <a:pt x="18551" y="6207"/>
                  <a:pt x="18554" y="6195"/>
                  <a:pt x="18579" y="6176"/>
                </a:cubicBezTo>
              </a:path>
              <a:path w="2159" h="4491">
                <a:moveTo>
                  <a:pt x="17363" y="7045"/>
                </a:moveTo>
                <a:cubicBezTo>
                  <a:pt x="17493" y="7070"/>
                  <a:pt x="17581" y="7049"/>
                  <a:pt x="17711" y="7045"/>
                </a:cubicBezTo>
                <a:cubicBezTo>
                  <a:pt x="17846" y="7041"/>
                  <a:pt x="17974" y="7024"/>
                  <a:pt x="18107" y="7020"/>
                </a:cubicBezTo>
                <a:cubicBezTo>
                  <a:pt x="18248" y="7016"/>
                  <a:pt x="18395" y="6988"/>
                  <a:pt x="18529" y="6970"/>
                </a:cubicBezTo>
                <a:cubicBezTo>
                  <a:pt x="18574" y="6970"/>
                  <a:pt x="18587" y="6973"/>
                  <a:pt x="18604" y="6945"/>
                </a:cubicBezTo>
                <a:cubicBezTo>
                  <a:pt x="18591" y="6894"/>
                  <a:pt x="18544" y="6861"/>
                  <a:pt x="18504" y="6821"/>
                </a:cubicBezTo>
              </a:path>
              <a:path w="2159" h="4491">
                <a:moveTo>
                  <a:pt x="17438" y="6127"/>
                </a:moveTo>
                <a:cubicBezTo>
                  <a:pt x="17544" y="6105"/>
                  <a:pt x="17647" y="6102"/>
                  <a:pt x="17760" y="6102"/>
                </a:cubicBezTo>
                <a:cubicBezTo>
                  <a:pt x="18044" y="6102"/>
                  <a:pt x="18322" y="6108"/>
                  <a:pt x="18604" y="6127"/>
                </a:cubicBezTo>
                <a:cubicBezTo>
                  <a:pt x="18634" y="6129"/>
                  <a:pt x="18877" y="6127"/>
                  <a:pt x="18827" y="6127"/>
                </a:cubicBezTo>
              </a:path>
              <a:path w="2159" h="4491">
                <a:moveTo>
                  <a:pt x="17214" y="7987"/>
                </a:moveTo>
                <a:cubicBezTo>
                  <a:pt x="17214" y="8118"/>
                  <a:pt x="17194" y="8232"/>
                  <a:pt x="17190" y="8359"/>
                </a:cubicBezTo>
                <a:cubicBezTo>
                  <a:pt x="17187" y="8466"/>
                  <a:pt x="17190" y="8575"/>
                  <a:pt x="17190" y="8682"/>
                </a:cubicBezTo>
                <a:cubicBezTo>
                  <a:pt x="17190" y="8796"/>
                  <a:pt x="17209" y="8640"/>
                  <a:pt x="17214" y="8607"/>
                </a:cubicBezTo>
                <a:cubicBezTo>
                  <a:pt x="17214" y="8548"/>
                  <a:pt x="17217" y="8522"/>
                  <a:pt x="17239" y="8483"/>
                </a:cubicBezTo>
              </a:path>
              <a:path w="2159" h="4491">
                <a:moveTo>
                  <a:pt x="17512" y="7913"/>
                </a:moveTo>
                <a:cubicBezTo>
                  <a:pt x="17506" y="8083"/>
                  <a:pt x="17487" y="8240"/>
                  <a:pt x="17487" y="8409"/>
                </a:cubicBezTo>
                <a:cubicBezTo>
                  <a:pt x="17487" y="8537"/>
                  <a:pt x="17478" y="8669"/>
                  <a:pt x="17512" y="8781"/>
                </a:cubicBezTo>
                <a:cubicBezTo>
                  <a:pt x="17512" y="8789"/>
                  <a:pt x="17512" y="8798"/>
                  <a:pt x="17512" y="8806"/>
                </a:cubicBezTo>
                <a:cubicBezTo>
                  <a:pt x="17545" y="8751"/>
                  <a:pt x="17543" y="8676"/>
                  <a:pt x="17562" y="8607"/>
                </a:cubicBezTo>
              </a:path>
              <a:path w="2159" h="4491">
                <a:moveTo>
                  <a:pt x="17810" y="7789"/>
                </a:moveTo>
                <a:cubicBezTo>
                  <a:pt x="17810" y="7904"/>
                  <a:pt x="17816" y="7952"/>
                  <a:pt x="17810" y="8086"/>
                </a:cubicBezTo>
                <a:cubicBezTo>
                  <a:pt x="17798" y="8333"/>
                  <a:pt x="17810" y="8583"/>
                  <a:pt x="17810" y="8830"/>
                </a:cubicBezTo>
              </a:path>
              <a:path w="2159" h="4491">
                <a:moveTo>
                  <a:pt x="16892" y="8830"/>
                </a:moveTo>
                <a:cubicBezTo>
                  <a:pt x="17058" y="8856"/>
                  <a:pt x="17219" y="8855"/>
                  <a:pt x="17388" y="8855"/>
                </a:cubicBezTo>
                <a:cubicBezTo>
                  <a:pt x="17556" y="8855"/>
                  <a:pt x="17742" y="8860"/>
                  <a:pt x="17909" y="8880"/>
                </a:cubicBezTo>
                <a:cubicBezTo>
                  <a:pt x="17994" y="8890"/>
                  <a:pt x="18142" y="8937"/>
                  <a:pt x="18231" y="8905"/>
                </a:cubicBezTo>
                <a:cubicBezTo>
                  <a:pt x="18300" y="8880"/>
                  <a:pt x="18222" y="8824"/>
                  <a:pt x="18207" y="8806"/>
                </a:cubicBezTo>
              </a:path>
              <a:path w="2159" h="4491">
                <a:moveTo>
                  <a:pt x="17041" y="7888"/>
                </a:moveTo>
                <a:cubicBezTo>
                  <a:pt x="17235" y="7907"/>
                  <a:pt x="17417" y="7913"/>
                  <a:pt x="17611" y="7913"/>
                </a:cubicBezTo>
                <a:cubicBezTo>
                  <a:pt x="17715" y="7913"/>
                  <a:pt x="18379" y="7967"/>
                  <a:pt x="18405" y="78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080" y="3581280"/>
            <a:ext cx="2071800" cy="606600"/>
          </a:xfrm>
          <a:custGeom>
            <a:avLst/>
            <a:gdLst/>
            <a:ahLst/>
            <a:rect l="l" t="t" r="r" b="b"/>
            <a:pathLst>
              <a:path w="5756" h="1687">
                <a:moveTo>
                  <a:pt x="3076" y="10046"/>
                </a:moveTo>
                <a:cubicBezTo>
                  <a:pt x="3070" y="10020"/>
                  <a:pt x="3037" y="9977"/>
                  <a:pt x="3026" y="9971"/>
                </a:cubicBezTo>
                <a:cubicBezTo>
                  <a:pt x="3008" y="9962"/>
                  <a:pt x="2915" y="9942"/>
                  <a:pt x="2902" y="9947"/>
                </a:cubicBezTo>
                <a:cubicBezTo>
                  <a:pt x="2867" y="9960"/>
                  <a:pt x="2811" y="10010"/>
                  <a:pt x="2803" y="10046"/>
                </a:cubicBezTo>
                <a:cubicBezTo>
                  <a:pt x="2789" y="10109"/>
                  <a:pt x="2743" y="10154"/>
                  <a:pt x="2729" y="10220"/>
                </a:cubicBezTo>
                <a:cubicBezTo>
                  <a:pt x="2714" y="10290"/>
                  <a:pt x="2701" y="10374"/>
                  <a:pt x="2679" y="10443"/>
                </a:cubicBezTo>
                <a:cubicBezTo>
                  <a:pt x="2657" y="10512"/>
                  <a:pt x="2614" y="10615"/>
                  <a:pt x="2629" y="10691"/>
                </a:cubicBezTo>
                <a:cubicBezTo>
                  <a:pt x="2644" y="10769"/>
                  <a:pt x="2667" y="10840"/>
                  <a:pt x="2704" y="10914"/>
                </a:cubicBezTo>
                <a:cubicBezTo>
                  <a:pt x="2744" y="10993"/>
                  <a:pt x="2809" y="10990"/>
                  <a:pt x="2877" y="11038"/>
                </a:cubicBezTo>
                <a:cubicBezTo>
                  <a:pt x="2918" y="11067"/>
                  <a:pt x="3002" y="11083"/>
                  <a:pt x="3051" y="11088"/>
                </a:cubicBezTo>
                <a:cubicBezTo>
                  <a:pt x="3085" y="11092"/>
                  <a:pt x="3125" y="11058"/>
                  <a:pt x="3150" y="11038"/>
                </a:cubicBezTo>
              </a:path>
              <a:path w="5756" h="1687">
                <a:moveTo>
                  <a:pt x="3721" y="10567"/>
                </a:moveTo>
                <a:cubicBezTo>
                  <a:pt x="3721" y="10550"/>
                  <a:pt x="3721" y="10534"/>
                  <a:pt x="3721" y="10517"/>
                </a:cubicBezTo>
                <a:cubicBezTo>
                  <a:pt x="3646" y="10517"/>
                  <a:pt x="3592" y="10526"/>
                  <a:pt x="3522" y="10542"/>
                </a:cubicBezTo>
                <a:cubicBezTo>
                  <a:pt x="3477" y="10552"/>
                  <a:pt x="3448" y="10580"/>
                  <a:pt x="3398" y="10592"/>
                </a:cubicBezTo>
                <a:cubicBezTo>
                  <a:pt x="3373" y="10592"/>
                  <a:pt x="3365" y="10592"/>
                  <a:pt x="3373" y="10616"/>
                </a:cubicBezTo>
                <a:cubicBezTo>
                  <a:pt x="3405" y="10640"/>
                  <a:pt x="3444" y="10646"/>
                  <a:pt x="3473" y="10666"/>
                </a:cubicBezTo>
                <a:cubicBezTo>
                  <a:pt x="3514" y="10694"/>
                  <a:pt x="3558" y="10735"/>
                  <a:pt x="3597" y="10765"/>
                </a:cubicBezTo>
                <a:cubicBezTo>
                  <a:pt x="3639" y="10797"/>
                  <a:pt x="3681" y="10890"/>
                  <a:pt x="3696" y="10939"/>
                </a:cubicBezTo>
                <a:cubicBezTo>
                  <a:pt x="3710" y="10986"/>
                  <a:pt x="3701" y="11055"/>
                  <a:pt x="3671" y="11088"/>
                </a:cubicBezTo>
                <a:cubicBezTo>
                  <a:pt x="3642" y="11119"/>
                  <a:pt x="3565" y="11133"/>
                  <a:pt x="3522" y="11137"/>
                </a:cubicBezTo>
                <a:cubicBezTo>
                  <a:pt x="3509" y="11138"/>
                  <a:pt x="3437" y="11120"/>
                  <a:pt x="3423" y="11112"/>
                </a:cubicBezTo>
                <a:cubicBezTo>
                  <a:pt x="3362" y="11080"/>
                  <a:pt x="3421" y="11040"/>
                  <a:pt x="3448" y="11013"/>
                </a:cubicBezTo>
              </a:path>
              <a:path w="5756" h="1687">
                <a:moveTo>
                  <a:pt x="4440" y="10616"/>
                </a:moveTo>
                <a:cubicBezTo>
                  <a:pt x="4469" y="10623"/>
                  <a:pt x="4485" y="10633"/>
                  <a:pt x="4514" y="10641"/>
                </a:cubicBezTo>
                <a:cubicBezTo>
                  <a:pt x="4498" y="10619"/>
                  <a:pt x="4474" y="10572"/>
                  <a:pt x="4465" y="10567"/>
                </a:cubicBezTo>
                <a:cubicBezTo>
                  <a:pt x="4424" y="10546"/>
                  <a:pt x="4346" y="10566"/>
                  <a:pt x="4316" y="10592"/>
                </a:cubicBezTo>
                <a:cubicBezTo>
                  <a:pt x="4251" y="10649"/>
                  <a:pt x="4183" y="10715"/>
                  <a:pt x="4142" y="10790"/>
                </a:cubicBezTo>
                <a:cubicBezTo>
                  <a:pt x="4116" y="10838"/>
                  <a:pt x="4062" y="10930"/>
                  <a:pt x="4093" y="10988"/>
                </a:cubicBezTo>
                <a:cubicBezTo>
                  <a:pt x="4157" y="11109"/>
                  <a:pt x="4264" y="11138"/>
                  <a:pt x="4390" y="11162"/>
                </a:cubicBezTo>
                <a:cubicBezTo>
                  <a:pt x="4443" y="11172"/>
                  <a:pt x="4509" y="11162"/>
                  <a:pt x="4564" y="11162"/>
                </a:cubicBezTo>
                <a:cubicBezTo>
                  <a:pt x="4550" y="11121"/>
                  <a:pt x="4530" y="11137"/>
                  <a:pt x="4589" y="11137"/>
                </a:cubicBezTo>
              </a:path>
              <a:path w="5756" h="1687">
                <a:moveTo>
                  <a:pt x="5432" y="10244"/>
                </a:moveTo>
                <a:cubicBezTo>
                  <a:pt x="5420" y="10293"/>
                  <a:pt x="5406" y="10342"/>
                  <a:pt x="5383" y="10393"/>
                </a:cubicBezTo>
                <a:cubicBezTo>
                  <a:pt x="5345" y="10480"/>
                  <a:pt x="5299" y="10561"/>
                  <a:pt x="5259" y="10641"/>
                </a:cubicBezTo>
                <a:cubicBezTo>
                  <a:pt x="5205" y="10750"/>
                  <a:pt x="5195" y="10895"/>
                  <a:pt x="5184" y="11013"/>
                </a:cubicBezTo>
                <a:cubicBezTo>
                  <a:pt x="5179" y="11062"/>
                  <a:pt x="5219" y="11155"/>
                  <a:pt x="5259" y="11187"/>
                </a:cubicBezTo>
                <a:cubicBezTo>
                  <a:pt x="5314" y="11231"/>
                  <a:pt x="5353" y="11197"/>
                  <a:pt x="5407" y="11187"/>
                </a:cubicBezTo>
                <a:cubicBezTo>
                  <a:pt x="5477" y="11175"/>
                  <a:pt x="5549" y="11134"/>
                  <a:pt x="5581" y="11063"/>
                </a:cubicBezTo>
                <a:cubicBezTo>
                  <a:pt x="5622" y="10973"/>
                  <a:pt x="5651" y="10888"/>
                  <a:pt x="5655" y="10790"/>
                </a:cubicBezTo>
                <a:cubicBezTo>
                  <a:pt x="5658" y="10693"/>
                  <a:pt x="5619" y="10605"/>
                  <a:pt x="5581" y="10517"/>
                </a:cubicBezTo>
                <a:cubicBezTo>
                  <a:pt x="5543" y="10428"/>
                  <a:pt x="5451" y="10351"/>
                  <a:pt x="5383" y="10294"/>
                </a:cubicBezTo>
                <a:cubicBezTo>
                  <a:pt x="5368" y="10282"/>
                  <a:pt x="5278" y="10202"/>
                  <a:pt x="5259" y="10220"/>
                </a:cubicBezTo>
                <a:cubicBezTo>
                  <a:pt x="5259" y="10228"/>
                  <a:pt x="5259" y="10236"/>
                  <a:pt x="5259" y="10244"/>
                </a:cubicBezTo>
              </a:path>
              <a:path w="5756" h="1687">
                <a:moveTo>
                  <a:pt x="4986" y="10765"/>
                </a:moveTo>
                <a:cubicBezTo>
                  <a:pt x="5084" y="10792"/>
                  <a:pt x="5180" y="10812"/>
                  <a:pt x="5283" y="10815"/>
                </a:cubicBezTo>
                <a:cubicBezTo>
                  <a:pt x="5452" y="10820"/>
                  <a:pt x="5614" y="10817"/>
                  <a:pt x="5779" y="10840"/>
                </a:cubicBezTo>
                <a:cubicBezTo>
                  <a:pt x="5782" y="10840"/>
                  <a:pt x="5943" y="10844"/>
                  <a:pt x="5904" y="10815"/>
                </a:cubicBezTo>
                <a:cubicBezTo>
                  <a:pt x="5870" y="10790"/>
                  <a:pt x="5899" y="10824"/>
                  <a:pt x="5904" y="10840"/>
                </a:cubicBezTo>
              </a:path>
              <a:path w="5756" h="1687">
                <a:moveTo>
                  <a:pt x="6945" y="10195"/>
                </a:moveTo>
                <a:cubicBezTo>
                  <a:pt x="6902" y="10271"/>
                  <a:pt x="6878" y="10325"/>
                  <a:pt x="6796" y="10393"/>
                </a:cubicBezTo>
                <a:cubicBezTo>
                  <a:pt x="6742" y="10438"/>
                  <a:pt x="6660" y="10510"/>
                  <a:pt x="6598" y="10542"/>
                </a:cubicBezTo>
                <a:cubicBezTo>
                  <a:pt x="6517" y="10585"/>
                  <a:pt x="6432" y="10623"/>
                  <a:pt x="6350" y="10666"/>
                </a:cubicBezTo>
                <a:cubicBezTo>
                  <a:pt x="6313" y="10686"/>
                  <a:pt x="6255" y="10719"/>
                  <a:pt x="6226" y="10740"/>
                </a:cubicBezTo>
                <a:cubicBezTo>
                  <a:pt x="6189" y="10767"/>
                  <a:pt x="6190" y="10813"/>
                  <a:pt x="6226" y="10840"/>
                </a:cubicBezTo>
                <a:cubicBezTo>
                  <a:pt x="6256" y="10863"/>
                  <a:pt x="6313" y="10864"/>
                  <a:pt x="6350" y="10889"/>
                </a:cubicBezTo>
                <a:cubicBezTo>
                  <a:pt x="6395" y="10920"/>
                  <a:pt x="6444" y="10935"/>
                  <a:pt x="6499" y="10964"/>
                </a:cubicBezTo>
                <a:cubicBezTo>
                  <a:pt x="6580" y="11006"/>
                  <a:pt x="6636" y="11052"/>
                  <a:pt x="6722" y="11088"/>
                </a:cubicBezTo>
                <a:cubicBezTo>
                  <a:pt x="6785" y="11115"/>
                  <a:pt x="6839" y="11153"/>
                  <a:pt x="6896" y="11187"/>
                </a:cubicBezTo>
                <a:cubicBezTo>
                  <a:pt x="6949" y="11219"/>
                  <a:pt x="6964" y="11229"/>
                  <a:pt x="7020" y="11237"/>
                </a:cubicBezTo>
                <a:cubicBezTo>
                  <a:pt x="7028" y="11184"/>
                  <a:pt x="7029" y="11179"/>
                  <a:pt x="7069" y="11137"/>
                </a:cubicBezTo>
              </a:path>
              <a:path w="5756" h="1687">
                <a:moveTo>
                  <a:pt x="7466" y="10418"/>
                </a:moveTo>
                <a:cubicBezTo>
                  <a:pt x="7466" y="10477"/>
                  <a:pt x="7430" y="10470"/>
                  <a:pt x="7417" y="10517"/>
                </a:cubicBezTo>
                <a:cubicBezTo>
                  <a:pt x="7398" y="10587"/>
                  <a:pt x="7381" y="10627"/>
                  <a:pt x="7342" y="10691"/>
                </a:cubicBezTo>
                <a:cubicBezTo>
                  <a:pt x="7306" y="10750"/>
                  <a:pt x="7297" y="10846"/>
                  <a:pt x="7293" y="10914"/>
                </a:cubicBezTo>
                <a:cubicBezTo>
                  <a:pt x="7291" y="10959"/>
                  <a:pt x="7306" y="11061"/>
                  <a:pt x="7342" y="11088"/>
                </a:cubicBezTo>
                <a:cubicBezTo>
                  <a:pt x="7381" y="11117"/>
                  <a:pt x="7443" y="11160"/>
                  <a:pt x="7491" y="11162"/>
                </a:cubicBezTo>
                <a:cubicBezTo>
                  <a:pt x="7566" y="11166"/>
                  <a:pt x="7629" y="11169"/>
                  <a:pt x="7689" y="11137"/>
                </a:cubicBezTo>
                <a:cubicBezTo>
                  <a:pt x="7763" y="11097"/>
                  <a:pt x="7847" y="11057"/>
                  <a:pt x="7863" y="10964"/>
                </a:cubicBezTo>
                <a:cubicBezTo>
                  <a:pt x="7878" y="10880"/>
                  <a:pt x="7851" y="10815"/>
                  <a:pt x="7838" y="10740"/>
                </a:cubicBezTo>
                <a:cubicBezTo>
                  <a:pt x="7827" y="10675"/>
                  <a:pt x="7819" y="10568"/>
                  <a:pt x="7764" y="10517"/>
                </a:cubicBezTo>
                <a:cubicBezTo>
                  <a:pt x="7716" y="10472"/>
                  <a:pt x="7666" y="10439"/>
                  <a:pt x="7615" y="10393"/>
                </a:cubicBezTo>
                <a:cubicBezTo>
                  <a:pt x="7568" y="10351"/>
                  <a:pt x="7530" y="10360"/>
                  <a:pt x="7491" y="10368"/>
                </a:cubicBezTo>
                <a:cubicBezTo>
                  <a:pt x="7450" y="10377"/>
                  <a:pt x="7451" y="10378"/>
                  <a:pt x="7441" y="10418"/>
                </a:cubicBezTo>
              </a:path>
              <a:path w="5756" h="1687">
                <a:moveTo>
                  <a:pt x="8384" y="11286"/>
                </a:moveTo>
                <a:cubicBezTo>
                  <a:pt x="8354" y="11367"/>
                  <a:pt x="8315" y="11432"/>
                  <a:pt x="8285" y="11509"/>
                </a:cubicBezTo>
                <a:cubicBezTo>
                  <a:pt x="8265" y="11559"/>
                  <a:pt x="8231" y="11542"/>
                  <a:pt x="8210" y="11584"/>
                </a:cubicBezTo>
                <a:cubicBezTo>
                  <a:pt x="8188" y="11629"/>
                  <a:pt x="8230" y="11633"/>
                  <a:pt x="8161" y="116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67080" y="3705120"/>
            <a:ext cx="1928880" cy="403200"/>
          </a:xfrm>
          <a:custGeom>
            <a:avLst/>
            <a:gdLst/>
            <a:ahLst/>
            <a:rect l="l" t="t" r="r" b="b"/>
            <a:pathLst>
              <a:path w="5359" h="1117">
                <a:moveTo>
                  <a:pt x="9748" y="10666"/>
                </a:moveTo>
                <a:cubicBezTo>
                  <a:pt x="9748" y="10691"/>
                  <a:pt x="9748" y="10699"/>
                  <a:pt x="9748" y="10716"/>
                </a:cubicBezTo>
                <a:cubicBezTo>
                  <a:pt x="9708" y="10703"/>
                  <a:pt x="9723" y="10667"/>
                  <a:pt x="9723" y="10616"/>
                </a:cubicBezTo>
                <a:cubicBezTo>
                  <a:pt x="9723" y="10592"/>
                  <a:pt x="9698" y="10529"/>
                  <a:pt x="9674" y="10517"/>
                </a:cubicBezTo>
                <a:cubicBezTo>
                  <a:pt x="9624" y="10492"/>
                  <a:pt x="9659" y="10496"/>
                  <a:pt x="9599" y="10517"/>
                </a:cubicBezTo>
                <a:cubicBezTo>
                  <a:pt x="9557" y="10531"/>
                  <a:pt x="9534" y="10558"/>
                  <a:pt x="9500" y="10592"/>
                </a:cubicBezTo>
                <a:cubicBezTo>
                  <a:pt x="9429" y="10663"/>
                  <a:pt x="9449" y="10688"/>
                  <a:pt x="9401" y="10765"/>
                </a:cubicBezTo>
                <a:cubicBezTo>
                  <a:pt x="9357" y="10835"/>
                  <a:pt x="9351" y="10881"/>
                  <a:pt x="9351" y="10964"/>
                </a:cubicBezTo>
                <a:cubicBezTo>
                  <a:pt x="9351" y="11039"/>
                  <a:pt x="9349" y="11079"/>
                  <a:pt x="9401" y="11137"/>
                </a:cubicBezTo>
                <a:cubicBezTo>
                  <a:pt x="9464" y="11206"/>
                  <a:pt x="9497" y="11182"/>
                  <a:pt x="9575" y="11212"/>
                </a:cubicBezTo>
                <a:cubicBezTo>
                  <a:pt x="9646" y="11239"/>
                  <a:pt x="9698" y="11214"/>
                  <a:pt x="9773" y="11187"/>
                </a:cubicBezTo>
              </a:path>
              <a:path w="5359" h="1117">
                <a:moveTo>
                  <a:pt x="10071" y="10716"/>
                </a:moveTo>
                <a:cubicBezTo>
                  <a:pt x="10046" y="10782"/>
                  <a:pt x="10043" y="10849"/>
                  <a:pt x="10021" y="10914"/>
                </a:cubicBezTo>
                <a:cubicBezTo>
                  <a:pt x="10003" y="10967"/>
                  <a:pt x="9973" y="11053"/>
                  <a:pt x="9996" y="11112"/>
                </a:cubicBezTo>
                <a:cubicBezTo>
                  <a:pt x="10009" y="11144"/>
                  <a:pt x="10065" y="11185"/>
                  <a:pt x="10096" y="11187"/>
                </a:cubicBezTo>
                <a:cubicBezTo>
                  <a:pt x="10163" y="11192"/>
                  <a:pt x="10210" y="11190"/>
                  <a:pt x="10269" y="11162"/>
                </a:cubicBezTo>
                <a:cubicBezTo>
                  <a:pt x="10334" y="11131"/>
                  <a:pt x="10379" y="11060"/>
                  <a:pt x="10393" y="10988"/>
                </a:cubicBezTo>
                <a:cubicBezTo>
                  <a:pt x="10407" y="10919"/>
                  <a:pt x="10383" y="10847"/>
                  <a:pt x="10344" y="10790"/>
                </a:cubicBezTo>
                <a:cubicBezTo>
                  <a:pt x="10314" y="10747"/>
                  <a:pt x="10219" y="10686"/>
                  <a:pt x="10170" y="10666"/>
                </a:cubicBezTo>
                <a:cubicBezTo>
                  <a:pt x="10145" y="10666"/>
                  <a:pt x="10137" y="10666"/>
                  <a:pt x="10120" y="10666"/>
                </a:cubicBezTo>
              </a:path>
              <a:path w="5359" h="1117">
                <a:moveTo>
                  <a:pt x="10790" y="10319"/>
                </a:moveTo>
                <a:cubicBezTo>
                  <a:pt x="10773" y="10417"/>
                  <a:pt x="10745" y="10518"/>
                  <a:pt x="10740" y="10616"/>
                </a:cubicBezTo>
                <a:cubicBezTo>
                  <a:pt x="10734" y="10723"/>
                  <a:pt x="10753" y="10809"/>
                  <a:pt x="10765" y="10914"/>
                </a:cubicBezTo>
                <a:cubicBezTo>
                  <a:pt x="10770" y="10960"/>
                  <a:pt x="10773" y="11044"/>
                  <a:pt x="10790" y="11088"/>
                </a:cubicBezTo>
                <a:cubicBezTo>
                  <a:pt x="10800" y="11113"/>
                  <a:pt x="10828" y="11169"/>
                  <a:pt x="10815" y="11137"/>
                </a:cubicBezTo>
                <a:cubicBezTo>
                  <a:pt x="10815" y="11129"/>
                  <a:pt x="10815" y="11120"/>
                  <a:pt x="10815" y="11112"/>
                </a:cubicBezTo>
              </a:path>
              <a:path w="5359" h="1117">
                <a:moveTo>
                  <a:pt x="10492" y="10740"/>
                </a:moveTo>
                <a:cubicBezTo>
                  <a:pt x="10669" y="10740"/>
                  <a:pt x="10837" y="10751"/>
                  <a:pt x="11013" y="10765"/>
                </a:cubicBezTo>
                <a:cubicBezTo>
                  <a:pt x="11038" y="10765"/>
                  <a:pt x="11063" y="10765"/>
                  <a:pt x="11088" y="10765"/>
                </a:cubicBezTo>
              </a:path>
              <a:path w="5359" h="1117">
                <a:moveTo>
                  <a:pt x="11857" y="10418"/>
                </a:moveTo>
                <a:cubicBezTo>
                  <a:pt x="11806" y="10525"/>
                  <a:pt x="11755" y="10608"/>
                  <a:pt x="11708" y="10716"/>
                </a:cubicBezTo>
                <a:cubicBezTo>
                  <a:pt x="11671" y="10801"/>
                  <a:pt x="11638" y="10845"/>
                  <a:pt x="11633" y="10939"/>
                </a:cubicBezTo>
                <a:cubicBezTo>
                  <a:pt x="11629" y="11019"/>
                  <a:pt x="11638" y="11092"/>
                  <a:pt x="11683" y="11162"/>
                </a:cubicBezTo>
                <a:cubicBezTo>
                  <a:pt x="11716" y="11213"/>
                  <a:pt x="11795" y="11275"/>
                  <a:pt x="11857" y="11286"/>
                </a:cubicBezTo>
                <a:cubicBezTo>
                  <a:pt x="11935" y="11300"/>
                  <a:pt x="12010" y="11285"/>
                  <a:pt x="12080" y="11261"/>
                </a:cubicBezTo>
                <a:cubicBezTo>
                  <a:pt x="12194" y="11222"/>
                  <a:pt x="12261" y="11122"/>
                  <a:pt x="12303" y="11013"/>
                </a:cubicBezTo>
                <a:cubicBezTo>
                  <a:pt x="12346" y="10902"/>
                  <a:pt x="12317" y="10865"/>
                  <a:pt x="12278" y="10765"/>
                </a:cubicBezTo>
                <a:cubicBezTo>
                  <a:pt x="12244" y="10677"/>
                  <a:pt x="12194" y="10611"/>
                  <a:pt x="12129" y="10542"/>
                </a:cubicBezTo>
                <a:cubicBezTo>
                  <a:pt x="12083" y="10493"/>
                  <a:pt x="12014" y="10424"/>
                  <a:pt x="11956" y="10393"/>
                </a:cubicBezTo>
                <a:cubicBezTo>
                  <a:pt x="11931" y="10393"/>
                  <a:pt x="11923" y="10393"/>
                  <a:pt x="11906" y="10393"/>
                </a:cubicBezTo>
              </a:path>
              <a:path w="5359" h="1117">
                <a:moveTo>
                  <a:pt x="11460" y="10716"/>
                </a:moveTo>
                <a:cubicBezTo>
                  <a:pt x="11460" y="10732"/>
                  <a:pt x="11460" y="10749"/>
                  <a:pt x="11460" y="10765"/>
                </a:cubicBezTo>
                <a:cubicBezTo>
                  <a:pt x="11547" y="10765"/>
                  <a:pt x="11621" y="10787"/>
                  <a:pt x="11708" y="10790"/>
                </a:cubicBezTo>
                <a:cubicBezTo>
                  <a:pt x="11860" y="10795"/>
                  <a:pt x="12005" y="10825"/>
                  <a:pt x="12154" y="10840"/>
                </a:cubicBezTo>
                <a:cubicBezTo>
                  <a:pt x="12239" y="10849"/>
                  <a:pt x="12320" y="10858"/>
                  <a:pt x="12402" y="10864"/>
                </a:cubicBezTo>
                <a:cubicBezTo>
                  <a:pt x="12454" y="10868"/>
                  <a:pt x="12441" y="10852"/>
                  <a:pt x="12477" y="10840"/>
                </a:cubicBezTo>
              </a:path>
              <a:path w="5359" h="1117">
                <a:moveTo>
                  <a:pt x="12725" y="10294"/>
                </a:moveTo>
                <a:cubicBezTo>
                  <a:pt x="12749" y="10314"/>
                  <a:pt x="12766" y="10312"/>
                  <a:pt x="12799" y="10344"/>
                </a:cubicBezTo>
                <a:cubicBezTo>
                  <a:pt x="12857" y="10401"/>
                  <a:pt x="12935" y="10401"/>
                  <a:pt x="12998" y="10443"/>
                </a:cubicBezTo>
                <a:cubicBezTo>
                  <a:pt x="13088" y="10503"/>
                  <a:pt x="13148" y="10541"/>
                  <a:pt x="13246" y="10592"/>
                </a:cubicBezTo>
                <a:cubicBezTo>
                  <a:pt x="13321" y="10631"/>
                  <a:pt x="13392" y="10678"/>
                  <a:pt x="13469" y="10716"/>
                </a:cubicBezTo>
                <a:cubicBezTo>
                  <a:pt x="13534" y="10748"/>
                  <a:pt x="13566" y="10738"/>
                  <a:pt x="13618" y="10790"/>
                </a:cubicBezTo>
                <a:cubicBezTo>
                  <a:pt x="13649" y="10821"/>
                  <a:pt x="13601" y="10812"/>
                  <a:pt x="13568" y="10840"/>
                </a:cubicBezTo>
                <a:cubicBezTo>
                  <a:pt x="13507" y="10892"/>
                  <a:pt x="13438" y="10965"/>
                  <a:pt x="13370" y="11013"/>
                </a:cubicBezTo>
                <a:cubicBezTo>
                  <a:pt x="13305" y="11059"/>
                  <a:pt x="13252" y="11117"/>
                  <a:pt x="13196" y="11162"/>
                </a:cubicBezTo>
                <a:cubicBezTo>
                  <a:pt x="13149" y="11200"/>
                  <a:pt x="13083" y="11228"/>
                  <a:pt x="13047" y="11261"/>
                </a:cubicBezTo>
                <a:cubicBezTo>
                  <a:pt x="13013" y="11292"/>
                  <a:pt x="13017" y="11312"/>
                  <a:pt x="12998" y="11336"/>
                </a:cubicBezTo>
                <a:cubicBezTo>
                  <a:pt x="13043" y="11329"/>
                  <a:pt x="13031" y="11336"/>
                  <a:pt x="13072" y="11311"/>
                </a:cubicBezTo>
              </a:path>
              <a:path w="5359" h="1117">
                <a:moveTo>
                  <a:pt x="14288" y="10517"/>
                </a:moveTo>
                <a:cubicBezTo>
                  <a:pt x="14257" y="10548"/>
                  <a:pt x="14234" y="10589"/>
                  <a:pt x="14213" y="10616"/>
                </a:cubicBezTo>
                <a:cubicBezTo>
                  <a:pt x="14156" y="10687"/>
                  <a:pt x="14142" y="10769"/>
                  <a:pt x="14089" y="10840"/>
                </a:cubicBezTo>
                <a:cubicBezTo>
                  <a:pt x="14036" y="10911"/>
                  <a:pt x="14020" y="10967"/>
                  <a:pt x="14015" y="11063"/>
                </a:cubicBezTo>
                <a:cubicBezTo>
                  <a:pt x="14011" y="11135"/>
                  <a:pt x="14010" y="11196"/>
                  <a:pt x="14039" y="11261"/>
                </a:cubicBezTo>
                <a:cubicBezTo>
                  <a:pt x="14071" y="11335"/>
                  <a:pt x="14144" y="11351"/>
                  <a:pt x="14213" y="11385"/>
                </a:cubicBezTo>
                <a:cubicBezTo>
                  <a:pt x="14290" y="11423"/>
                  <a:pt x="14360" y="11420"/>
                  <a:pt x="14436" y="11385"/>
                </a:cubicBezTo>
                <a:cubicBezTo>
                  <a:pt x="14572" y="11323"/>
                  <a:pt x="14637" y="11274"/>
                  <a:pt x="14684" y="11137"/>
                </a:cubicBezTo>
                <a:cubicBezTo>
                  <a:pt x="14709" y="11063"/>
                  <a:pt x="14726" y="10968"/>
                  <a:pt x="14709" y="10889"/>
                </a:cubicBezTo>
                <a:cubicBezTo>
                  <a:pt x="14692" y="10806"/>
                  <a:pt x="14641" y="10703"/>
                  <a:pt x="14585" y="10641"/>
                </a:cubicBezTo>
                <a:cubicBezTo>
                  <a:pt x="14551" y="10603"/>
                  <a:pt x="14506" y="10557"/>
                  <a:pt x="14461" y="10542"/>
                </a:cubicBezTo>
                <a:cubicBezTo>
                  <a:pt x="14433" y="10533"/>
                  <a:pt x="14392" y="10557"/>
                  <a:pt x="14387" y="10567"/>
                </a:cubicBezTo>
                <a:cubicBezTo>
                  <a:pt x="14387" y="10575"/>
                  <a:pt x="14387" y="10584"/>
                  <a:pt x="14387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42000" y="3679920"/>
            <a:ext cx="544680" cy="552240"/>
          </a:xfrm>
          <a:custGeom>
            <a:avLst/>
            <a:gdLst/>
            <a:ahLst/>
            <a:rect l="l" t="t" r="r" b="b"/>
            <a:pathLst>
              <a:path w="1514" h="1538">
                <a:moveTo>
                  <a:pt x="16371" y="10220"/>
                </a:moveTo>
                <a:cubicBezTo>
                  <a:pt x="16343" y="10290"/>
                  <a:pt x="16316" y="10305"/>
                  <a:pt x="16272" y="10368"/>
                </a:cubicBezTo>
                <a:cubicBezTo>
                  <a:pt x="16219" y="10443"/>
                  <a:pt x="16192" y="10538"/>
                  <a:pt x="16148" y="10616"/>
                </a:cubicBezTo>
                <a:cubicBezTo>
                  <a:pt x="16075" y="10746"/>
                  <a:pt x="15996" y="10858"/>
                  <a:pt x="15974" y="11013"/>
                </a:cubicBezTo>
                <a:cubicBezTo>
                  <a:pt x="15957" y="11136"/>
                  <a:pt x="15948" y="11263"/>
                  <a:pt x="15974" y="11385"/>
                </a:cubicBezTo>
                <a:cubicBezTo>
                  <a:pt x="15998" y="11495"/>
                  <a:pt x="16039" y="11628"/>
                  <a:pt x="16123" y="11708"/>
                </a:cubicBezTo>
                <a:cubicBezTo>
                  <a:pt x="16148" y="11724"/>
                  <a:pt x="16172" y="11741"/>
                  <a:pt x="16197" y="11757"/>
                </a:cubicBezTo>
              </a:path>
              <a:path w="1514" h="1538">
                <a:moveTo>
                  <a:pt x="16321" y="11013"/>
                </a:moveTo>
                <a:cubicBezTo>
                  <a:pt x="16335" y="10971"/>
                  <a:pt x="16370" y="10988"/>
                  <a:pt x="16421" y="10988"/>
                </a:cubicBezTo>
                <a:cubicBezTo>
                  <a:pt x="16509" y="10988"/>
                  <a:pt x="16585" y="11004"/>
                  <a:pt x="16669" y="11013"/>
                </a:cubicBezTo>
                <a:cubicBezTo>
                  <a:pt x="16774" y="11025"/>
                  <a:pt x="16888" y="11041"/>
                  <a:pt x="16991" y="11063"/>
                </a:cubicBezTo>
                <a:cubicBezTo>
                  <a:pt x="17091" y="11085"/>
                  <a:pt x="17186" y="11108"/>
                  <a:pt x="17289" y="11112"/>
                </a:cubicBezTo>
                <a:cubicBezTo>
                  <a:pt x="17346" y="11114"/>
                  <a:pt x="17404" y="11112"/>
                  <a:pt x="17462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07080" y="3759120"/>
            <a:ext cx="563760" cy="615960"/>
          </a:xfrm>
          <a:custGeom>
            <a:avLst/>
            <a:gdLst/>
            <a:ahLst/>
            <a:rect l="l" t="t" r="r" b="b"/>
            <a:pathLst>
              <a:path w="1564" h="1712">
                <a:moveTo>
                  <a:pt x="19571" y="10443"/>
                </a:moveTo>
                <a:cubicBezTo>
                  <a:pt x="19618" y="10443"/>
                  <a:pt x="19634" y="10437"/>
                  <a:pt x="19670" y="10468"/>
                </a:cubicBezTo>
                <a:cubicBezTo>
                  <a:pt x="19731" y="10521"/>
                  <a:pt x="19756" y="10600"/>
                  <a:pt x="19794" y="10666"/>
                </a:cubicBezTo>
                <a:cubicBezTo>
                  <a:pt x="19861" y="10782"/>
                  <a:pt x="19900" y="10950"/>
                  <a:pt x="19918" y="11088"/>
                </a:cubicBezTo>
                <a:cubicBezTo>
                  <a:pt x="19935" y="11215"/>
                  <a:pt x="19941" y="11417"/>
                  <a:pt x="19893" y="11534"/>
                </a:cubicBezTo>
                <a:cubicBezTo>
                  <a:pt x="19885" y="11551"/>
                  <a:pt x="19877" y="11567"/>
                  <a:pt x="19869" y="11584"/>
                </a:cubicBezTo>
              </a:path>
              <a:path w="1564" h="1712">
                <a:moveTo>
                  <a:pt x="18479" y="11807"/>
                </a:moveTo>
                <a:cubicBezTo>
                  <a:pt x="18460" y="11897"/>
                  <a:pt x="18424" y="11951"/>
                  <a:pt x="18405" y="12030"/>
                </a:cubicBezTo>
                <a:cubicBezTo>
                  <a:pt x="18391" y="12087"/>
                  <a:pt x="18390" y="12108"/>
                  <a:pt x="18355" y="12154"/>
                </a:cubicBezTo>
              </a:path>
              <a:path w="1564" h="1712">
                <a:moveTo>
                  <a:pt x="18405" y="11162"/>
                </a:moveTo>
                <a:cubicBezTo>
                  <a:pt x="18608" y="11162"/>
                  <a:pt x="18829" y="11134"/>
                  <a:pt x="19025" y="11187"/>
                </a:cubicBezTo>
                <a:cubicBezTo>
                  <a:pt x="19117" y="11212"/>
                  <a:pt x="19202" y="11231"/>
                  <a:pt x="19298" y="11237"/>
                </a:cubicBezTo>
                <a:cubicBezTo>
                  <a:pt x="19306" y="11237"/>
                  <a:pt x="19315" y="11237"/>
                  <a:pt x="19323" y="112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67120" y="4411800"/>
            <a:ext cx="249120" cy="303120"/>
          </a:xfrm>
          <a:custGeom>
            <a:avLst/>
            <a:gdLst/>
            <a:ahLst/>
            <a:rect l="l" t="t" r="r" b="b"/>
            <a:pathLst>
              <a:path w="696" h="844">
                <a:moveTo>
                  <a:pt x="10964" y="12328"/>
                </a:moveTo>
                <a:cubicBezTo>
                  <a:pt x="10909" y="12342"/>
                  <a:pt x="10850" y="12403"/>
                  <a:pt x="10815" y="12452"/>
                </a:cubicBezTo>
                <a:cubicBezTo>
                  <a:pt x="10769" y="12516"/>
                  <a:pt x="10743" y="12598"/>
                  <a:pt x="10740" y="12675"/>
                </a:cubicBezTo>
                <a:cubicBezTo>
                  <a:pt x="10736" y="12764"/>
                  <a:pt x="10745" y="12844"/>
                  <a:pt x="10790" y="12923"/>
                </a:cubicBezTo>
                <a:cubicBezTo>
                  <a:pt x="10810" y="12958"/>
                  <a:pt x="10836" y="12984"/>
                  <a:pt x="10864" y="12998"/>
                </a:cubicBezTo>
              </a:path>
              <a:path w="696" h="844">
                <a:moveTo>
                  <a:pt x="10988" y="12650"/>
                </a:moveTo>
                <a:cubicBezTo>
                  <a:pt x="11103" y="12650"/>
                  <a:pt x="11143" y="12660"/>
                  <a:pt x="11237" y="12626"/>
                </a:cubicBezTo>
              </a:path>
              <a:path w="696" h="844">
                <a:moveTo>
                  <a:pt x="11286" y="12254"/>
                </a:moveTo>
                <a:cubicBezTo>
                  <a:pt x="11360" y="12290"/>
                  <a:pt x="11384" y="12449"/>
                  <a:pt x="11410" y="12526"/>
                </a:cubicBezTo>
                <a:cubicBezTo>
                  <a:pt x="11435" y="12602"/>
                  <a:pt x="11454" y="12718"/>
                  <a:pt x="11435" y="12799"/>
                </a:cubicBezTo>
                <a:cubicBezTo>
                  <a:pt x="11418" y="12868"/>
                  <a:pt x="11396" y="12936"/>
                  <a:pt x="11361" y="12998"/>
                </a:cubicBezTo>
                <a:cubicBezTo>
                  <a:pt x="11334" y="13052"/>
                  <a:pt x="11322" y="13072"/>
                  <a:pt x="11286" y="130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38200" y="4402080"/>
            <a:ext cx="1079640" cy="741600"/>
          </a:xfrm>
          <a:custGeom>
            <a:avLst/>
            <a:gdLst/>
            <a:ahLst/>
            <a:rect l="l" t="t" r="r" b="b"/>
            <a:pathLst>
              <a:path w="3002" h="2060">
                <a:moveTo>
                  <a:pt x="3994" y="12328"/>
                </a:moveTo>
                <a:cubicBezTo>
                  <a:pt x="4026" y="12333"/>
                  <a:pt x="4057" y="12333"/>
                  <a:pt x="4068" y="12353"/>
                </a:cubicBezTo>
                <a:cubicBezTo>
                  <a:pt x="4094" y="12400"/>
                  <a:pt x="4097" y="12480"/>
                  <a:pt x="4118" y="12526"/>
                </a:cubicBezTo>
                <a:cubicBezTo>
                  <a:pt x="4169" y="12634"/>
                  <a:pt x="4229" y="12746"/>
                  <a:pt x="4291" y="12849"/>
                </a:cubicBezTo>
                <a:cubicBezTo>
                  <a:pt x="4367" y="12975"/>
                  <a:pt x="4473" y="13060"/>
                  <a:pt x="4564" y="13171"/>
                </a:cubicBezTo>
                <a:cubicBezTo>
                  <a:pt x="4617" y="13236"/>
                  <a:pt x="4662" y="13306"/>
                  <a:pt x="4713" y="13370"/>
                </a:cubicBezTo>
                <a:cubicBezTo>
                  <a:pt x="4736" y="13399"/>
                  <a:pt x="4703" y="13386"/>
                  <a:pt x="4713" y="13345"/>
                </a:cubicBezTo>
              </a:path>
              <a:path w="3002" h="2060">
                <a:moveTo>
                  <a:pt x="4986" y="12452"/>
                </a:moveTo>
                <a:cubicBezTo>
                  <a:pt x="4975" y="12555"/>
                  <a:pt x="4928" y="12655"/>
                  <a:pt x="4887" y="12750"/>
                </a:cubicBezTo>
                <a:cubicBezTo>
                  <a:pt x="4818" y="12911"/>
                  <a:pt x="4728" y="13057"/>
                  <a:pt x="4663" y="13221"/>
                </a:cubicBezTo>
                <a:cubicBezTo>
                  <a:pt x="4600" y="13379"/>
                  <a:pt x="4518" y="13530"/>
                  <a:pt x="4465" y="13692"/>
                </a:cubicBezTo>
                <a:cubicBezTo>
                  <a:pt x="4418" y="13835"/>
                  <a:pt x="4386" y="13992"/>
                  <a:pt x="4366" y="14139"/>
                </a:cubicBezTo>
                <a:cubicBezTo>
                  <a:pt x="4358" y="14196"/>
                  <a:pt x="4346" y="14228"/>
                  <a:pt x="4341" y="14288"/>
                </a:cubicBezTo>
                <a:cubicBezTo>
                  <a:pt x="4347" y="14243"/>
                  <a:pt x="4354" y="14206"/>
                  <a:pt x="4366" y="14163"/>
                </a:cubicBezTo>
              </a:path>
              <a:path w="3002" h="2060">
                <a:moveTo>
                  <a:pt x="5606" y="12874"/>
                </a:moveTo>
                <a:cubicBezTo>
                  <a:pt x="5745" y="12839"/>
                  <a:pt x="5819" y="12836"/>
                  <a:pt x="5953" y="12849"/>
                </a:cubicBezTo>
                <a:cubicBezTo>
                  <a:pt x="6067" y="12860"/>
                  <a:pt x="6188" y="12874"/>
                  <a:pt x="6300" y="12898"/>
                </a:cubicBezTo>
                <a:cubicBezTo>
                  <a:pt x="6378" y="12915"/>
                  <a:pt x="6419" y="12948"/>
                  <a:pt x="6499" y="12948"/>
                </a:cubicBezTo>
                <a:cubicBezTo>
                  <a:pt x="6524" y="12948"/>
                  <a:pt x="6532" y="12948"/>
                  <a:pt x="6548" y="12948"/>
                </a:cubicBezTo>
                <a:cubicBezTo>
                  <a:pt x="6536" y="12898"/>
                  <a:pt x="6517" y="12859"/>
                  <a:pt x="6499" y="12799"/>
                </a:cubicBezTo>
              </a:path>
              <a:path w="3002" h="2060">
                <a:moveTo>
                  <a:pt x="5755" y="12452"/>
                </a:moveTo>
                <a:cubicBezTo>
                  <a:pt x="5590" y="12596"/>
                  <a:pt x="5502" y="12671"/>
                  <a:pt x="5407" y="12849"/>
                </a:cubicBezTo>
                <a:cubicBezTo>
                  <a:pt x="5364" y="12931"/>
                  <a:pt x="5322" y="13072"/>
                  <a:pt x="5358" y="13171"/>
                </a:cubicBezTo>
                <a:cubicBezTo>
                  <a:pt x="5394" y="13270"/>
                  <a:pt x="5539" y="13363"/>
                  <a:pt x="5606" y="13419"/>
                </a:cubicBezTo>
              </a:path>
              <a:path w="3002" h="2060">
                <a:moveTo>
                  <a:pt x="6697" y="12229"/>
                </a:moveTo>
                <a:cubicBezTo>
                  <a:pt x="6844" y="12393"/>
                  <a:pt x="6917" y="12530"/>
                  <a:pt x="6970" y="12750"/>
                </a:cubicBezTo>
                <a:cubicBezTo>
                  <a:pt x="7019" y="12952"/>
                  <a:pt x="6949" y="12984"/>
                  <a:pt x="6871" y="13146"/>
                </a:cubicBezTo>
                <a:cubicBezTo>
                  <a:pt x="6817" y="13258"/>
                  <a:pt x="6754" y="13322"/>
                  <a:pt x="6648" y="13395"/>
                </a:cubicBezTo>
                <a:cubicBezTo>
                  <a:pt x="6524" y="13478"/>
                  <a:pt x="6499" y="13494"/>
                  <a:pt x="6424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38360" y="4429080"/>
            <a:ext cx="1579680" cy="1063800"/>
          </a:xfrm>
          <a:custGeom>
            <a:avLst/>
            <a:gdLst/>
            <a:ahLst/>
            <a:rect l="l" t="t" r="r" b="b"/>
            <a:pathLst>
              <a:path w="4391" h="2953">
                <a:moveTo>
                  <a:pt x="10021" y="12353"/>
                </a:moveTo>
                <a:cubicBezTo>
                  <a:pt x="10021" y="12325"/>
                  <a:pt x="10023" y="12314"/>
                  <a:pt x="10046" y="12303"/>
                </a:cubicBezTo>
                <a:cubicBezTo>
                  <a:pt x="10046" y="12395"/>
                  <a:pt x="10021" y="12520"/>
                  <a:pt x="10071" y="12601"/>
                </a:cubicBezTo>
                <a:cubicBezTo>
                  <a:pt x="10130" y="12697"/>
                  <a:pt x="10187" y="12789"/>
                  <a:pt x="10269" y="12874"/>
                </a:cubicBezTo>
                <a:cubicBezTo>
                  <a:pt x="10323" y="12930"/>
                  <a:pt x="10467" y="13076"/>
                  <a:pt x="10542" y="13097"/>
                </a:cubicBezTo>
                <a:cubicBezTo>
                  <a:pt x="10575" y="13097"/>
                  <a:pt x="10608" y="13097"/>
                  <a:pt x="10641" y="13097"/>
                </a:cubicBezTo>
              </a:path>
              <a:path w="4391" h="2953">
                <a:moveTo>
                  <a:pt x="10716" y="12353"/>
                </a:moveTo>
                <a:cubicBezTo>
                  <a:pt x="10593" y="12364"/>
                  <a:pt x="10521" y="12431"/>
                  <a:pt x="10418" y="12502"/>
                </a:cubicBezTo>
                <a:cubicBezTo>
                  <a:pt x="10278" y="12598"/>
                  <a:pt x="10110" y="12725"/>
                  <a:pt x="10021" y="12874"/>
                </a:cubicBezTo>
                <a:cubicBezTo>
                  <a:pt x="9976" y="12950"/>
                  <a:pt x="9938" y="13041"/>
                  <a:pt x="9897" y="13122"/>
                </a:cubicBezTo>
              </a:path>
              <a:path w="4391" h="2953">
                <a:moveTo>
                  <a:pt x="9550" y="13171"/>
                </a:moveTo>
                <a:cubicBezTo>
                  <a:pt x="9828" y="13191"/>
                  <a:pt x="10095" y="13213"/>
                  <a:pt x="10368" y="13246"/>
                </a:cubicBezTo>
                <a:cubicBezTo>
                  <a:pt x="10494" y="13261"/>
                  <a:pt x="10595" y="13271"/>
                  <a:pt x="10716" y="13271"/>
                </a:cubicBezTo>
              </a:path>
              <a:path w="4391" h="2953">
                <a:moveTo>
                  <a:pt x="10145" y="13717"/>
                </a:moveTo>
                <a:cubicBezTo>
                  <a:pt x="10266" y="13884"/>
                  <a:pt x="10405" y="13992"/>
                  <a:pt x="10542" y="14139"/>
                </a:cubicBezTo>
                <a:cubicBezTo>
                  <a:pt x="10607" y="14209"/>
                  <a:pt x="10644" y="14300"/>
                  <a:pt x="10740" y="14337"/>
                </a:cubicBezTo>
                <a:cubicBezTo>
                  <a:pt x="10748" y="14337"/>
                  <a:pt x="10757" y="14337"/>
                  <a:pt x="10765" y="14337"/>
                </a:cubicBezTo>
              </a:path>
              <a:path w="4391" h="2953">
                <a:moveTo>
                  <a:pt x="10840" y="13692"/>
                </a:moveTo>
                <a:cubicBezTo>
                  <a:pt x="10831" y="13830"/>
                  <a:pt x="10797" y="13935"/>
                  <a:pt x="10740" y="14064"/>
                </a:cubicBezTo>
                <a:cubicBezTo>
                  <a:pt x="10679" y="14201"/>
                  <a:pt x="10631" y="14341"/>
                  <a:pt x="10592" y="14486"/>
                </a:cubicBezTo>
                <a:cubicBezTo>
                  <a:pt x="10554" y="14627"/>
                  <a:pt x="10541" y="14767"/>
                  <a:pt x="10517" y="14908"/>
                </a:cubicBezTo>
                <a:cubicBezTo>
                  <a:pt x="10500" y="15012"/>
                  <a:pt x="10492" y="15099"/>
                  <a:pt x="10492" y="15205"/>
                </a:cubicBezTo>
                <a:cubicBezTo>
                  <a:pt x="10492" y="15311"/>
                  <a:pt x="10555" y="15179"/>
                  <a:pt x="10592" y="15131"/>
                </a:cubicBezTo>
              </a:path>
              <a:path w="4391" h="2953">
                <a:moveTo>
                  <a:pt x="12402" y="12750"/>
                </a:moveTo>
                <a:cubicBezTo>
                  <a:pt x="12316" y="12821"/>
                  <a:pt x="12250" y="12846"/>
                  <a:pt x="12204" y="12948"/>
                </a:cubicBezTo>
                <a:cubicBezTo>
                  <a:pt x="12147" y="13074"/>
                  <a:pt x="12129" y="13211"/>
                  <a:pt x="12179" y="13345"/>
                </a:cubicBezTo>
                <a:cubicBezTo>
                  <a:pt x="12223" y="13463"/>
                  <a:pt x="12335" y="13607"/>
                  <a:pt x="12427" y="13692"/>
                </a:cubicBezTo>
                <a:cubicBezTo>
                  <a:pt x="12511" y="13769"/>
                  <a:pt x="12553" y="13758"/>
                  <a:pt x="12650" y="13742"/>
                </a:cubicBezTo>
              </a:path>
              <a:path w="4391" h="2953">
                <a:moveTo>
                  <a:pt x="13047" y="12725"/>
                </a:moveTo>
                <a:cubicBezTo>
                  <a:pt x="13047" y="12858"/>
                  <a:pt x="13005" y="13018"/>
                  <a:pt x="13022" y="13146"/>
                </a:cubicBezTo>
                <a:cubicBezTo>
                  <a:pt x="13043" y="13303"/>
                  <a:pt x="13070" y="13458"/>
                  <a:pt x="13097" y="13618"/>
                </a:cubicBezTo>
                <a:cubicBezTo>
                  <a:pt x="13097" y="13643"/>
                  <a:pt x="13097" y="13651"/>
                  <a:pt x="13097" y="13667"/>
                </a:cubicBezTo>
              </a:path>
              <a:path w="4391" h="2953">
                <a:moveTo>
                  <a:pt x="12849" y="13196"/>
                </a:moveTo>
                <a:cubicBezTo>
                  <a:pt x="12976" y="13204"/>
                  <a:pt x="13096" y="13235"/>
                  <a:pt x="13221" y="13246"/>
                </a:cubicBezTo>
                <a:cubicBezTo>
                  <a:pt x="13338" y="13256"/>
                  <a:pt x="13397" y="13223"/>
                  <a:pt x="13494" y="13171"/>
                </a:cubicBezTo>
              </a:path>
              <a:path w="4391" h="2953">
                <a:moveTo>
                  <a:pt x="13692" y="12675"/>
                </a:moveTo>
                <a:cubicBezTo>
                  <a:pt x="13776" y="12897"/>
                  <a:pt x="14027" y="13300"/>
                  <a:pt x="13915" y="13593"/>
                </a:cubicBezTo>
                <a:cubicBezTo>
                  <a:pt x="13866" y="13723"/>
                  <a:pt x="13770" y="13784"/>
                  <a:pt x="13643" y="13816"/>
                </a:cubicBezTo>
                <a:cubicBezTo>
                  <a:pt x="13535" y="13838"/>
                  <a:pt x="13508" y="13841"/>
                  <a:pt x="13444" y="13866"/>
                </a:cubicBezTo>
              </a:path>
              <a:path w="4391" h="2953">
                <a:moveTo>
                  <a:pt x="11187" y="14139"/>
                </a:moveTo>
                <a:cubicBezTo>
                  <a:pt x="11253" y="14139"/>
                  <a:pt x="11300" y="14153"/>
                  <a:pt x="11361" y="14163"/>
                </a:cubicBezTo>
                <a:cubicBezTo>
                  <a:pt x="11410" y="14163"/>
                  <a:pt x="11427" y="14163"/>
                  <a:pt x="11460" y="14163"/>
                </a:cubicBezTo>
              </a:path>
              <a:path w="4391" h="2953">
                <a:moveTo>
                  <a:pt x="11336" y="13866"/>
                </a:moveTo>
                <a:cubicBezTo>
                  <a:pt x="11259" y="13873"/>
                  <a:pt x="11160" y="13879"/>
                  <a:pt x="11088" y="13915"/>
                </a:cubicBezTo>
                <a:cubicBezTo>
                  <a:pt x="11020" y="13949"/>
                  <a:pt x="10956" y="14011"/>
                  <a:pt x="10939" y="14089"/>
                </a:cubicBezTo>
                <a:cubicBezTo>
                  <a:pt x="10927" y="14144"/>
                  <a:pt x="10979" y="14245"/>
                  <a:pt x="11013" y="14288"/>
                </a:cubicBezTo>
                <a:cubicBezTo>
                  <a:pt x="11059" y="14334"/>
                  <a:pt x="11072" y="14348"/>
                  <a:pt x="11112" y="14362"/>
                </a:cubicBezTo>
              </a:path>
              <a:path w="4391" h="2953">
                <a:moveTo>
                  <a:pt x="11683" y="13841"/>
                </a:moveTo>
                <a:cubicBezTo>
                  <a:pt x="11753" y="13976"/>
                  <a:pt x="11853" y="14102"/>
                  <a:pt x="11832" y="14263"/>
                </a:cubicBezTo>
                <a:cubicBezTo>
                  <a:pt x="11821" y="14348"/>
                  <a:pt x="11756" y="14423"/>
                  <a:pt x="11683" y="14461"/>
                </a:cubicBezTo>
                <a:cubicBezTo>
                  <a:pt x="11592" y="14508"/>
                  <a:pt x="11482" y="14543"/>
                  <a:pt x="11385" y="145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4680" y="3786120"/>
            <a:ext cx="63360" cy="81000"/>
          </a:xfrm>
          <a:custGeom>
            <a:avLst/>
            <a:gdLst/>
            <a:ahLst/>
            <a:rect l="l" t="t" r="r" b="b"/>
            <a:pathLst>
              <a:path w="175" h="224">
                <a:moveTo>
                  <a:pt x="1588" y="10641"/>
                </a:moveTo>
                <a:cubicBezTo>
                  <a:pt x="1659" y="10662"/>
                  <a:pt x="1635" y="10668"/>
                  <a:pt x="1687" y="10616"/>
                </a:cubicBezTo>
                <a:cubicBezTo>
                  <a:pt x="1675" y="10547"/>
                  <a:pt x="1677" y="10572"/>
                  <a:pt x="1637" y="10542"/>
                </a:cubicBezTo>
                <a:cubicBezTo>
                  <a:pt x="1599" y="10513"/>
                  <a:pt x="1563" y="10510"/>
                  <a:pt x="1538" y="10567"/>
                </a:cubicBezTo>
                <a:cubicBezTo>
                  <a:pt x="1510" y="10630"/>
                  <a:pt x="1521" y="10640"/>
                  <a:pt x="1538" y="10691"/>
                </a:cubicBezTo>
                <a:cubicBezTo>
                  <a:pt x="1538" y="10699"/>
                  <a:pt x="1538" y="10708"/>
                  <a:pt x="1538" y="10716"/>
                </a:cubicBezTo>
                <a:cubicBezTo>
                  <a:pt x="1600" y="10731"/>
                  <a:pt x="1580" y="10734"/>
                  <a:pt x="1637" y="10716"/>
                </a:cubicBezTo>
                <a:cubicBezTo>
                  <a:pt x="1678" y="10703"/>
                  <a:pt x="1683" y="10668"/>
                  <a:pt x="1687" y="10616"/>
                </a:cubicBezTo>
                <a:cubicBezTo>
                  <a:pt x="1691" y="10564"/>
                  <a:pt x="1674" y="10578"/>
                  <a:pt x="1662" y="10542"/>
                </a:cubicBezTo>
                <a:cubicBezTo>
                  <a:pt x="1595" y="10542"/>
                  <a:pt x="1598" y="10591"/>
                  <a:pt x="1563" y="10616"/>
                </a:cubicBezTo>
                <a:cubicBezTo>
                  <a:pt x="1531" y="10638"/>
                  <a:pt x="1528" y="10619"/>
                  <a:pt x="1563" y="10666"/>
                </a:cubicBezTo>
                <a:cubicBezTo>
                  <a:pt x="1613" y="10679"/>
                  <a:pt x="1615" y="10708"/>
                  <a:pt x="1662" y="10666"/>
                </a:cubicBezTo>
                <a:cubicBezTo>
                  <a:pt x="1683" y="10648"/>
                  <a:pt x="1704" y="10597"/>
                  <a:pt x="1687" y="10567"/>
                </a:cubicBezTo>
                <a:cubicBezTo>
                  <a:pt x="1662" y="10523"/>
                  <a:pt x="1662" y="10517"/>
                  <a:pt x="1612" y="10517"/>
                </a:cubicBezTo>
                <a:cubicBezTo>
                  <a:pt x="1586" y="10517"/>
                  <a:pt x="1525" y="10525"/>
                  <a:pt x="1513" y="10542"/>
                </a:cubicBezTo>
                <a:cubicBezTo>
                  <a:pt x="1513" y="10550"/>
                  <a:pt x="1513" y="10559"/>
                  <a:pt x="1513" y="105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ference ang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n acute angle formed by the terminal (ending) side of an angle </a:t>
            </a:r>
            <a:r>
              <a:rPr b="0" lang="el-GR" sz="45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 and the horizontal ax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Symbol is </a:t>
            </a:r>
            <a:r>
              <a:rPr b="0" lang="el-GR" sz="45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6840" y="625320"/>
            <a:ext cx="803160" cy="1133640"/>
          </a:xfrm>
          <a:custGeom>
            <a:avLst/>
            <a:gdLst/>
            <a:ahLst/>
            <a:rect l="l" t="t" r="r" b="b"/>
            <a:pathLst>
              <a:path w="2233" h="3152">
                <a:moveTo>
                  <a:pt x="1116" y="3820"/>
                </a:moveTo>
                <a:cubicBezTo>
                  <a:pt x="1083" y="3875"/>
                  <a:pt x="1100" y="3905"/>
                  <a:pt x="1091" y="3969"/>
                </a:cubicBezTo>
                <a:cubicBezTo>
                  <a:pt x="1075" y="4081"/>
                  <a:pt x="1050" y="4202"/>
                  <a:pt x="1067" y="4316"/>
                </a:cubicBezTo>
                <a:cubicBezTo>
                  <a:pt x="1088" y="4457"/>
                  <a:pt x="1078" y="4642"/>
                  <a:pt x="1166" y="4762"/>
                </a:cubicBezTo>
                <a:cubicBezTo>
                  <a:pt x="1198" y="4806"/>
                  <a:pt x="1241" y="4870"/>
                  <a:pt x="1290" y="4887"/>
                </a:cubicBezTo>
                <a:cubicBezTo>
                  <a:pt x="1353" y="4908"/>
                  <a:pt x="1401" y="4850"/>
                  <a:pt x="1439" y="4812"/>
                </a:cubicBezTo>
                <a:cubicBezTo>
                  <a:pt x="1492" y="4758"/>
                  <a:pt x="1558" y="4684"/>
                  <a:pt x="1588" y="4614"/>
                </a:cubicBezTo>
                <a:cubicBezTo>
                  <a:pt x="1623" y="4533"/>
                  <a:pt x="1634" y="4427"/>
                  <a:pt x="1637" y="4341"/>
                </a:cubicBezTo>
                <a:cubicBezTo>
                  <a:pt x="1639" y="4283"/>
                  <a:pt x="1616" y="4141"/>
                  <a:pt x="1588" y="4093"/>
                </a:cubicBezTo>
                <a:cubicBezTo>
                  <a:pt x="1553" y="4033"/>
                  <a:pt x="1489" y="3969"/>
                  <a:pt x="1439" y="3919"/>
                </a:cubicBezTo>
                <a:cubicBezTo>
                  <a:pt x="1402" y="3881"/>
                  <a:pt x="1343" y="3872"/>
                  <a:pt x="1290" y="3870"/>
                </a:cubicBezTo>
                <a:cubicBezTo>
                  <a:pt x="1193" y="3866"/>
                  <a:pt x="1194" y="3898"/>
                  <a:pt x="1116" y="3919"/>
                </a:cubicBezTo>
                <a:cubicBezTo>
                  <a:pt x="1040" y="3939"/>
                  <a:pt x="1063" y="3937"/>
                  <a:pt x="1017" y="3994"/>
                </a:cubicBezTo>
              </a:path>
              <a:path w="2233" h="3152">
                <a:moveTo>
                  <a:pt x="1811" y="3795"/>
                </a:moveTo>
                <a:cubicBezTo>
                  <a:pt x="1837" y="3728"/>
                  <a:pt x="1882" y="3692"/>
                  <a:pt x="1935" y="3646"/>
                </a:cubicBezTo>
                <a:cubicBezTo>
                  <a:pt x="1992" y="3596"/>
                  <a:pt x="2039" y="3551"/>
                  <a:pt x="2084" y="3497"/>
                </a:cubicBezTo>
                <a:cubicBezTo>
                  <a:pt x="2111" y="3465"/>
                  <a:pt x="2151" y="3449"/>
                  <a:pt x="2183" y="3423"/>
                </a:cubicBezTo>
              </a:path>
              <a:path w="2233" h="3152">
                <a:moveTo>
                  <a:pt x="2654" y="2729"/>
                </a:moveTo>
                <a:cubicBezTo>
                  <a:pt x="2602" y="2617"/>
                  <a:pt x="2616" y="2586"/>
                  <a:pt x="2505" y="2580"/>
                </a:cubicBezTo>
                <a:cubicBezTo>
                  <a:pt x="2426" y="2576"/>
                  <a:pt x="2401" y="2627"/>
                  <a:pt x="2356" y="2679"/>
                </a:cubicBezTo>
                <a:cubicBezTo>
                  <a:pt x="2274" y="2773"/>
                  <a:pt x="2263" y="2817"/>
                  <a:pt x="2232" y="2927"/>
                </a:cubicBezTo>
                <a:cubicBezTo>
                  <a:pt x="2213" y="2995"/>
                  <a:pt x="2200" y="3061"/>
                  <a:pt x="2232" y="3125"/>
                </a:cubicBezTo>
                <a:cubicBezTo>
                  <a:pt x="2252" y="3165"/>
                  <a:pt x="2339" y="3194"/>
                  <a:pt x="2381" y="3175"/>
                </a:cubicBezTo>
                <a:cubicBezTo>
                  <a:pt x="2455" y="3141"/>
                  <a:pt x="2508" y="3082"/>
                  <a:pt x="2555" y="3026"/>
                </a:cubicBezTo>
                <a:cubicBezTo>
                  <a:pt x="2600" y="2972"/>
                  <a:pt x="2625" y="2923"/>
                  <a:pt x="2629" y="2853"/>
                </a:cubicBezTo>
                <a:cubicBezTo>
                  <a:pt x="2633" y="2778"/>
                  <a:pt x="2571" y="2587"/>
                  <a:pt x="2604" y="2654"/>
                </a:cubicBezTo>
                <a:cubicBezTo>
                  <a:pt x="2632" y="2710"/>
                  <a:pt x="2629" y="2762"/>
                  <a:pt x="2654" y="2828"/>
                </a:cubicBezTo>
                <a:cubicBezTo>
                  <a:pt x="2689" y="2918"/>
                  <a:pt x="2721" y="3009"/>
                  <a:pt x="2753" y="3101"/>
                </a:cubicBezTo>
                <a:cubicBezTo>
                  <a:pt x="2778" y="3175"/>
                  <a:pt x="2830" y="3229"/>
                  <a:pt x="2853" y="3299"/>
                </a:cubicBezTo>
                <a:cubicBezTo>
                  <a:pt x="2864" y="3333"/>
                  <a:pt x="2877" y="3458"/>
                  <a:pt x="2877" y="3349"/>
                </a:cubicBezTo>
                <a:cubicBezTo>
                  <a:pt x="2877" y="3341"/>
                  <a:pt x="2877" y="3332"/>
                  <a:pt x="2877" y="3324"/>
                </a:cubicBezTo>
              </a:path>
              <a:path w="2233" h="3152">
                <a:moveTo>
                  <a:pt x="2853" y="2505"/>
                </a:moveTo>
                <a:cubicBezTo>
                  <a:pt x="2857" y="2643"/>
                  <a:pt x="2834" y="2827"/>
                  <a:pt x="2927" y="2952"/>
                </a:cubicBezTo>
                <a:cubicBezTo>
                  <a:pt x="2975" y="3016"/>
                  <a:pt x="3028" y="3021"/>
                  <a:pt x="3101" y="3026"/>
                </a:cubicBezTo>
                <a:cubicBezTo>
                  <a:pt x="3159" y="3030"/>
                  <a:pt x="3179" y="2944"/>
                  <a:pt x="3200" y="2902"/>
                </a:cubicBezTo>
                <a:cubicBezTo>
                  <a:pt x="3233" y="2836"/>
                  <a:pt x="3260" y="2729"/>
                  <a:pt x="3249" y="2654"/>
                </a:cubicBezTo>
                <a:cubicBezTo>
                  <a:pt x="3239" y="2587"/>
                  <a:pt x="3230" y="2457"/>
                  <a:pt x="3175" y="2406"/>
                </a:cubicBezTo>
                <a:cubicBezTo>
                  <a:pt x="3130" y="2365"/>
                  <a:pt x="3061" y="2322"/>
                  <a:pt x="3001" y="2307"/>
                </a:cubicBezTo>
                <a:cubicBezTo>
                  <a:pt x="2963" y="2297"/>
                  <a:pt x="2864" y="2340"/>
                  <a:pt x="2828" y="2356"/>
                </a:cubicBezTo>
                <a:cubicBezTo>
                  <a:pt x="2811" y="2364"/>
                  <a:pt x="2795" y="2373"/>
                  <a:pt x="2778" y="2381"/>
                </a:cubicBezTo>
              </a:path>
              <a:path w="2233" h="3152">
                <a:moveTo>
                  <a:pt x="1042" y="3299"/>
                </a:moveTo>
                <a:cubicBezTo>
                  <a:pt x="1050" y="3341"/>
                  <a:pt x="1059" y="3509"/>
                  <a:pt x="1141" y="3522"/>
                </a:cubicBezTo>
                <a:cubicBezTo>
                  <a:pt x="1162" y="3525"/>
                  <a:pt x="1224" y="3464"/>
                  <a:pt x="1240" y="3448"/>
                </a:cubicBezTo>
                <a:cubicBezTo>
                  <a:pt x="1263" y="3425"/>
                  <a:pt x="1325" y="3357"/>
                  <a:pt x="1315" y="3324"/>
                </a:cubicBezTo>
                <a:cubicBezTo>
                  <a:pt x="1304" y="3286"/>
                  <a:pt x="1281" y="3218"/>
                  <a:pt x="1240" y="3200"/>
                </a:cubicBezTo>
                <a:cubicBezTo>
                  <a:pt x="1202" y="3183"/>
                  <a:pt x="1177" y="3239"/>
                  <a:pt x="1166" y="3225"/>
                </a:cubicBezTo>
                <a:cubicBezTo>
                  <a:pt x="1166" y="3217"/>
                  <a:pt x="1166" y="3208"/>
                  <a:pt x="1166" y="3200"/>
                </a:cubicBezTo>
              </a:path>
              <a:path w="2233" h="3152">
                <a:moveTo>
                  <a:pt x="2853" y="1761"/>
                </a:moveTo>
                <a:cubicBezTo>
                  <a:pt x="2832" y="1845"/>
                  <a:pt x="2809" y="1819"/>
                  <a:pt x="2803" y="1935"/>
                </a:cubicBezTo>
                <a:cubicBezTo>
                  <a:pt x="2801" y="1977"/>
                  <a:pt x="2838" y="1997"/>
                  <a:pt x="2877" y="1984"/>
                </a:cubicBezTo>
                <a:cubicBezTo>
                  <a:pt x="2914" y="1971"/>
                  <a:pt x="2984" y="1924"/>
                  <a:pt x="3001" y="1885"/>
                </a:cubicBezTo>
                <a:cubicBezTo>
                  <a:pt x="3015" y="1853"/>
                  <a:pt x="3001" y="1772"/>
                  <a:pt x="3001" y="1736"/>
                </a:cubicBezTo>
                <a:cubicBezTo>
                  <a:pt x="2937" y="1736"/>
                  <a:pt x="2852" y="1740"/>
                  <a:pt x="2803" y="1786"/>
                </a:cubicBezTo>
                <a:cubicBezTo>
                  <a:pt x="2779" y="1809"/>
                  <a:pt x="2756" y="1858"/>
                  <a:pt x="2729" y="18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38200" y="3867120"/>
            <a:ext cx="1339920" cy="293760"/>
          </a:xfrm>
          <a:custGeom>
            <a:avLst/>
            <a:gdLst/>
            <a:ahLst/>
            <a:rect l="l" t="t" r="r" b="b"/>
            <a:pathLst>
              <a:path w="3721" h="820">
                <a:moveTo>
                  <a:pt x="7714" y="11088"/>
                </a:moveTo>
                <a:cubicBezTo>
                  <a:pt x="7570" y="11007"/>
                  <a:pt x="7403" y="10891"/>
                  <a:pt x="7243" y="10840"/>
                </a:cubicBezTo>
                <a:cubicBezTo>
                  <a:pt x="7035" y="10774"/>
                  <a:pt x="6790" y="10744"/>
                  <a:pt x="6573" y="10740"/>
                </a:cubicBezTo>
                <a:cubicBezTo>
                  <a:pt x="6299" y="10735"/>
                  <a:pt x="6043" y="10741"/>
                  <a:pt x="5779" y="10790"/>
                </a:cubicBezTo>
                <a:cubicBezTo>
                  <a:pt x="5554" y="10832"/>
                  <a:pt x="5323" y="10841"/>
                  <a:pt x="5110" y="10939"/>
                </a:cubicBezTo>
                <a:cubicBezTo>
                  <a:pt x="4920" y="11026"/>
                  <a:pt x="4733" y="11130"/>
                  <a:pt x="4539" y="11212"/>
                </a:cubicBezTo>
                <a:cubicBezTo>
                  <a:pt x="4459" y="11246"/>
                  <a:pt x="4390" y="11289"/>
                  <a:pt x="4316" y="11311"/>
                </a:cubicBezTo>
                <a:cubicBezTo>
                  <a:pt x="4268" y="11325"/>
                  <a:pt x="4318" y="11319"/>
                  <a:pt x="4266" y="11286"/>
                </a:cubicBezTo>
              </a:path>
              <a:path w="3721" h="820">
                <a:moveTo>
                  <a:pt x="4118" y="10988"/>
                </a:moveTo>
                <a:cubicBezTo>
                  <a:pt x="4076" y="11086"/>
                  <a:pt x="4063" y="11189"/>
                  <a:pt x="4018" y="11286"/>
                </a:cubicBezTo>
                <a:cubicBezTo>
                  <a:pt x="3998" y="11330"/>
                  <a:pt x="3994" y="11358"/>
                  <a:pt x="3994" y="11410"/>
                </a:cubicBezTo>
                <a:cubicBezTo>
                  <a:pt x="3994" y="11470"/>
                  <a:pt x="4002" y="11459"/>
                  <a:pt x="4043" y="11485"/>
                </a:cubicBezTo>
                <a:cubicBezTo>
                  <a:pt x="4091" y="11516"/>
                  <a:pt x="4156" y="11531"/>
                  <a:pt x="4217" y="11534"/>
                </a:cubicBezTo>
                <a:cubicBezTo>
                  <a:pt x="4294" y="11537"/>
                  <a:pt x="4344" y="11545"/>
                  <a:pt x="4415" y="115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8880" y="4133880"/>
            <a:ext cx="903240" cy="287280"/>
          </a:xfrm>
          <a:custGeom>
            <a:avLst/>
            <a:gdLst/>
            <a:ahLst/>
            <a:rect l="l" t="t" r="r" b="b"/>
            <a:pathLst>
              <a:path w="2507" h="794">
                <a:moveTo>
                  <a:pt x="2257" y="11609"/>
                </a:moveTo>
                <a:cubicBezTo>
                  <a:pt x="2286" y="11732"/>
                  <a:pt x="2313" y="11824"/>
                  <a:pt x="2381" y="11931"/>
                </a:cubicBezTo>
                <a:cubicBezTo>
                  <a:pt x="2438" y="12022"/>
                  <a:pt x="2507" y="12128"/>
                  <a:pt x="2604" y="12179"/>
                </a:cubicBezTo>
                <a:cubicBezTo>
                  <a:pt x="2731" y="12234"/>
                  <a:pt x="2752" y="12295"/>
                  <a:pt x="2803" y="12229"/>
                </a:cubicBezTo>
              </a:path>
              <a:path w="2507" h="794">
                <a:moveTo>
                  <a:pt x="2679" y="11485"/>
                </a:moveTo>
                <a:cubicBezTo>
                  <a:pt x="2579" y="11592"/>
                  <a:pt x="2544" y="11700"/>
                  <a:pt x="2456" y="11807"/>
                </a:cubicBezTo>
                <a:cubicBezTo>
                  <a:pt x="2371" y="11910"/>
                  <a:pt x="2273" y="12012"/>
                  <a:pt x="2208" y="12129"/>
                </a:cubicBezTo>
                <a:cubicBezTo>
                  <a:pt x="2180" y="12179"/>
                  <a:pt x="2128" y="12224"/>
                  <a:pt x="2108" y="12254"/>
                </a:cubicBezTo>
                <a:cubicBezTo>
                  <a:pt x="2108" y="12278"/>
                  <a:pt x="2108" y="12286"/>
                  <a:pt x="2108" y="12254"/>
                </a:cubicBezTo>
              </a:path>
              <a:path w="2507" h="794">
                <a:moveTo>
                  <a:pt x="3373" y="11931"/>
                </a:moveTo>
                <a:cubicBezTo>
                  <a:pt x="3369" y="11913"/>
                  <a:pt x="3335" y="11839"/>
                  <a:pt x="3324" y="11832"/>
                </a:cubicBezTo>
                <a:cubicBezTo>
                  <a:pt x="3295" y="11813"/>
                  <a:pt x="3220" y="11844"/>
                  <a:pt x="3200" y="11857"/>
                </a:cubicBezTo>
                <a:cubicBezTo>
                  <a:pt x="3121" y="11909"/>
                  <a:pt x="3061" y="11990"/>
                  <a:pt x="3051" y="12080"/>
                </a:cubicBezTo>
                <a:cubicBezTo>
                  <a:pt x="3046" y="12124"/>
                  <a:pt x="3054" y="12172"/>
                  <a:pt x="3076" y="12204"/>
                </a:cubicBezTo>
                <a:cubicBezTo>
                  <a:pt x="3113" y="12259"/>
                  <a:pt x="3163" y="12226"/>
                  <a:pt x="3200" y="12204"/>
                </a:cubicBezTo>
                <a:cubicBezTo>
                  <a:pt x="3229" y="12187"/>
                  <a:pt x="3313" y="12144"/>
                  <a:pt x="3324" y="12105"/>
                </a:cubicBezTo>
                <a:cubicBezTo>
                  <a:pt x="3339" y="12054"/>
                  <a:pt x="3349" y="12012"/>
                  <a:pt x="3349" y="11956"/>
                </a:cubicBezTo>
                <a:cubicBezTo>
                  <a:pt x="3306" y="12012"/>
                  <a:pt x="3338" y="12024"/>
                  <a:pt x="3349" y="12080"/>
                </a:cubicBezTo>
                <a:cubicBezTo>
                  <a:pt x="3367" y="12170"/>
                  <a:pt x="3391" y="12172"/>
                  <a:pt x="3473" y="12204"/>
                </a:cubicBezTo>
                <a:cubicBezTo>
                  <a:pt x="3547" y="12233"/>
                  <a:pt x="3547" y="12232"/>
                  <a:pt x="3621" y="12204"/>
                </a:cubicBezTo>
              </a:path>
              <a:path w="2507" h="794">
                <a:moveTo>
                  <a:pt x="3696" y="11832"/>
                </a:moveTo>
                <a:cubicBezTo>
                  <a:pt x="3720" y="11848"/>
                  <a:pt x="3743" y="11912"/>
                  <a:pt x="3770" y="11956"/>
                </a:cubicBezTo>
                <a:cubicBezTo>
                  <a:pt x="3816" y="12032"/>
                  <a:pt x="3913" y="12067"/>
                  <a:pt x="3994" y="12105"/>
                </a:cubicBezTo>
                <a:cubicBezTo>
                  <a:pt x="4050" y="12131"/>
                  <a:pt x="4081" y="12129"/>
                  <a:pt x="4142" y="12129"/>
                </a:cubicBezTo>
              </a:path>
              <a:path w="2507" h="794">
                <a:moveTo>
                  <a:pt x="4093" y="11733"/>
                </a:moveTo>
                <a:cubicBezTo>
                  <a:pt x="3980" y="11822"/>
                  <a:pt x="3934" y="11897"/>
                  <a:pt x="3845" y="12005"/>
                </a:cubicBezTo>
                <a:cubicBezTo>
                  <a:pt x="3790" y="12072"/>
                  <a:pt x="3733" y="12146"/>
                  <a:pt x="3721" y="12229"/>
                </a:cubicBezTo>
                <a:cubicBezTo>
                  <a:pt x="3721" y="12264"/>
                  <a:pt x="3726" y="12263"/>
                  <a:pt x="3746" y="12204"/>
                </a:cubicBezTo>
              </a:path>
              <a:path w="2507" h="794">
                <a:moveTo>
                  <a:pt x="4242" y="11906"/>
                </a:moveTo>
                <a:cubicBezTo>
                  <a:pt x="4259" y="11994"/>
                  <a:pt x="4266" y="12065"/>
                  <a:pt x="4266" y="12154"/>
                </a:cubicBezTo>
                <a:cubicBezTo>
                  <a:pt x="4266" y="12162"/>
                  <a:pt x="4266" y="12246"/>
                  <a:pt x="4266" y="12179"/>
                </a:cubicBezTo>
              </a:path>
              <a:path w="2507" h="794">
                <a:moveTo>
                  <a:pt x="4316" y="11609"/>
                </a:moveTo>
                <a:cubicBezTo>
                  <a:pt x="4288" y="11609"/>
                  <a:pt x="4282" y="11607"/>
                  <a:pt x="4316" y="11584"/>
                </a:cubicBezTo>
              </a:path>
              <a:path w="2507" h="794">
                <a:moveTo>
                  <a:pt x="4589" y="11683"/>
                </a:moveTo>
                <a:cubicBezTo>
                  <a:pt x="4559" y="11701"/>
                  <a:pt x="4459" y="11740"/>
                  <a:pt x="4440" y="11782"/>
                </a:cubicBezTo>
                <a:cubicBezTo>
                  <a:pt x="4423" y="11821"/>
                  <a:pt x="4449" y="11854"/>
                  <a:pt x="4465" y="11881"/>
                </a:cubicBezTo>
                <a:cubicBezTo>
                  <a:pt x="4505" y="11950"/>
                  <a:pt x="4550" y="12012"/>
                  <a:pt x="4589" y="12080"/>
                </a:cubicBezTo>
                <a:cubicBezTo>
                  <a:pt x="4610" y="12116"/>
                  <a:pt x="4643" y="12122"/>
                  <a:pt x="4614" y="12179"/>
                </a:cubicBezTo>
                <a:cubicBezTo>
                  <a:pt x="4598" y="12212"/>
                  <a:pt x="4519" y="12219"/>
                  <a:pt x="4490" y="12204"/>
                </a:cubicBezTo>
                <a:cubicBezTo>
                  <a:pt x="4440" y="12179"/>
                  <a:pt x="4402" y="12179"/>
                  <a:pt x="4341" y="121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81760" y="5500800"/>
            <a:ext cx="79200" cy="9036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14139" y="15280"/>
                </a:moveTo>
                <a:cubicBezTo>
                  <a:pt x="14130" y="15359"/>
                  <a:pt x="14099" y="15411"/>
                  <a:pt x="14139" y="15478"/>
                </a:cubicBezTo>
              </a:path>
              <a:path w="224" h="249">
                <a:moveTo>
                  <a:pt x="14312" y="15404"/>
                </a:moveTo>
                <a:cubicBezTo>
                  <a:pt x="14320" y="15445"/>
                  <a:pt x="14329" y="15487"/>
                  <a:pt x="14337" y="155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2160" y="5572080"/>
            <a:ext cx="866880" cy="339840"/>
          </a:xfrm>
          <a:custGeom>
            <a:avLst/>
            <a:gdLst/>
            <a:ahLst/>
            <a:rect l="l" t="t" r="r" b="b"/>
            <a:pathLst>
              <a:path w="2407" h="944">
                <a:moveTo>
                  <a:pt x="15379" y="15627"/>
                </a:moveTo>
                <a:cubicBezTo>
                  <a:pt x="15330" y="15783"/>
                  <a:pt x="15274" y="15961"/>
                  <a:pt x="15255" y="16123"/>
                </a:cubicBezTo>
                <a:cubicBezTo>
                  <a:pt x="15243" y="16224"/>
                  <a:pt x="15284" y="16304"/>
                  <a:pt x="15304" y="16396"/>
                </a:cubicBezTo>
                <a:cubicBezTo>
                  <a:pt x="15304" y="16421"/>
                  <a:pt x="15304" y="16429"/>
                  <a:pt x="15329" y="16421"/>
                </a:cubicBezTo>
              </a:path>
              <a:path w="2407" h="944">
                <a:moveTo>
                  <a:pt x="15007" y="15875"/>
                </a:moveTo>
                <a:cubicBezTo>
                  <a:pt x="15113" y="15939"/>
                  <a:pt x="15221" y="15946"/>
                  <a:pt x="15354" y="15949"/>
                </a:cubicBezTo>
                <a:cubicBezTo>
                  <a:pt x="15450" y="15949"/>
                  <a:pt x="15480" y="15951"/>
                  <a:pt x="15528" y="15900"/>
                </a:cubicBezTo>
              </a:path>
              <a:path w="2407" h="944">
                <a:moveTo>
                  <a:pt x="15726" y="15478"/>
                </a:moveTo>
                <a:cubicBezTo>
                  <a:pt x="15703" y="15634"/>
                  <a:pt x="15644" y="15793"/>
                  <a:pt x="15627" y="15949"/>
                </a:cubicBezTo>
                <a:cubicBezTo>
                  <a:pt x="15615" y="16056"/>
                  <a:pt x="15612" y="16169"/>
                  <a:pt x="15602" y="16272"/>
                </a:cubicBezTo>
                <a:cubicBezTo>
                  <a:pt x="15602" y="16297"/>
                  <a:pt x="15602" y="16305"/>
                  <a:pt x="15602" y="16272"/>
                </a:cubicBezTo>
                <a:cubicBezTo>
                  <a:pt x="15602" y="16169"/>
                  <a:pt x="15619" y="16097"/>
                  <a:pt x="15652" y="15999"/>
                </a:cubicBezTo>
                <a:cubicBezTo>
                  <a:pt x="15684" y="15905"/>
                  <a:pt x="15677" y="15875"/>
                  <a:pt x="15776" y="15875"/>
                </a:cubicBezTo>
                <a:cubicBezTo>
                  <a:pt x="15821" y="15875"/>
                  <a:pt x="15858" y="15982"/>
                  <a:pt x="15875" y="16024"/>
                </a:cubicBezTo>
                <a:cubicBezTo>
                  <a:pt x="15894" y="16072"/>
                  <a:pt x="15911" y="16192"/>
                  <a:pt x="15949" y="16222"/>
                </a:cubicBezTo>
                <a:cubicBezTo>
                  <a:pt x="15966" y="16230"/>
                  <a:pt x="15982" y="16239"/>
                  <a:pt x="15999" y="16247"/>
                </a:cubicBezTo>
              </a:path>
              <a:path w="2407" h="944">
                <a:moveTo>
                  <a:pt x="16073" y="16049"/>
                </a:moveTo>
                <a:cubicBezTo>
                  <a:pt x="16183" y="16049"/>
                  <a:pt x="16225" y="16047"/>
                  <a:pt x="16321" y="15999"/>
                </a:cubicBezTo>
                <a:cubicBezTo>
                  <a:pt x="16373" y="15973"/>
                  <a:pt x="16424" y="15917"/>
                  <a:pt x="16396" y="15850"/>
                </a:cubicBezTo>
                <a:cubicBezTo>
                  <a:pt x="16373" y="15796"/>
                  <a:pt x="16319" y="15801"/>
                  <a:pt x="16272" y="15801"/>
                </a:cubicBezTo>
                <a:cubicBezTo>
                  <a:pt x="16174" y="15801"/>
                  <a:pt x="16112" y="15833"/>
                  <a:pt x="16073" y="15925"/>
                </a:cubicBezTo>
                <a:cubicBezTo>
                  <a:pt x="16034" y="16016"/>
                  <a:pt x="16044" y="16137"/>
                  <a:pt x="16098" y="16222"/>
                </a:cubicBezTo>
                <a:cubicBezTo>
                  <a:pt x="16173" y="16340"/>
                  <a:pt x="16275" y="16355"/>
                  <a:pt x="16396" y="16346"/>
                </a:cubicBezTo>
              </a:path>
              <a:path w="2407" h="944">
                <a:moveTo>
                  <a:pt x="16793" y="15478"/>
                </a:moveTo>
                <a:cubicBezTo>
                  <a:pt x="16732" y="15703"/>
                  <a:pt x="16694" y="15848"/>
                  <a:pt x="16694" y="16073"/>
                </a:cubicBezTo>
                <a:cubicBezTo>
                  <a:pt x="16694" y="16091"/>
                  <a:pt x="16737" y="16277"/>
                  <a:pt x="16718" y="16297"/>
                </a:cubicBezTo>
                <a:cubicBezTo>
                  <a:pt x="16710" y="16297"/>
                  <a:pt x="16702" y="16297"/>
                  <a:pt x="16694" y="16297"/>
                </a:cubicBezTo>
              </a:path>
              <a:path w="2407" h="944">
                <a:moveTo>
                  <a:pt x="16470" y="15825"/>
                </a:moveTo>
                <a:cubicBezTo>
                  <a:pt x="16514" y="15761"/>
                  <a:pt x="16617" y="15841"/>
                  <a:pt x="16694" y="15850"/>
                </a:cubicBezTo>
                <a:cubicBezTo>
                  <a:pt x="16784" y="15861"/>
                  <a:pt x="16875" y="15868"/>
                  <a:pt x="16966" y="15875"/>
                </a:cubicBezTo>
              </a:path>
              <a:path w="2407" h="944">
                <a:moveTo>
                  <a:pt x="17165" y="15900"/>
                </a:moveTo>
                <a:cubicBezTo>
                  <a:pt x="17042" y="15981"/>
                  <a:pt x="16879" y="16023"/>
                  <a:pt x="16867" y="16173"/>
                </a:cubicBezTo>
                <a:cubicBezTo>
                  <a:pt x="16863" y="16222"/>
                  <a:pt x="16925" y="16239"/>
                  <a:pt x="16966" y="16222"/>
                </a:cubicBezTo>
                <a:cubicBezTo>
                  <a:pt x="17024" y="16197"/>
                  <a:pt x="17061" y="16152"/>
                  <a:pt x="17090" y="16098"/>
                </a:cubicBezTo>
                <a:cubicBezTo>
                  <a:pt x="17112" y="16056"/>
                  <a:pt x="17131" y="16019"/>
                  <a:pt x="17140" y="15974"/>
                </a:cubicBezTo>
                <a:cubicBezTo>
                  <a:pt x="17175" y="16043"/>
                  <a:pt x="17217" y="16134"/>
                  <a:pt x="17289" y="16173"/>
                </a:cubicBezTo>
                <a:cubicBezTo>
                  <a:pt x="17330" y="16189"/>
                  <a:pt x="17372" y="16206"/>
                  <a:pt x="17413" y="162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6880" y="5537160"/>
            <a:ext cx="1019160" cy="554040"/>
          </a:xfrm>
          <a:custGeom>
            <a:avLst/>
            <a:gdLst/>
            <a:ahLst/>
            <a:rect l="l" t="t" r="r" b="b"/>
            <a:pathLst>
              <a:path w="2829" h="1539">
                <a:moveTo>
                  <a:pt x="18033" y="15949"/>
                </a:moveTo>
                <a:cubicBezTo>
                  <a:pt x="17999" y="16167"/>
                  <a:pt x="17920" y="16399"/>
                  <a:pt x="17934" y="16619"/>
                </a:cubicBezTo>
                <a:cubicBezTo>
                  <a:pt x="17940" y="16719"/>
                  <a:pt x="17861" y="16897"/>
                  <a:pt x="17959" y="16917"/>
                </a:cubicBezTo>
                <a:cubicBezTo>
                  <a:pt x="17967" y="16909"/>
                  <a:pt x="17975" y="16900"/>
                  <a:pt x="17983" y="16892"/>
                </a:cubicBezTo>
              </a:path>
              <a:path w="2829" h="1539">
                <a:moveTo>
                  <a:pt x="17909" y="15999"/>
                </a:moveTo>
                <a:cubicBezTo>
                  <a:pt x="17913" y="15908"/>
                  <a:pt x="17875" y="15723"/>
                  <a:pt x="18033" y="15751"/>
                </a:cubicBezTo>
                <a:cubicBezTo>
                  <a:pt x="18175" y="15776"/>
                  <a:pt x="18290" y="15931"/>
                  <a:pt x="18355" y="16049"/>
                </a:cubicBezTo>
                <a:cubicBezTo>
                  <a:pt x="18415" y="16158"/>
                  <a:pt x="18360" y="16194"/>
                  <a:pt x="18281" y="16222"/>
                </a:cubicBezTo>
                <a:cubicBezTo>
                  <a:pt x="18183" y="16257"/>
                  <a:pt x="18149" y="16242"/>
                  <a:pt x="18058" y="16197"/>
                </a:cubicBezTo>
                <a:cubicBezTo>
                  <a:pt x="17984" y="16161"/>
                  <a:pt x="17965" y="16144"/>
                  <a:pt x="18008" y="16073"/>
                </a:cubicBezTo>
              </a:path>
              <a:path w="2829" h="1539">
                <a:moveTo>
                  <a:pt x="18430" y="16098"/>
                </a:moveTo>
                <a:cubicBezTo>
                  <a:pt x="18438" y="16139"/>
                  <a:pt x="18447" y="16181"/>
                  <a:pt x="18455" y="16222"/>
                </a:cubicBezTo>
                <a:cubicBezTo>
                  <a:pt x="18455" y="16111"/>
                  <a:pt x="18466" y="16004"/>
                  <a:pt x="18479" y="15900"/>
                </a:cubicBezTo>
                <a:cubicBezTo>
                  <a:pt x="18497" y="15749"/>
                  <a:pt x="18524" y="15737"/>
                  <a:pt x="18678" y="15726"/>
                </a:cubicBezTo>
              </a:path>
              <a:path w="2829" h="1539">
                <a:moveTo>
                  <a:pt x="18901" y="15900"/>
                </a:moveTo>
                <a:cubicBezTo>
                  <a:pt x="18878" y="16005"/>
                  <a:pt x="18833" y="16116"/>
                  <a:pt x="18827" y="16222"/>
                </a:cubicBezTo>
                <a:cubicBezTo>
                  <a:pt x="18827" y="16230"/>
                  <a:pt x="18827" y="16378"/>
                  <a:pt x="18827" y="16247"/>
                </a:cubicBezTo>
              </a:path>
              <a:path w="2829" h="1539">
                <a:moveTo>
                  <a:pt x="18901" y="15577"/>
                </a:moveTo>
                <a:cubicBezTo>
                  <a:pt x="18971" y="15577"/>
                  <a:pt x="18977" y="15580"/>
                  <a:pt x="19050" y="15602"/>
                </a:cubicBezTo>
              </a:path>
              <a:path w="2829" h="1539">
                <a:moveTo>
                  <a:pt x="19000" y="16049"/>
                </a:moveTo>
                <a:cubicBezTo>
                  <a:pt x="19000" y="16090"/>
                  <a:pt x="19000" y="16132"/>
                  <a:pt x="19000" y="16173"/>
                </a:cubicBezTo>
                <a:cubicBezTo>
                  <a:pt x="19019" y="16099"/>
                  <a:pt x="19068" y="16000"/>
                  <a:pt x="19100" y="15925"/>
                </a:cubicBezTo>
                <a:cubicBezTo>
                  <a:pt x="19124" y="15869"/>
                  <a:pt x="19155" y="15861"/>
                  <a:pt x="19199" y="15825"/>
                </a:cubicBezTo>
                <a:cubicBezTo>
                  <a:pt x="19256" y="15897"/>
                  <a:pt x="19256" y="15938"/>
                  <a:pt x="19273" y="16024"/>
                </a:cubicBezTo>
                <a:cubicBezTo>
                  <a:pt x="19295" y="16135"/>
                  <a:pt x="19293" y="16148"/>
                  <a:pt x="19273" y="16247"/>
                </a:cubicBezTo>
                <a:cubicBezTo>
                  <a:pt x="19273" y="16197"/>
                  <a:pt x="19286" y="16145"/>
                  <a:pt x="19298" y="16098"/>
                </a:cubicBezTo>
                <a:cubicBezTo>
                  <a:pt x="19315" y="16035"/>
                  <a:pt x="19348" y="15974"/>
                  <a:pt x="19397" y="15949"/>
                </a:cubicBezTo>
                <a:cubicBezTo>
                  <a:pt x="19464" y="15966"/>
                  <a:pt x="19456" y="15990"/>
                  <a:pt x="19472" y="16049"/>
                </a:cubicBezTo>
                <a:cubicBezTo>
                  <a:pt x="19499" y="16151"/>
                  <a:pt x="19533" y="16234"/>
                  <a:pt x="19621" y="16297"/>
                </a:cubicBezTo>
                <a:cubicBezTo>
                  <a:pt x="19637" y="16305"/>
                  <a:pt x="19654" y="16313"/>
                  <a:pt x="19670" y="16321"/>
                </a:cubicBezTo>
              </a:path>
              <a:path w="2829" h="1539">
                <a:moveTo>
                  <a:pt x="19794" y="15900"/>
                </a:moveTo>
                <a:cubicBezTo>
                  <a:pt x="19833" y="15938"/>
                  <a:pt x="19835" y="15955"/>
                  <a:pt x="19869" y="15949"/>
                </a:cubicBezTo>
              </a:path>
              <a:path w="2829" h="1539">
                <a:moveTo>
                  <a:pt x="19918" y="15850"/>
                </a:moveTo>
                <a:cubicBezTo>
                  <a:pt x="19854" y="15834"/>
                  <a:pt x="19878" y="15830"/>
                  <a:pt x="19819" y="15850"/>
                </a:cubicBezTo>
                <a:cubicBezTo>
                  <a:pt x="19763" y="15869"/>
                  <a:pt x="19762" y="15891"/>
                  <a:pt x="19745" y="15949"/>
                </a:cubicBezTo>
                <a:cubicBezTo>
                  <a:pt x="19718" y="16039"/>
                  <a:pt x="19748" y="16133"/>
                  <a:pt x="19794" y="16222"/>
                </a:cubicBezTo>
                <a:cubicBezTo>
                  <a:pt x="19836" y="16304"/>
                  <a:pt x="19902" y="16453"/>
                  <a:pt x="19993" y="16495"/>
                </a:cubicBezTo>
                <a:cubicBezTo>
                  <a:pt x="20070" y="16531"/>
                  <a:pt x="20107" y="16530"/>
                  <a:pt x="20166" y="16495"/>
                </a:cubicBezTo>
              </a:path>
              <a:path w="2829" h="1539">
                <a:moveTo>
                  <a:pt x="20513" y="15379"/>
                </a:moveTo>
                <a:cubicBezTo>
                  <a:pt x="20496" y="15444"/>
                  <a:pt x="20489" y="15488"/>
                  <a:pt x="20489" y="15553"/>
                </a:cubicBezTo>
              </a:path>
              <a:path w="2829" h="1539">
                <a:moveTo>
                  <a:pt x="20737" y="15429"/>
                </a:moveTo>
                <a:cubicBezTo>
                  <a:pt x="20679" y="15531"/>
                  <a:pt x="20689" y="15552"/>
                  <a:pt x="20588" y="155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4720" y="1465200"/>
            <a:ext cx="1376280" cy="598680"/>
          </a:xfrm>
          <a:custGeom>
            <a:avLst/>
            <a:gdLst/>
            <a:ahLst/>
            <a:rect l="l" t="t" r="r" b="b"/>
            <a:pathLst>
              <a:path w="3821" h="1663">
                <a:moveTo>
                  <a:pt x="6722" y="5730"/>
                </a:moveTo>
                <a:cubicBezTo>
                  <a:pt x="6718" y="5667"/>
                  <a:pt x="6715" y="5634"/>
                  <a:pt x="6697" y="5581"/>
                </a:cubicBezTo>
                <a:cubicBezTo>
                  <a:pt x="6672" y="5508"/>
                  <a:pt x="6650" y="5468"/>
                  <a:pt x="6598" y="5407"/>
                </a:cubicBezTo>
                <a:cubicBezTo>
                  <a:pt x="6528" y="5326"/>
                  <a:pt x="6455" y="5229"/>
                  <a:pt x="6375" y="5159"/>
                </a:cubicBezTo>
                <a:cubicBezTo>
                  <a:pt x="6249" y="5049"/>
                  <a:pt x="6121" y="4950"/>
                  <a:pt x="5978" y="4862"/>
                </a:cubicBezTo>
                <a:cubicBezTo>
                  <a:pt x="5799" y="4752"/>
                  <a:pt x="5616" y="4641"/>
                  <a:pt x="5432" y="4539"/>
                </a:cubicBezTo>
                <a:cubicBezTo>
                  <a:pt x="5167" y="4393"/>
                  <a:pt x="4853" y="4325"/>
                  <a:pt x="4564" y="4242"/>
                </a:cubicBezTo>
                <a:cubicBezTo>
                  <a:pt x="4333" y="4176"/>
                  <a:pt x="4085" y="4134"/>
                  <a:pt x="3845" y="4118"/>
                </a:cubicBezTo>
                <a:cubicBezTo>
                  <a:pt x="3577" y="4100"/>
                  <a:pt x="3170" y="4202"/>
                  <a:pt x="2927" y="4093"/>
                </a:cubicBezTo>
                <a:cubicBezTo>
                  <a:pt x="2927" y="4068"/>
                  <a:pt x="2927" y="4060"/>
                  <a:pt x="2902" y="40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nd the reference angle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212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83200" y="3419640"/>
            <a:ext cx="276480" cy="277560"/>
          </a:xfrm>
          <a:custGeom>
            <a:avLst/>
            <a:gdLst/>
            <a:ahLst/>
            <a:rect l="l" t="t" r="r" b="b"/>
            <a:pathLst>
              <a:path w="770" h="770">
                <a:moveTo>
                  <a:pt x="16619" y="9500"/>
                </a:moveTo>
                <a:cubicBezTo>
                  <a:pt x="16694" y="9532"/>
                  <a:pt x="16767" y="9562"/>
                  <a:pt x="16842" y="9599"/>
                </a:cubicBezTo>
                <a:cubicBezTo>
                  <a:pt x="16932" y="9644"/>
                  <a:pt x="17022" y="9689"/>
                  <a:pt x="17115" y="9723"/>
                </a:cubicBezTo>
                <a:cubicBezTo>
                  <a:pt x="17208" y="9757"/>
                  <a:pt x="17259" y="9794"/>
                  <a:pt x="17338" y="9847"/>
                </a:cubicBezTo>
                <a:cubicBezTo>
                  <a:pt x="17389" y="9881"/>
                  <a:pt x="17412" y="9894"/>
                  <a:pt x="17363" y="9947"/>
                </a:cubicBezTo>
                <a:cubicBezTo>
                  <a:pt x="17311" y="10004"/>
                  <a:pt x="17245" y="10020"/>
                  <a:pt x="17190" y="10071"/>
                </a:cubicBezTo>
                <a:cubicBezTo>
                  <a:pt x="17141" y="10116"/>
                  <a:pt x="17097" y="10161"/>
                  <a:pt x="17041" y="10195"/>
                </a:cubicBezTo>
                <a:cubicBezTo>
                  <a:pt x="16994" y="10223"/>
                  <a:pt x="16941" y="10245"/>
                  <a:pt x="16892" y="102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0760" y="2813040"/>
            <a:ext cx="2108160" cy="1204920"/>
          </a:xfrm>
          <a:custGeom>
            <a:avLst/>
            <a:gdLst/>
            <a:ahLst/>
            <a:rect l="l" t="t" r="r" b="b"/>
            <a:pathLst>
              <a:path w="5855" h="3350">
                <a:moveTo>
                  <a:pt x="7863" y="9376"/>
                </a:moveTo>
                <a:cubicBezTo>
                  <a:pt x="7816" y="9463"/>
                  <a:pt x="7772" y="9539"/>
                  <a:pt x="7689" y="9599"/>
                </a:cubicBezTo>
                <a:cubicBezTo>
                  <a:pt x="7624" y="9646"/>
                  <a:pt x="7564" y="9687"/>
                  <a:pt x="7491" y="9723"/>
                </a:cubicBezTo>
                <a:cubicBezTo>
                  <a:pt x="7450" y="9743"/>
                  <a:pt x="7431" y="9763"/>
                  <a:pt x="7392" y="9773"/>
                </a:cubicBezTo>
                <a:cubicBezTo>
                  <a:pt x="7406" y="9829"/>
                  <a:pt x="7408" y="9843"/>
                  <a:pt x="7466" y="9847"/>
                </a:cubicBezTo>
                <a:cubicBezTo>
                  <a:pt x="7538" y="9851"/>
                  <a:pt x="7596" y="9885"/>
                  <a:pt x="7665" y="9897"/>
                </a:cubicBezTo>
                <a:cubicBezTo>
                  <a:pt x="7720" y="9906"/>
                  <a:pt x="7769" y="9892"/>
                  <a:pt x="7813" y="9922"/>
                </a:cubicBezTo>
                <a:cubicBezTo>
                  <a:pt x="7835" y="9944"/>
                  <a:pt x="7844" y="9949"/>
                  <a:pt x="7838" y="9971"/>
                </a:cubicBezTo>
              </a:path>
              <a:path w="5855" h="3350">
                <a:moveTo>
                  <a:pt x="11757" y="9723"/>
                </a:moveTo>
                <a:cubicBezTo>
                  <a:pt x="11799" y="9723"/>
                  <a:pt x="11807" y="9723"/>
                  <a:pt x="11832" y="9723"/>
                </a:cubicBezTo>
                <a:cubicBezTo>
                  <a:pt x="11832" y="9672"/>
                  <a:pt x="11817" y="9670"/>
                  <a:pt x="11807" y="9649"/>
                </a:cubicBezTo>
                <a:cubicBezTo>
                  <a:pt x="11803" y="9641"/>
                  <a:pt x="11758" y="9592"/>
                  <a:pt x="11733" y="9624"/>
                </a:cubicBezTo>
                <a:cubicBezTo>
                  <a:pt x="11707" y="9657"/>
                  <a:pt x="11692" y="9662"/>
                  <a:pt x="11683" y="9723"/>
                </a:cubicBezTo>
                <a:cubicBezTo>
                  <a:pt x="11692" y="9760"/>
                  <a:pt x="11720" y="9785"/>
                  <a:pt x="11757" y="9798"/>
                </a:cubicBezTo>
                <a:cubicBezTo>
                  <a:pt x="11805" y="9814"/>
                  <a:pt x="11818" y="9780"/>
                  <a:pt x="11832" y="9773"/>
                </a:cubicBezTo>
                <a:cubicBezTo>
                  <a:pt x="11850" y="9764"/>
                  <a:pt x="11888" y="9754"/>
                  <a:pt x="11881" y="9723"/>
                </a:cubicBezTo>
                <a:cubicBezTo>
                  <a:pt x="11855" y="9601"/>
                  <a:pt x="11853" y="9686"/>
                  <a:pt x="11832" y="9624"/>
                </a:cubicBezTo>
                <a:cubicBezTo>
                  <a:pt x="11781" y="9662"/>
                  <a:pt x="11775" y="9667"/>
                  <a:pt x="11733" y="9723"/>
                </a:cubicBezTo>
                <a:cubicBezTo>
                  <a:pt x="11702" y="9765"/>
                  <a:pt x="11696" y="9781"/>
                  <a:pt x="11733" y="9823"/>
                </a:cubicBezTo>
                <a:cubicBezTo>
                  <a:pt x="11752" y="9844"/>
                  <a:pt x="11802" y="9863"/>
                  <a:pt x="11832" y="9847"/>
                </a:cubicBezTo>
                <a:cubicBezTo>
                  <a:pt x="11852" y="9836"/>
                  <a:pt x="11875" y="9767"/>
                  <a:pt x="11881" y="9748"/>
                </a:cubicBezTo>
                <a:cubicBezTo>
                  <a:pt x="11881" y="9715"/>
                  <a:pt x="11881" y="9699"/>
                  <a:pt x="11881" y="9674"/>
                </a:cubicBezTo>
                <a:cubicBezTo>
                  <a:pt x="11827" y="9618"/>
                  <a:pt x="11845" y="9642"/>
                  <a:pt x="11782" y="9649"/>
                </a:cubicBezTo>
                <a:cubicBezTo>
                  <a:pt x="11741" y="9654"/>
                  <a:pt x="11713" y="9681"/>
                  <a:pt x="11708" y="9723"/>
                </a:cubicBezTo>
                <a:cubicBezTo>
                  <a:pt x="11708" y="9731"/>
                  <a:pt x="11708" y="9740"/>
                  <a:pt x="11708" y="9748"/>
                </a:cubicBezTo>
              </a:path>
              <a:path w="5855" h="3350">
                <a:moveTo>
                  <a:pt x="11733" y="9723"/>
                </a:moveTo>
                <a:cubicBezTo>
                  <a:pt x="11710" y="9740"/>
                  <a:pt x="11702" y="9758"/>
                  <a:pt x="11683" y="9773"/>
                </a:cubicBezTo>
                <a:cubicBezTo>
                  <a:pt x="11661" y="9790"/>
                  <a:pt x="11645" y="9801"/>
                  <a:pt x="11609" y="9823"/>
                </a:cubicBezTo>
                <a:cubicBezTo>
                  <a:pt x="11571" y="9846"/>
                  <a:pt x="11526" y="9877"/>
                  <a:pt x="11485" y="9897"/>
                </a:cubicBezTo>
                <a:cubicBezTo>
                  <a:pt x="11424" y="9926"/>
                  <a:pt x="11353" y="9955"/>
                  <a:pt x="11286" y="9971"/>
                </a:cubicBezTo>
                <a:cubicBezTo>
                  <a:pt x="11169" y="9999"/>
                  <a:pt x="11056" y="10032"/>
                  <a:pt x="10939" y="10071"/>
                </a:cubicBezTo>
                <a:cubicBezTo>
                  <a:pt x="10804" y="10116"/>
                  <a:pt x="10671" y="10162"/>
                  <a:pt x="10542" y="10220"/>
                </a:cubicBezTo>
                <a:cubicBezTo>
                  <a:pt x="10409" y="10280"/>
                  <a:pt x="10277" y="10327"/>
                  <a:pt x="10145" y="10393"/>
                </a:cubicBezTo>
                <a:cubicBezTo>
                  <a:pt x="9989" y="10471"/>
                  <a:pt x="9827" y="10533"/>
                  <a:pt x="9674" y="10616"/>
                </a:cubicBezTo>
                <a:cubicBezTo>
                  <a:pt x="9577" y="10669"/>
                  <a:pt x="9472" y="10711"/>
                  <a:pt x="9376" y="10765"/>
                </a:cubicBezTo>
                <a:cubicBezTo>
                  <a:pt x="9288" y="10814"/>
                  <a:pt x="9213" y="10865"/>
                  <a:pt x="9128" y="10914"/>
                </a:cubicBezTo>
                <a:cubicBezTo>
                  <a:pt x="9085" y="10938"/>
                  <a:pt x="8997" y="11003"/>
                  <a:pt x="8954" y="11013"/>
                </a:cubicBezTo>
                <a:cubicBezTo>
                  <a:pt x="8876" y="11030"/>
                  <a:pt x="8999" y="11004"/>
                  <a:pt x="8954" y="10988"/>
                </a:cubicBezTo>
              </a:path>
              <a:path w="5855" h="3350">
                <a:moveTo>
                  <a:pt x="8979" y="10641"/>
                </a:moveTo>
                <a:cubicBezTo>
                  <a:pt x="8970" y="10696"/>
                  <a:pt x="8951" y="10714"/>
                  <a:pt x="8905" y="10765"/>
                </a:cubicBezTo>
                <a:cubicBezTo>
                  <a:pt x="8819" y="10861"/>
                  <a:pt x="8737" y="10918"/>
                  <a:pt x="8632" y="10988"/>
                </a:cubicBezTo>
                <a:cubicBezTo>
                  <a:pt x="8607" y="11013"/>
                  <a:pt x="8599" y="11021"/>
                  <a:pt x="8582" y="11038"/>
                </a:cubicBezTo>
                <a:cubicBezTo>
                  <a:pt x="8593" y="11072"/>
                  <a:pt x="8601" y="11074"/>
                  <a:pt x="8632" y="11088"/>
                </a:cubicBezTo>
                <a:cubicBezTo>
                  <a:pt x="8693" y="11115"/>
                  <a:pt x="8790" y="11133"/>
                  <a:pt x="8855" y="11137"/>
                </a:cubicBezTo>
                <a:cubicBezTo>
                  <a:pt x="8900" y="11140"/>
                  <a:pt x="9024" y="11162"/>
                  <a:pt x="8979" y="11162"/>
                </a:cubicBezTo>
                <a:cubicBezTo>
                  <a:pt x="8971" y="11162"/>
                  <a:pt x="8962" y="11162"/>
                  <a:pt x="8954" y="11162"/>
                </a:cubicBezTo>
              </a:path>
              <a:path w="5855" h="3350">
                <a:moveTo>
                  <a:pt x="13246" y="9699"/>
                </a:moveTo>
                <a:cubicBezTo>
                  <a:pt x="13246" y="9615"/>
                  <a:pt x="13242" y="9546"/>
                  <a:pt x="13221" y="9475"/>
                </a:cubicBezTo>
                <a:cubicBezTo>
                  <a:pt x="13209" y="9435"/>
                  <a:pt x="13193" y="9412"/>
                  <a:pt x="13171" y="9376"/>
                </a:cubicBezTo>
                <a:cubicBezTo>
                  <a:pt x="13154" y="9349"/>
                  <a:pt x="13138" y="9273"/>
                  <a:pt x="13122" y="9252"/>
                </a:cubicBezTo>
                <a:cubicBezTo>
                  <a:pt x="13100" y="9222"/>
                  <a:pt x="13065" y="9175"/>
                  <a:pt x="13047" y="9153"/>
                </a:cubicBezTo>
                <a:cubicBezTo>
                  <a:pt x="12971" y="9060"/>
                  <a:pt x="12867" y="8978"/>
                  <a:pt x="12774" y="8905"/>
                </a:cubicBezTo>
                <a:cubicBezTo>
                  <a:pt x="12734" y="8874"/>
                  <a:pt x="12686" y="8853"/>
                  <a:pt x="12650" y="8830"/>
                </a:cubicBezTo>
                <a:cubicBezTo>
                  <a:pt x="12570" y="8779"/>
                  <a:pt x="12484" y="8727"/>
                  <a:pt x="12402" y="8682"/>
                </a:cubicBezTo>
                <a:cubicBezTo>
                  <a:pt x="12334" y="8645"/>
                  <a:pt x="12273" y="8636"/>
                  <a:pt x="12204" y="8607"/>
                </a:cubicBezTo>
                <a:cubicBezTo>
                  <a:pt x="12135" y="8578"/>
                  <a:pt x="12076" y="8550"/>
                  <a:pt x="12005" y="8533"/>
                </a:cubicBezTo>
                <a:cubicBezTo>
                  <a:pt x="11930" y="8515"/>
                  <a:pt x="11860" y="8489"/>
                  <a:pt x="11782" y="8483"/>
                </a:cubicBezTo>
                <a:cubicBezTo>
                  <a:pt x="11703" y="8477"/>
                  <a:pt x="11635" y="8464"/>
                  <a:pt x="11559" y="8458"/>
                </a:cubicBezTo>
                <a:cubicBezTo>
                  <a:pt x="11448" y="8450"/>
                  <a:pt x="11344" y="8459"/>
                  <a:pt x="11237" y="8483"/>
                </a:cubicBezTo>
                <a:cubicBezTo>
                  <a:pt x="11173" y="8497"/>
                  <a:pt x="11100" y="8515"/>
                  <a:pt x="11038" y="8533"/>
                </a:cubicBezTo>
                <a:cubicBezTo>
                  <a:pt x="10980" y="8550"/>
                  <a:pt x="10918" y="8577"/>
                  <a:pt x="10864" y="8607"/>
                </a:cubicBezTo>
                <a:cubicBezTo>
                  <a:pt x="10829" y="8627"/>
                  <a:pt x="10776" y="8653"/>
                  <a:pt x="10740" y="8682"/>
                </a:cubicBezTo>
                <a:cubicBezTo>
                  <a:pt x="10706" y="8710"/>
                  <a:pt x="10638" y="8758"/>
                  <a:pt x="10616" y="8781"/>
                </a:cubicBezTo>
                <a:cubicBezTo>
                  <a:pt x="10582" y="8817"/>
                  <a:pt x="10573" y="8847"/>
                  <a:pt x="10542" y="8880"/>
                </a:cubicBezTo>
                <a:cubicBezTo>
                  <a:pt x="10502" y="8924"/>
                  <a:pt x="10467" y="8957"/>
                  <a:pt x="10443" y="9004"/>
                </a:cubicBezTo>
                <a:cubicBezTo>
                  <a:pt x="10422" y="9046"/>
                  <a:pt x="10413" y="9088"/>
                  <a:pt x="10393" y="9128"/>
                </a:cubicBezTo>
                <a:cubicBezTo>
                  <a:pt x="10365" y="9185"/>
                  <a:pt x="10360" y="9216"/>
                  <a:pt x="10344" y="9277"/>
                </a:cubicBezTo>
                <a:cubicBezTo>
                  <a:pt x="10334" y="9314"/>
                  <a:pt x="10328" y="9357"/>
                  <a:pt x="10319" y="9401"/>
                </a:cubicBezTo>
                <a:cubicBezTo>
                  <a:pt x="10312" y="9439"/>
                  <a:pt x="10273" y="9517"/>
                  <a:pt x="10269" y="9550"/>
                </a:cubicBezTo>
                <a:cubicBezTo>
                  <a:pt x="10264" y="9593"/>
                  <a:pt x="10249" y="9642"/>
                  <a:pt x="10244" y="9674"/>
                </a:cubicBezTo>
                <a:cubicBezTo>
                  <a:pt x="10235" y="9734"/>
                  <a:pt x="10225" y="9822"/>
                  <a:pt x="10220" y="9872"/>
                </a:cubicBezTo>
                <a:cubicBezTo>
                  <a:pt x="10208" y="9982"/>
                  <a:pt x="10245" y="10179"/>
                  <a:pt x="10195" y="10195"/>
                </a:cubicBezTo>
                <a:cubicBezTo>
                  <a:pt x="10195" y="10187"/>
                  <a:pt x="10195" y="10178"/>
                  <a:pt x="10195" y="10170"/>
                </a:cubicBezTo>
              </a:path>
              <a:path w="5855" h="3350">
                <a:moveTo>
                  <a:pt x="9996" y="10046"/>
                </a:moveTo>
                <a:cubicBezTo>
                  <a:pt x="9996" y="10071"/>
                  <a:pt x="9996" y="10079"/>
                  <a:pt x="9996" y="10096"/>
                </a:cubicBezTo>
                <a:cubicBezTo>
                  <a:pt x="10032" y="10107"/>
                  <a:pt x="10026" y="10150"/>
                  <a:pt x="10071" y="10170"/>
                </a:cubicBezTo>
                <a:cubicBezTo>
                  <a:pt x="10110" y="10187"/>
                  <a:pt x="10133" y="10184"/>
                  <a:pt x="10145" y="10220"/>
                </a:cubicBezTo>
                <a:cubicBezTo>
                  <a:pt x="10145" y="10195"/>
                  <a:pt x="10145" y="10187"/>
                  <a:pt x="10170" y="10195"/>
                </a:cubicBezTo>
                <a:cubicBezTo>
                  <a:pt x="10176" y="10177"/>
                  <a:pt x="10214" y="10134"/>
                  <a:pt x="10244" y="10120"/>
                </a:cubicBezTo>
                <a:cubicBezTo>
                  <a:pt x="10296" y="10097"/>
                  <a:pt x="10346" y="10088"/>
                  <a:pt x="10393" y="10046"/>
                </a:cubicBezTo>
                <a:cubicBezTo>
                  <a:pt x="10428" y="10015"/>
                  <a:pt x="10446" y="10021"/>
                  <a:pt x="10492" y="10021"/>
                </a:cubicBezTo>
                <a:cubicBezTo>
                  <a:pt x="10492" y="9996"/>
                  <a:pt x="10492" y="9988"/>
                  <a:pt x="10517" y="9996"/>
                </a:cubicBezTo>
              </a:path>
              <a:path w="5855" h="3350">
                <a:moveTo>
                  <a:pt x="11609" y="7838"/>
                </a:moveTo>
                <a:cubicBezTo>
                  <a:pt x="11598" y="7871"/>
                  <a:pt x="11583" y="7894"/>
                  <a:pt x="11559" y="7938"/>
                </a:cubicBezTo>
                <a:cubicBezTo>
                  <a:pt x="11516" y="8017"/>
                  <a:pt x="11484" y="8099"/>
                  <a:pt x="11460" y="8186"/>
                </a:cubicBezTo>
                <a:cubicBezTo>
                  <a:pt x="11431" y="8289"/>
                  <a:pt x="11417" y="8314"/>
                  <a:pt x="11485" y="8384"/>
                </a:cubicBezTo>
                <a:cubicBezTo>
                  <a:pt x="11516" y="8416"/>
                  <a:pt x="11587" y="8419"/>
                  <a:pt x="11633" y="8409"/>
                </a:cubicBezTo>
                <a:cubicBezTo>
                  <a:pt x="11749" y="8383"/>
                  <a:pt x="11877" y="8289"/>
                  <a:pt x="11931" y="8186"/>
                </a:cubicBezTo>
                <a:cubicBezTo>
                  <a:pt x="11971" y="8110"/>
                  <a:pt x="11945" y="8050"/>
                  <a:pt x="11906" y="7987"/>
                </a:cubicBezTo>
                <a:cubicBezTo>
                  <a:pt x="11870" y="7928"/>
                  <a:pt x="11841" y="7899"/>
                  <a:pt x="11782" y="7863"/>
                </a:cubicBezTo>
                <a:cubicBezTo>
                  <a:pt x="11741" y="7838"/>
                  <a:pt x="11675" y="7818"/>
                  <a:pt x="11633" y="7813"/>
                </a:cubicBezTo>
                <a:cubicBezTo>
                  <a:pt x="11592" y="7808"/>
                  <a:pt x="11594" y="7807"/>
                  <a:pt x="11584" y="7838"/>
                </a:cubicBezTo>
              </a:path>
              <a:path w="5855" h="3350">
                <a:moveTo>
                  <a:pt x="11237" y="8037"/>
                </a:moveTo>
                <a:cubicBezTo>
                  <a:pt x="11186" y="8062"/>
                  <a:pt x="11275" y="8084"/>
                  <a:pt x="11311" y="8086"/>
                </a:cubicBezTo>
                <a:cubicBezTo>
                  <a:pt x="11478" y="8093"/>
                  <a:pt x="11642" y="8095"/>
                  <a:pt x="11807" y="8111"/>
                </a:cubicBezTo>
                <a:cubicBezTo>
                  <a:pt x="11912" y="8121"/>
                  <a:pt x="12023" y="8111"/>
                  <a:pt x="12129" y="8111"/>
                </a:cubicBezTo>
              </a:path>
              <a:path w="5855" h="3350">
                <a:moveTo>
                  <a:pt x="8756" y="9723"/>
                </a:moveTo>
                <a:cubicBezTo>
                  <a:pt x="8756" y="9748"/>
                  <a:pt x="8756" y="9756"/>
                  <a:pt x="8756" y="9773"/>
                </a:cubicBezTo>
                <a:cubicBezTo>
                  <a:pt x="8721" y="9785"/>
                  <a:pt x="8731" y="9780"/>
                  <a:pt x="8731" y="9823"/>
                </a:cubicBezTo>
                <a:cubicBezTo>
                  <a:pt x="8769" y="9835"/>
                  <a:pt x="8756" y="9852"/>
                  <a:pt x="8756" y="9897"/>
                </a:cubicBezTo>
                <a:cubicBezTo>
                  <a:pt x="8756" y="9913"/>
                  <a:pt x="8772" y="9980"/>
                  <a:pt x="8781" y="9996"/>
                </a:cubicBezTo>
                <a:cubicBezTo>
                  <a:pt x="8803" y="10035"/>
                  <a:pt x="8806" y="10025"/>
                  <a:pt x="8806" y="10071"/>
                </a:cubicBezTo>
                <a:cubicBezTo>
                  <a:pt x="8840" y="10083"/>
                  <a:pt x="8830" y="10079"/>
                  <a:pt x="8830" y="10120"/>
                </a:cubicBezTo>
                <a:cubicBezTo>
                  <a:pt x="8862" y="10131"/>
                  <a:pt x="8870" y="10154"/>
                  <a:pt x="8880" y="10195"/>
                </a:cubicBezTo>
                <a:cubicBezTo>
                  <a:pt x="8942" y="10210"/>
                  <a:pt x="8960" y="10271"/>
                  <a:pt x="9004" y="10319"/>
                </a:cubicBezTo>
                <a:cubicBezTo>
                  <a:pt x="9038" y="10356"/>
                  <a:pt x="9026" y="10380"/>
                  <a:pt x="9079" y="10393"/>
                </a:cubicBezTo>
                <a:cubicBezTo>
                  <a:pt x="9087" y="10426"/>
                  <a:pt x="9116" y="10476"/>
                  <a:pt x="9153" y="10492"/>
                </a:cubicBezTo>
                <a:cubicBezTo>
                  <a:pt x="9190" y="10508"/>
                  <a:pt x="9218" y="10516"/>
                  <a:pt x="9252" y="10542"/>
                </a:cubicBezTo>
              </a:path>
              <a:path w="5855" h="3350">
                <a:moveTo>
                  <a:pt x="9252" y="10319"/>
                </a:moveTo>
                <a:cubicBezTo>
                  <a:pt x="9262" y="10349"/>
                  <a:pt x="9273" y="10360"/>
                  <a:pt x="9302" y="10393"/>
                </a:cubicBezTo>
                <a:cubicBezTo>
                  <a:pt x="9322" y="10415"/>
                  <a:pt x="9370" y="10482"/>
                  <a:pt x="9376" y="10492"/>
                </a:cubicBezTo>
                <a:cubicBezTo>
                  <a:pt x="9394" y="10524"/>
                  <a:pt x="9410" y="10600"/>
                  <a:pt x="9426" y="10567"/>
                </a:cubicBezTo>
                <a:cubicBezTo>
                  <a:pt x="9441" y="10537"/>
                  <a:pt x="9417" y="10567"/>
                  <a:pt x="9376" y="10567"/>
                </a:cubicBezTo>
                <a:cubicBezTo>
                  <a:pt x="9329" y="10567"/>
                  <a:pt x="9297" y="10590"/>
                  <a:pt x="9252" y="10592"/>
                </a:cubicBezTo>
                <a:cubicBezTo>
                  <a:pt x="9177" y="10595"/>
                  <a:pt x="9124" y="10616"/>
                  <a:pt x="9054" y="10616"/>
                </a:cubicBezTo>
                <a:cubicBezTo>
                  <a:pt x="8995" y="10616"/>
                  <a:pt x="9000" y="10627"/>
                  <a:pt x="9004" y="10616"/>
                </a:cubicBezTo>
                <a:cubicBezTo>
                  <a:pt x="9004" y="10608"/>
                  <a:pt x="9004" y="10600"/>
                  <a:pt x="9004" y="10592"/>
                </a:cubicBezTo>
              </a:path>
              <a:path w="5855" h="3350">
                <a:moveTo>
                  <a:pt x="8235" y="10120"/>
                </a:moveTo>
                <a:cubicBezTo>
                  <a:pt x="8202" y="10193"/>
                  <a:pt x="8162" y="10279"/>
                  <a:pt x="8111" y="10344"/>
                </a:cubicBezTo>
                <a:cubicBezTo>
                  <a:pt x="8081" y="10382"/>
                  <a:pt x="8018" y="10461"/>
                  <a:pt x="8037" y="10517"/>
                </a:cubicBezTo>
                <a:cubicBezTo>
                  <a:pt x="8055" y="10572"/>
                  <a:pt x="8094" y="10567"/>
                  <a:pt x="8136" y="10592"/>
                </a:cubicBezTo>
                <a:cubicBezTo>
                  <a:pt x="8201" y="10630"/>
                  <a:pt x="8257" y="10597"/>
                  <a:pt x="8334" y="10567"/>
                </a:cubicBezTo>
                <a:cubicBezTo>
                  <a:pt x="8397" y="10542"/>
                  <a:pt x="8443" y="10485"/>
                  <a:pt x="8458" y="10418"/>
                </a:cubicBezTo>
                <a:cubicBezTo>
                  <a:pt x="8473" y="10349"/>
                  <a:pt x="8463" y="10251"/>
                  <a:pt x="8434" y="10195"/>
                </a:cubicBezTo>
                <a:cubicBezTo>
                  <a:pt x="8386" y="10103"/>
                  <a:pt x="8365" y="10145"/>
                  <a:pt x="8285" y="10096"/>
                </a:cubicBezTo>
                <a:cubicBezTo>
                  <a:pt x="8258" y="10080"/>
                  <a:pt x="8198" y="10050"/>
                  <a:pt x="8161" y="10071"/>
                </a:cubicBezTo>
                <a:cubicBezTo>
                  <a:pt x="8153" y="10079"/>
                  <a:pt x="8144" y="10088"/>
                  <a:pt x="8136" y="10096"/>
                </a:cubicBezTo>
              </a:path>
              <a:path w="5855" h="3350">
                <a:moveTo>
                  <a:pt x="7813" y="10294"/>
                </a:moveTo>
                <a:cubicBezTo>
                  <a:pt x="7871" y="10306"/>
                  <a:pt x="7930" y="10334"/>
                  <a:pt x="7987" y="10344"/>
                </a:cubicBezTo>
                <a:cubicBezTo>
                  <a:pt x="8077" y="10359"/>
                  <a:pt x="8170" y="10381"/>
                  <a:pt x="8260" y="10393"/>
                </a:cubicBezTo>
                <a:cubicBezTo>
                  <a:pt x="8326" y="10402"/>
                  <a:pt x="8395" y="10412"/>
                  <a:pt x="8458" y="10418"/>
                </a:cubicBezTo>
                <a:cubicBezTo>
                  <a:pt x="8480" y="10420"/>
                  <a:pt x="8549" y="10401"/>
                  <a:pt x="8508" y="10368"/>
                </a:cubicBezTo>
                <a:cubicBezTo>
                  <a:pt x="8500" y="10368"/>
                  <a:pt x="8491" y="10368"/>
                  <a:pt x="8483" y="10368"/>
                </a:cubicBezTo>
              </a:path>
              <a:path w="5855" h="3350">
                <a:moveTo>
                  <a:pt x="8458" y="9847"/>
                </a:moveTo>
                <a:cubicBezTo>
                  <a:pt x="8458" y="9906"/>
                  <a:pt x="8439" y="9941"/>
                  <a:pt x="8434" y="9996"/>
                </a:cubicBezTo>
                <a:cubicBezTo>
                  <a:pt x="8434" y="10024"/>
                  <a:pt x="8432" y="10035"/>
                  <a:pt x="8409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5760" y="3616200"/>
            <a:ext cx="822240" cy="1322640"/>
          </a:xfrm>
          <a:custGeom>
            <a:avLst/>
            <a:gdLst/>
            <a:ahLst/>
            <a:rect l="l" t="t" r="r" b="b"/>
            <a:pathLst>
              <a:path w="2283" h="3672">
                <a:moveTo>
                  <a:pt x="1538" y="10220"/>
                </a:moveTo>
                <a:cubicBezTo>
                  <a:pt x="1538" y="10174"/>
                  <a:pt x="1531" y="10155"/>
                  <a:pt x="1563" y="10120"/>
                </a:cubicBezTo>
                <a:cubicBezTo>
                  <a:pt x="1606" y="10073"/>
                  <a:pt x="1624" y="10050"/>
                  <a:pt x="1687" y="10046"/>
                </a:cubicBezTo>
                <a:cubicBezTo>
                  <a:pt x="1774" y="10041"/>
                  <a:pt x="1783" y="10059"/>
                  <a:pt x="1836" y="10120"/>
                </a:cubicBezTo>
                <a:cubicBezTo>
                  <a:pt x="1916" y="10212"/>
                  <a:pt x="1932" y="10297"/>
                  <a:pt x="1935" y="10418"/>
                </a:cubicBezTo>
                <a:cubicBezTo>
                  <a:pt x="1938" y="10530"/>
                  <a:pt x="1948" y="10665"/>
                  <a:pt x="1885" y="10765"/>
                </a:cubicBezTo>
                <a:cubicBezTo>
                  <a:pt x="1836" y="10843"/>
                  <a:pt x="1783" y="10936"/>
                  <a:pt x="1687" y="10964"/>
                </a:cubicBezTo>
                <a:cubicBezTo>
                  <a:pt x="1610" y="10987"/>
                  <a:pt x="1504" y="10956"/>
                  <a:pt x="1439" y="10914"/>
                </a:cubicBezTo>
                <a:cubicBezTo>
                  <a:pt x="1387" y="10880"/>
                  <a:pt x="1389" y="10846"/>
                  <a:pt x="1389" y="10790"/>
                </a:cubicBezTo>
                <a:cubicBezTo>
                  <a:pt x="1389" y="10745"/>
                  <a:pt x="1387" y="10720"/>
                  <a:pt x="1439" y="10716"/>
                </a:cubicBezTo>
                <a:cubicBezTo>
                  <a:pt x="1534" y="10709"/>
                  <a:pt x="1545" y="10767"/>
                  <a:pt x="1612" y="10815"/>
                </a:cubicBezTo>
                <a:cubicBezTo>
                  <a:pt x="1667" y="10854"/>
                  <a:pt x="1710" y="10893"/>
                  <a:pt x="1761" y="10939"/>
                </a:cubicBezTo>
                <a:cubicBezTo>
                  <a:pt x="1807" y="10980"/>
                  <a:pt x="1827" y="10947"/>
                  <a:pt x="1885" y="10939"/>
                </a:cubicBezTo>
              </a:path>
              <a:path w="2283" h="3672">
                <a:moveTo>
                  <a:pt x="2208" y="10220"/>
                </a:moveTo>
                <a:cubicBezTo>
                  <a:pt x="2208" y="10484"/>
                  <a:pt x="2074" y="11199"/>
                  <a:pt x="2232" y="10988"/>
                </a:cubicBezTo>
                <a:cubicBezTo>
                  <a:pt x="2232" y="10960"/>
                  <a:pt x="2235" y="10950"/>
                  <a:pt x="2257" y="10939"/>
                </a:cubicBezTo>
              </a:path>
              <a:path w="2283" h="3672">
                <a:moveTo>
                  <a:pt x="2431" y="10220"/>
                </a:moveTo>
                <a:cubicBezTo>
                  <a:pt x="2492" y="10186"/>
                  <a:pt x="2575" y="10140"/>
                  <a:pt x="2654" y="10170"/>
                </a:cubicBezTo>
                <a:cubicBezTo>
                  <a:pt x="2733" y="10201"/>
                  <a:pt x="2735" y="10250"/>
                  <a:pt x="2753" y="10319"/>
                </a:cubicBezTo>
                <a:cubicBezTo>
                  <a:pt x="2781" y="10426"/>
                  <a:pt x="2774" y="10463"/>
                  <a:pt x="2729" y="10567"/>
                </a:cubicBezTo>
                <a:cubicBezTo>
                  <a:pt x="2692" y="10654"/>
                  <a:pt x="2654" y="10714"/>
                  <a:pt x="2604" y="10790"/>
                </a:cubicBezTo>
                <a:cubicBezTo>
                  <a:pt x="2585" y="10819"/>
                  <a:pt x="2559" y="10882"/>
                  <a:pt x="2555" y="10914"/>
                </a:cubicBezTo>
                <a:cubicBezTo>
                  <a:pt x="2555" y="10939"/>
                  <a:pt x="2555" y="10947"/>
                  <a:pt x="2555" y="10964"/>
                </a:cubicBezTo>
                <a:cubicBezTo>
                  <a:pt x="2667" y="10964"/>
                  <a:pt x="2769" y="10951"/>
                  <a:pt x="2877" y="10939"/>
                </a:cubicBezTo>
                <a:cubicBezTo>
                  <a:pt x="2932" y="10933"/>
                  <a:pt x="2995" y="10939"/>
                  <a:pt x="3051" y="10939"/>
                </a:cubicBezTo>
              </a:path>
              <a:path w="2283" h="3672">
                <a:moveTo>
                  <a:pt x="1265" y="11435"/>
                </a:moveTo>
                <a:cubicBezTo>
                  <a:pt x="1333" y="11461"/>
                  <a:pt x="1415" y="11475"/>
                  <a:pt x="1488" y="11485"/>
                </a:cubicBezTo>
                <a:cubicBezTo>
                  <a:pt x="1548" y="11494"/>
                  <a:pt x="1583" y="11480"/>
                  <a:pt x="1637" y="11460"/>
                </a:cubicBezTo>
              </a:path>
              <a:path w="2283" h="3672">
                <a:moveTo>
                  <a:pt x="1786" y="11435"/>
                </a:moveTo>
                <a:cubicBezTo>
                  <a:pt x="1786" y="11607"/>
                  <a:pt x="1784" y="11769"/>
                  <a:pt x="1811" y="11931"/>
                </a:cubicBezTo>
                <a:cubicBezTo>
                  <a:pt x="1819" y="11978"/>
                  <a:pt x="1811" y="12032"/>
                  <a:pt x="1811" y="12080"/>
                </a:cubicBezTo>
              </a:path>
              <a:path w="2283" h="3672">
                <a:moveTo>
                  <a:pt x="2406" y="11435"/>
                </a:moveTo>
                <a:cubicBezTo>
                  <a:pt x="2388" y="11364"/>
                  <a:pt x="2367" y="11388"/>
                  <a:pt x="2307" y="11410"/>
                </a:cubicBezTo>
                <a:cubicBezTo>
                  <a:pt x="2249" y="11431"/>
                  <a:pt x="2114" y="11477"/>
                  <a:pt x="2084" y="11534"/>
                </a:cubicBezTo>
                <a:cubicBezTo>
                  <a:pt x="2050" y="11599"/>
                  <a:pt x="2078" y="11664"/>
                  <a:pt x="2108" y="11733"/>
                </a:cubicBezTo>
                <a:cubicBezTo>
                  <a:pt x="2149" y="11829"/>
                  <a:pt x="2225" y="11898"/>
                  <a:pt x="2282" y="11981"/>
                </a:cubicBezTo>
                <a:cubicBezTo>
                  <a:pt x="2315" y="12029"/>
                  <a:pt x="2307" y="12075"/>
                  <a:pt x="2307" y="12129"/>
                </a:cubicBezTo>
                <a:cubicBezTo>
                  <a:pt x="2213" y="12129"/>
                  <a:pt x="2207" y="12105"/>
                  <a:pt x="2133" y="12055"/>
                </a:cubicBezTo>
                <a:cubicBezTo>
                  <a:pt x="2055" y="12002"/>
                  <a:pt x="2059" y="11974"/>
                  <a:pt x="2059" y="11881"/>
                </a:cubicBezTo>
                <a:cubicBezTo>
                  <a:pt x="2059" y="11793"/>
                  <a:pt x="2116" y="11736"/>
                  <a:pt x="2183" y="11683"/>
                </a:cubicBezTo>
                <a:cubicBezTo>
                  <a:pt x="2286" y="11602"/>
                  <a:pt x="2400" y="11536"/>
                  <a:pt x="2505" y="11460"/>
                </a:cubicBezTo>
                <a:cubicBezTo>
                  <a:pt x="2530" y="11435"/>
                  <a:pt x="2538" y="11427"/>
                  <a:pt x="2555" y="11410"/>
                </a:cubicBezTo>
                <a:cubicBezTo>
                  <a:pt x="2531" y="11506"/>
                  <a:pt x="2452" y="11610"/>
                  <a:pt x="2406" y="11708"/>
                </a:cubicBezTo>
                <a:cubicBezTo>
                  <a:pt x="2369" y="11787"/>
                  <a:pt x="2372" y="11854"/>
                  <a:pt x="2406" y="11931"/>
                </a:cubicBezTo>
                <a:cubicBezTo>
                  <a:pt x="2438" y="12003"/>
                  <a:pt x="2479" y="12052"/>
                  <a:pt x="2555" y="12055"/>
                </a:cubicBezTo>
                <a:cubicBezTo>
                  <a:pt x="2648" y="12059"/>
                  <a:pt x="2731" y="12014"/>
                  <a:pt x="2803" y="11956"/>
                </a:cubicBezTo>
                <a:cubicBezTo>
                  <a:pt x="2878" y="11895"/>
                  <a:pt x="2898" y="11824"/>
                  <a:pt x="2902" y="11733"/>
                </a:cubicBezTo>
                <a:cubicBezTo>
                  <a:pt x="2907" y="11622"/>
                  <a:pt x="2881" y="11624"/>
                  <a:pt x="2803" y="11559"/>
                </a:cubicBezTo>
                <a:cubicBezTo>
                  <a:pt x="2749" y="11514"/>
                  <a:pt x="2660" y="11467"/>
                  <a:pt x="2580" y="11485"/>
                </a:cubicBezTo>
                <a:cubicBezTo>
                  <a:pt x="2530" y="11501"/>
                  <a:pt x="2481" y="11518"/>
                  <a:pt x="2431" y="11534"/>
                </a:cubicBezTo>
              </a:path>
              <a:path w="2283" h="3672">
                <a:moveTo>
                  <a:pt x="1339" y="12353"/>
                </a:moveTo>
                <a:cubicBezTo>
                  <a:pt x="1482" y="12353"/>
                  <a:pt x="1617" y="12331"/>
                  <a:pt x="1761" y="12328"/>
                </a:cubicBezTo>
                <a:cubicBezTo>
                  <a:pt x="1945" y="12324"/>
                  <a:pt x="2122" y="12303"/>
                  <a:pt x="2307" y="12303"/>
                </a:cubicBezTo>
                <a:cubicBezTo>
                  <a:pt x="2485" y="12303"/>
                  <a:pt x="2653" y="12313"/>
                  <a:pt x="2828" y="12328"/>
                </a:cubicBezTo>
                <a:cubicBezTo>
                  <a:pt x="2886" y="12333"/>
                  <a:pt x="3001" y="12361"/>
                  <a:pt x="3051" y="12353"/>
                </a:cubicBezTo>
                <a:cubicBezTo>
                  <a:pt x="3127" y="12340"/>
                  <a:pt x="2971" y="12328"/>
                  <a:pt x="2952" y="12328"/>
                </a:cubicBezTo>
              </a:path>
              <a:path w="2283" h="3672">
                <a:moveTo>
                  <a:pt x="1910" y="12923"/>
                </a:moveTo>
                <a:cubicBezTo>
                  <a:pt x="1961" y="12910"/>
                  <a:pt x="1973" y="12898"/>
                  <a:pt x="2034" y="12898"/>
                </a:cubicBezTo>
                <a:cubicBezTo>
                  <a:pt x="2087" y="12898"/>
                  <a:pt x="2135" y="12904"/>
                  <a:pt x="2183" y="12923"/>
                </a:cubicBezTo>
                <a:cubicBezTo>
                  <a:pt x="2243" y="12948"/>
                  <a:pt x="2257" y="12963"/>
                  <a:pt x="2257" y="13022"/>
                </a:cubicBezTo>
                <a:cubicBezTo>
                  <a:pt x="2257" y="13070"/>
                  <a:pt x="2200" y="13108"/>
                  <a:pt x="2158" y="13122"/>
                </a:cubicBezTo>
                <a:cubicBezTo>
                  <a:pt x="2118" y="13136"/>
                  <a:pt x="2078" y="13146"/>
                  <a:pt x="2034" y="13146"/>
                </a:cubicBezTo>
                <a:cubicBezTo>
                  <a:pt x="2026" y="13146"/>
                  <a:pt x="2017" y="13146"/>
                  <a:pt x="2009" y="13146"/>
                </a:cubicBezTo>
                <a:cubicBezTo>
                  <a:pt x="1958" y="13146"/>
                  <a:pt x="2058" y="13154"/>
                  <a:pt x="2084" y="13171"/>
                </a:cubicBezTo>
                <a:cubicBezTo>
                  <a:pt x="2142" y="13210"/>
                  <a:pt x="2199" y="13257"/>
                  <a:pt x="2257" y="13295"/>
                </a:cubicBezTo>
                <a:cubicBezTo>
                  <a:pt x="2314" y="13333"/>
                  <a:pt x="2365" y="13395"/>
                  <a:pt x="2381" y="13469"/>
                </a:cubicBezTo>
                <a:cubicBezTo>
                  <a:pt x="2392" y="13519"/>
                  <a:pt x="2348" y="13567"/>
                  <a:pt x="2307" y="13593"/>
                </a:cubicBezTo>
                <a:cubicBezTo>
                  <a:pt x="2210" y="13655"/>
                  <a:pt x="2138" y="13634"/>
                  <a:pt x="2034" y="13618"/>
                </a:cubicBezTo>
                <a:cubicBezTo>
                  <a:pt x="1954" y="13606"/>
                  <a:pt x="1960" y="13600"/>
                  <a:pt x="1960" y="13519"/>
                </a:cubicBezTo>
                <a:cubicBezTo>
                  <a:pt x="1960" y="13479"/>
                  <a:pt x="1971" y="13460"/>
                  <a:pt x="2009" y="13444"/>
                </a:cubicBezTo>
              </a:path>
              <a:path w="2283" h="3672">
                <a:moveTo>
                  <a:pt x="2679" y="13022"/>
                </a:moveTo>
                <a:cubicBezTo>
                  <a:pt x="2775" y="13012"/>
                  <a:pt x="2908" y="12989"/>
                  <a:pt x="3001" y="13047"/>
                </a:cubicBezTo>
                <a:cubicBezTo>
                  <a:pt x="3063" y="13086"/>
                  <a:pt x="3115" y="13202"/>
                  <a:pt x="3125" y="13271"/>
                </a:cubicBezTo>
                <a:cubicBezTo>
                  <a:pt x="3141" y="13379"/>
                  <a:pt x="3086" y="13547"/>
                  <a:pt x="3001" y="13618"/>
                </a:cubicBezTo>
                <a:cubicBezTo>
                  <a:pt x="2943" y="13666"/>
                  <a:pt x="2902" y="13692"/>
                  <a:pt x="2828" y="13692"/>
                </a:cubicBezTo>
                <a:cubicBezTo>
                  <a:pt x="2787" y="13692"/>
                  <a:pt x="2720" y="13698"/>
                  <a:pt x="2704" y="13643"/>
                </a:cubicBezTo>
                <a:cubicBezTo>
                  <a:pt x="2690" y="13595"/>
                  <a:pt x="2702" y="13528"/>
                  <a:pt x="2729" y="13494"/>
                </a:cubicBezTo>
                <a:cubicBezTo>
                  <a:pt x="2761" y="13453"/>
                  <a:pt x="2813" y="13464"/>
                  <a:pt x="2853" y="13494"/>
                </a:cubicBezTo>
                <a:cubicBezTo>
                  <a:pt x="2918" y="13543"/>
                  <a:pt x="2989" y="13592"/>
                  <a:pt x="3051" y="13643"/>
                </a:cubicBezTo>
                <a:cubicBezTo>
                  <a:pt x="3106" y="13688"/>
                  <a:pt x="3167" y="13749"/>
                  <a:pt x="3249" y="13717"/>
                </a:cubicBezTo>
                <a:cubicBezTo>
                  <a:pt x="3257" y="13709"/>
                  <a:pt x="3266" y="13700"/>
                  <a:pt x="3274" y="13692"/>
                </a:cubicBezTo>
              </a:path>
              <a:path w="2283" h="3672">
                <a:moveTo>
                  <a:pt x="3398" y="13047"/>
                </a:moveTo>
                <a:cubicBezTo>
                  <a:pt x="3312" y="13073"/>
                  <a:pt x="3291" y="13049"/>
                  <a:pt x="3324" y="13146"/>
                </a:cubicBezTo>
                <a:cubicBezTo>
                  <a:pt x="3385" y="13146"/>
                  <a:pt x="3444" y="13157"/>
                  <a:pt x="3497" y="13122"/>
                </a:cubicBezTo>
                <a:cubicBezTo>
                  <a:pt x="3532" y="13099"/>
                  <a:pt x="3556" y="13013"/>
                  <a:pt x="3547" y="12973"/>
                </a:cubicBezTo>
                <a:cubicBezTo>
                  <a:pt x="3529" y="12891"/>
                  <a:pt x="3464" y="12796"/>
                  <a:pt x="3423" y="127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240" y="2401920"/>
            <a:ext cx="1428840" cy="536400"/>
          </a:xfrm>
          <a:custGeom>
            <a:avLst/>
            <a:gdLst/>
            <a:ahLst/>
            <a:rect l="l" t="t" r="r" b="b"/>
            <a:pathLst>
              <a:path w="3970" h="1490">
                <a:moveTo>
                  <a:pt x="2480" y="6921"/>
                </a:moveTo>
                <a:cubicBezTo>
                  <a:pt x="2444" y="6966"/>
                  <a:pt x="2394" y="7036"/>
                  <a:pt x="2381" y="7094"/>
                </a:cubicBezTo>
                <a:cubicBezTo>
                  <a:pt x="2362" y="7181"/>
                  <a:pt x="2320" y="7278"/>
                  <a:pt x="2307" y="7367"/>
                </a:cubicBezTo>
                <a:cubicBezTo>
                  <a:pt x="2291" y="7472"/>
                  <a:pt x="2267" y="7584"/>
                  <a:pt x="2257" y="7689"/>
                </a:cubicBezTo>
                <a:cubicBezTo>
                  <a:pt x="2248" y="7790"/>
                  <a:pt x="2268" y="7921"/>
                  <a:pt x="2307" y="8012"/>
                </a:cubicBezTo>
                <a:cubicBezTo>
                  <a:pt x="2338" y="8085"/>
                  <a:pt x="2372" y="8142"/>
                  <a:pt x="2456" y="8161"/>
                </a:cubicBezTo>
                <a:cubicBezTo>
                  <a:pt x="2503" y="8172"/>
                  <a:pt x="2592" y="8115"/>
                  <a:pt x="2629" y="8086"/>
                </a:cubicBezTo>
                <a:cubicBezTo>
                  <a:pt x="2744" y="7998"/>
                  <a:pt x="2785" y="7820"/>
                  <a:pt x="2828" y="7689"/>
                </a:cubicBezTo>
                <a:cubicBezTo>
                  <a:pt x="2868" y="7565"/>
                  <a:pt x="2861" y="7442"/>
                  <a:pt x="2828" y="7317"/>
                </a:cubicBezTo>
                <a:cubicBezTo>
                  <a:pt x="2797" y="7200"/>
                  <a:pt x="2734" y="7121"/>
                  <a:pt x="2654" y="7045"/>
                </a:cubicBezTo>
                <a:cubicBezTo>
                  <a:pt x="2603" y="6997"/>
                  <a:pt x="2528" y="6937"/>
                  <a:pt x="2456" y="6921"/>
                </a:cubicBezTo>
                <a:cubicBezTo>
                  <a:pt x="2407" y="6910"/>
                  <a:pt x="2381" y="6900"/>
                  <a:pt x="2332" y="6896"/>
                </a:cubicBezTo>
                <a:cubicBezTo>
                  <a:pt x="2324" y="6896"/>
                  <a:pt x="2315" y="6896"/>
                  <a:pt x="2307" y="6896"/>
                </a:cubicBezTo>
              </a:path>
              <a:path w="3970" h="1490">
                <a:moveTo>
                  <a:pt x="1910" y="7541"/>
                </a:moveTo>
                <a:cubicBezTo>
                  <a:pt x="2021" y="7564"/>
                  <a:pt x="2118" y="7565"/>
                  <a:pt x="2232" y="7565"/>
                </a:cubicBezTo>
                <a:cubicBezTo>
                  <a:pt x="2492" y="7565"/>
                  <a:pt x="2801" y="7520"/>
                  <a:pt x="3051" y="7590"/>
                </a:cubicBezTo>
                <a:cubicBezTo>
                  <a:pt x="3110" y="7607"/>
                  <a:pt x="3154" y="7612"/>
                  <a:pt x="3200" y="7640"/>
                </a:cubicBezTo>
                <a:cubicBezTo>
                  <a:pt x="3187" y="7590"/>
                  <a:pt x="3175" y="7576"/>
                  <a:pt x="3175" y="7516"/>
                </a:cubicBezTo>
                <a:cubicBezTo>
                  <a:pt x="3175" y="7508"/>
                  <a:pt x="3175" y="7499"/>
                  <a:pt x="3175" y="7491"/>
                </a:cubicBezTo>
              </a:path>
              <a:path w="3970" h="1490">
                <a:moveTo>
                  <a:pt x="3473" y="6672"/>
                </a:moveTo>
                <a:cubicBezTo>
                  <a:pt x="3522" y="6689"/>
                  <a:pt x="3490" y="6725"/>
                  <a:pt x="3473" y="6772"/>
                </a:cubicBezTo>
                <a:cubicBezTo>
                  <a:pt x="3438" y="6870"/>
                  <a:pt x="3404" y="6974"/>
                  <a:pt x="3373" y="7069"/>
                </a:cubicBezTo>
                <a:cubicBezTo>
                  <a:pt x="3365" y="7086"/>
                  <a:pt x="3357" y="7102"/>
                  <a:pt x="3349" y="7119"/>
                </a:cubicBezTo>
              </a:path>
              <a:path w="3970" h="1490">
                <a:moveTo>
                  <a:pt x="3795" y="7590"/>
                </a:moveTo>
                <a:cubicBezTo>
                  <a:pt x="3888" y="7590"/>
                  <a:pt x="3958" y="7583"/>
                  <a:pt x="4043" y="7615"/>
                </a:cubicBezTo>
              </a:path>
              <a:path w="3970" h="1490">
                <a:moveTo>
                  <a:pt x="3820" y="7838"/>
                </a:moveTo>
                <a:cubicBezTo>
                  <a:pt x="3969" y="7857"/>
                  <a:pt x="3985" y="7865"/>
                  <a:pt x="4068" y="7863"/>
                </a:cubicBezTo>
              </a:path>
              <a:path w="3970" h="1490">
                <a:moveTo>
                  <a:pt x="4390" y="7317"/>
                </a:moveTo>
                <a:cubicBezTo>
                  <a:pt x="4390" y="7261"/>
                  <a:pt x="4410" y="7284"/>
                  <a:pt x="4415" y="7243"/>
                </a:cubicBezTo>
                <a:cubicBezTo>
                  <a:pt x="4424" y="7172"/>
                  <a:pt x="4469" y="7170"/>
                  <a:pt x="4514" y="7144"/>
                </a:cubicBezTo>
                <a:cubicBezTo>
                  <a:pt x="4589" y="7100"/>
                  <a:pt x="4586" y="7074"/>
                  <a:pt x="4688" y="7069"/>
                </a:cubicBezTo>
                <a:cubicBezTo>
                  <a:pt x="4758" y="7066"/>
                  <a:pt x="4782" y="7086"/>
                  <a:pt x="4787" y="7144"/>
                </a:cubicBezTo>
                <a:cubicBezTo>
                  <a:pt x="4794" y="7216"/>
                  <a:pt x="4761" y="7313"/>
                  <a:pt x="4713" y="7367"/>
                </a:cubicBezTo>
                <a:cubicBezTo>
                  <a:pt x="4680" y="7404"/>
                  <a:pt x="4618" y="7473"/>
                  <a:pt x="4564" y="7491"/>
                </a:cubicBezTo>
                <a:cubicBezTo>
                  <a:pt x="4524" y="7504"/>
                  <a:pt x="4554" y="7503"/>
                  <a:pt x="4514" y="7516"/>
                </a:cubicBezTo>
                <a:cubicBezTo>
                  <a:pt x="4563" y="7516"/>
                  <a:pt x="4601" y="7498"/>
                  <a:pt x="4638" y="7491"/>
                </a:cubicBezTo>
                <a:cubicBezTo>
                  <a:pt x="4693" y="7480"/>
                  <a:pt x="4797" y="7480"/>
                  <a:pt x="4837" y="7516"/>
                </a:cubicBezTo>
                <a:cubicBezTo>
                  <a:pt x="4893" y="7565"/>
                  <a:pt x="4887" y="7592"/>
                  <a:pt x="4887" y="7665"/>
                </a:cubicBezTo>
                <a:cubicBezTo>
                  <a:pt x="4887" y="7734"/>
                  <a:pt x="4877" y="7855"/>
                  <a:pt x="4837" y="7913"/>
                </a:cubicBezTo>
                <a:cubicBezTo>
                  <a:pt x="4804" y="7960"/>
                  <a:pt x="4741" y="8060"/>
                  <a:pt x="4688" y="8086"/>
                </a:cubicBezTo>
                <a:cubicBezTo>
                  <a:pt x="4602" y="8129"/>
                  <a:pt x="4535" y="8136"/>
                  <a:pt x="4440" y="8136"/>
                </a:cubicBezTo>
                <a:cubicBezTo>
                  <a:pt x="4380" y="8136"/>
                  <a:pt x="4378" y="8137"/>
                  <a:pt x="4366" y="8086"/>
                </a:cubicBezTo>
              </a:path>
              <a:path w="3970" h="1490">
                <a:moveTo>
                  <a:pt x="4936" y="7193"/>
                </a:moveTo>
                <a:cubicBezTo>
                  <a:pt x="4994" y="7161"/>
                  <a:pt x="4984" y="7152"/>
                  <a:pt x="5035" y="7119"/>
                </a:cubicBezTo>
                <a:cubicBezTo>
                  <a:pt x="5052" y="7108"/>
                  <a:pt x="5115" y="7074"/>
                  <a:pt x="5135" y="7069"/>
                </a:cubicBezTo>
                <a:cubicBezTo>
                  <a:pt x="5190" y="7054"/>
                  <a:pt x="5285" y="7074"/>
                  <a:pt x="5333" y="7094"/>
                </a:cubicBezTo>
                <a:cubicBezTo>
                  <a:pt x="5383" y="7115"/>
                  <a:pt x="5404" y="7173"/>
                  <a:pt x="5407" y="7218"/>
                </a:cubicBezTo>
                <a:cubicBezTo>
                  <a:pt x="5411" y="7296"/>
                  <a:pt x="5411" y="7368"/>
                  <a:pt x="5383" y="7441"/>
                </a:cubicBezTo>
                <a:cubicBezTo>
                  <a:pt x="5357" y="7511"/>
                  <a:pt x="5332" y="7571"/>
                  <a:pt x="5308" y="7640"/>
                </a:cubicBezTo>
                <a:cubicBezTo>
                  <a:pt x="5275" y="7735"/>
                  <a:pt x="5237" y="7783"/>
                  <a:pt x="5184" y="7863"/>
                </a:cubicBezTo>
                <a:cubicBezTo>
                  <a:pt x="5149" y="7915"/>
                  <a:pt x="5138" y="7988"/>
                  <a:pt x="5110" y="8037"/>
                </a:cubicBezTo>
                <a:cubicBezTo>
                  <a:pt x="5085" y="8081"/>
                  <a:pt x="5091" y="8085"/>
                  <a:pt x="5085" y="8136"/>
                </a:cubicBezTo>
                <a:cubicBezTo>
                  <a:pt x="5119" y="8121"/>
                  <a:pt x="5168" y="8095"/>
                  <a:pt x="5209" y="8086"/>
                </a:cubicBezTo>
                <a:cubicBezTo>
                  <a:pt x="5243" y="8078"/>
                  <a:pt x="5301" y="8052"/>
                  <a:pt x="5333" y="8062"/>
                </a:cubicBezTo>
                <a:cubicBezTo>
                  <a:pt x="5381" y="8077"/>
                  <a:pt x="5459" y="8067"/>
                  <a:pt x="5507" y="8086"/>
                </a:cubicBezTo>
                <a:cubicBezTo>
                  <a:pt x="5570" y="8110"/>
                  <a:pt x="5591" y="8119"/>
                  <a:pt x="5655" y="8086"/>
                </a:cubicBezTo>
                <a:cubicBezTo>
                  <a:pt x="5703" y="8061"/>
                  <a:pt x="5695" y="8073"/>
                  <a:pt x="5730" y="8012"/>
                </a:cubicBezTo>
              </a:path>
              <a:path w="3970" h="1490">
                <a:moveTo>
                  <a:pt x="5680" y="6921"/>
                </a:moveTo>
                <a:cubicBezTo>
                  <a:pt x="5680" y="6904"/>
                  <a:pt x="5680" y="6888"/>
                  <a:pt x="5680" y="6871"/>
                </a:cubicBezTo>
                <a:cubicBezTo>
                  <a:pt x="5669" y="6915"/>
                  <a:pt x="5634" y="6944"/>
                  <a:pt x="5631" y="6995"/>
                </a:cubicBezTo>
                <a:cubicBezTo>
                  <a:pt x="5629" y="7027"/>
                  <a:pt x="5631" y="7061"/>
                  <a:pt x="5631" y="7094"/>
                </a:cubicBezTo>
                <a:cubicBezTo>
                  <a:pt x="5686" y="7094"/>
                  <a:pt x="5688" y="7103"/>
                  <a:pt x="5730" y="7094"/>
                </a:cubicBezTo>
                <a:cubicBezTo>
                  <a:pt x="5774" y="7084"/>
                  <a:pt x="5825" y="7096"/>
                  <a:pt x="5854" y="7045"/>
                </a:cubicBezTo>
                <a:cubicBezTo>
                  <a:pt x="5880" y="6999"/>
                  <a:pt x="5889" y="6960"/>
                  <a:pt x="5854" y="6921"/>
                </a:cubicBezTo>
                <a:cubicBezTo>
                  <a:pt x="5814" y="6877"/>
                  <a:pt x="5736" y="6896"/>
                  <a:pt x="5680" y="6896"/>
                </a:cubicBezTo>
                <a:cubicBezTo>
                  <a:pt x="5672" y="6896"/>
                  <a:pt x="5663" y="6896"/>
                  <a:pt x="5655" y="68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86040" y="3463920"/>
            <a:ext cx="3330720" cy="81000"/>
          </a:xfrm>
          <a:custGeom>
            <a:avLst/>
            <a:gdLst/>
            <a:ahLst/>
            <a:rect l="l" t="t" r="r" b="b"/>
            <a:pathLst>
              <a:path w="9253" h="224">
                <a:moveTo>
                  <a:pt x="7739" y="9624"/>
                </a:moveTo>
                <a:cubicBezTo>
                  <a:pt x="7854" y="9642"/>
                  <a:pt x="7966" y="9668"/>
                  <a:pt x="8086" y="9674"/>
                </a:cubicBezTo>
                <a:cubicBezTo>
                  <a:pt x="8928" y="9717"/>
                  <a:pt x="9777" y="9630"/>
                  <a:pt x="10616" y="9699"/>
                </a:cubicBezTo>
                <a:cubicBezTo>
                  <a:pt x="10890" y="9721"/>
                  <a:pt x="11160" y="9723"/>
                  <a:pt x="11435" y="9723"/>
                </a:cubicBezTo>
                <a:cubicBezTo>
                  <a:pt x="11667" y="9723"/>
                  <a:pt x="11896" y="9748"/>
                  <a:pt x="12129" y="9748"/>
                </a:cubicBezTo>
                <a:cubicBezTo>
                  <a:pt x="12495" y="9748"/>
                  <a:pt x="12857" y="9768"/>
                  <a:pt x="13221" y="9773"/>
                </a:cubicBezTo>
                <a:cubicBezTo>
                  <a:pt x="13685" y="9780"/>
                  <a:pt x="14147" y="9779"/>
                  <a:pt x="14610" y="9798"/>
                </a:cubicBezTo>
                <a:cubicBezTo>
                  <a:pt x="14875" y="9809"/>
                  <a:pt x="15140" y="9819"/>
                  <a:pt x="15404" y="9823"/>
                </a:cubicBezTo>
                <a:cubicBezTo>
                  <a:pt x="15645" y="9826"/>
                  <a:pt x="15881" y="9847"/>
                  <a:pt x="16123" y="9847"/>
                </a:cubicBezTo>
                <a:cubicBezTo>
                  <a:pt x="16375" y="9847"/>
                  <a:pt x="16686" y="9891"/>
                  <a:pt x="16917" y="9823"/>
                </a:cubicBezTo>
                <a:cubicBezTo>
                  <a:pt x="16960" y="9810"/>
                  <a:pt x="16926" y="9794"/>
                  <a:pt x="16966" y="97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nd the reference angle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318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61000" y="3581280"/>
            <a:ext cx="268200" cy="303480"/>
          </a:xfrm>
          <a:custGeom>
            <a:avLst/>
            <a:gdLst/>
            <a:ahLst/>
            <a:rect l="l" t="t" r="r" b="b"/>
            <a:pathLst>
              <a:path w="745" h="844">
                <a:moveTo>
                  <a:pt x="15726" y="9947"/>
                </a:moveTo>
                <a:cubicBezTo>
                  <a:pt x="15818" y="9992"/>
                  <a:pt x="15877" y="10037"/>
                  <a:pt x="15974" y="10071"/>
                </a:cubicBezTo>
                <a:cubicBezTo>
                  <a:pt x="16088" y="10111"/>
                  <a:pt x="16195" y="10178"/>
                  <a:pt x="16297" y="10244"/>
                </a:cubicBezTo>
                <a:cubicBezTo>
                  <a:pt x="16387" y="10302"/>
                  <a:pt x="16459" y="10358"/>
                  <a:pt x="16470" y="10468"/>
                </a:cubicBezTo>
                <a:cubicBezTo>
                  <a:pt x="16477" y="10537"/>
                  <a:pt x="16458" y="10563"/>
                  <a:pt x="16421" y="10616"/>
                </a:cubicBezTo>
                <a:cubicBezTo>
                  <a:pt x="16365" y="10696"/>
                  <a:pt x="16313" y="10729"/>
                  <a:pt x="16222" y="10765"/>
                </a:cubicBezTo>
                <a:cubicBezTo>
                  <a:pt x="16197" y="10773"/>
                  <a:pt x="16173" y="10782"/>
                  <a:pt x="16148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3040" y="2776680"/>
            <a:ext cx="5037120" cy="2009520"/>
          </a:xfrm>
          <a:custGeom>
            <a:avLst/>
            <a:gdLst/>
            <a:ahLst/>
            <a:rect l="l" t="t" r="r" b="b"/>
            <a:pathLst>
              <a:path w="13990" h="5582">
                <a:moveTo>
                  <a:pt x="7144" y="9500"/>
                </a:moveTo>
                <a:cubicBezTo>
                  <a:pt x="7039" y="9570"/>
                  <a:pt x="6932" y="9639"/>
                  <a:pt x="6821" y="9699"/>
                </a:cubicBezTo>
                <a:cubicBezTo>
                  <a:pt x="6709" y="9760"/>
                  <a:pt x="6608" y="9832"/>
                  <a:pt x="6499" y="9897"/>
                </a:cubicBezTo>
                <a:cubicBezTo>
                  <a:pt x="6454" y="9924"/>
                  <a:pt x="6378" y="9952"/>
                  <a:pt x="6400" y="10021"/>
                </a:cubicBezTo>
                <a:cubicBezTo>
                  <a:pt x="6417" y="10073"/>
                  <a:pt x="6509" y="10084"/>
                  <a:pt x="6548" y="10096"/>
                </a:cubicBezTo>
                <a:cubicBezTo>
                  <a:pt x="6650" y="10128"/>
                  <a:pt x="6745" y="10144"/>
                  <a:pt x="6846" y="10170"/>
                </a:cubicBezTo>
                <a:cubicBezTo>
                  <a:pt x="6947" y="10195"/>
                  <a:pt x="7016" y="10213"/>
                  <a:pt x="7119" y="10220"/>
                </a:cubicBezTo>
              </a:path>
              <a:path w="13990" h="5582">
                <a:moveTo>
                  <a:pt x="10914" y="9971"/>
                </a:moveTo>
                <a:cubicBezTo>
                  <a:pt x="10863" y="10000"/>
                  <a:pt x="10852" y="9995"/>
                  <a:pt x="10840" y="10046"/>
                </a:cubicBezTo>
                <a:cubicBezTo>
                  <a:pt x="10862" y="10063"/>
                  <a:pt x="10905" y="10090"/>
                  <a:pt x="10939" y="10071"/>
                </a:cubicBezTo>
                <a:cubicBezTo>
                  <a:pt x="10977" y="10050"/>
                  <a:pt x="10964" y="10007"/>
                  <a:pt x="10964" y="9971"/>
                </a:cubicBezTo>
                <a:cubicBezTo>
                  <a:pt x="10964" y="9963"/>
                  <a:pt x="10964" y="9955"/>
                  <a:pt x="10964" y="9947"/>
                </a:cubicBezTo>
                <a:cubicBezTo>
                  <a:pt x="10915" y="9947"/>
                  <a:pt x="10904" y="9958"/>
                  <a:pt x="10864" y="9971"/>
                </a:cubicBezTo>
                <a:cubicBezTo>
                  <a:pt x="10830" y="9982"/>
                  <a:pt x="10840" y="9980"/>
                  <a:pt x="10840" y="10021"/>
                </a:cubicBezTo>
                <a:cubicBezTo>
                  <a:pt x="10855" y="10081"/>
                  <a:pt x="10879" y="10071"/>
                  <a:pt x="10939" y="10071"/>
                </a:cubicBezTo>
                <a:cubicBezTo>
                  <a:pt x="11007" y="10071"/>
                  <a:pt x="11013" y="10057"/>
                  <a:pt x="11013" y="9996"/>
                </a:cubicBezTo>
                <a:cubicBezTo>
                  <a:pt x="11013" y="9956"/>
                  <a:pt x="11007" y="9916"/>
                  <a:pt x="10964" y="9897"/>
                </a:cubicBezTo>
                <a:cubicBezTo>
                  <a:pt x="10942" y="9887"/>
                  <a:pt x="10871" y="9911"/>
                  <a:pt x="10864" y="9922"/>
                </a:cubicBezTo>
                <a:cubicBezTo>
                  <a:pt x="10864" y="9947"/>
                  <a:pt x="10864" y="9955"/>
                  <a:pt x="10864" y="9971"/>
                </a:cubicBezTo>
                <a:cubicBezTo>
                  <a:pt x="10908" y="10015"/>
                  <a:pt x="10902" y="10012"/>
                  <a:pt x="10964" y="10021"/>
                </a:cubicBezTo>
              </a:path>
              <a:path w="13990" h="5582">
                <a:moveTo>
                  <a:pt x="12948" y="10120"/>
                </a:moveTo>
                <a:cubicBezTo>
                  <a:pt x="12946" y="10116"/>
                  <a:pt x="12932" y="10071"/>
                  <a:pt x="12923" y="10046"/>
                </a:cubicBezTo>
                <a:cubicBezTo>
                  <a:pt x="12912" y="10017"/>
                  <a:pt x="12911" y="9974"/>
                  <a:pt x="12898" y="9947"/>
                </a:cubicBezTo>
                <a:cubicBezTo>
                  <a:pt x="12879" y="9909"/>
                  <a:pt x="12842" y="9884"/>
                  <a:pt x="12824" y="9847"/>
                </a:cubicBezTo>
                <a:cubicBezTo>
                  <a:pt x="12797" y="9792"/>
                  <a:pt x="12785" y="9751"/>
                  <a:pt x="12750" y="9699"/>
                </a:cubicBezTo>
                <a:cubicBezTo>
                  <a:pt x="12703" y="9629"/>
                  <a:pt x="12654" y="9541"/>
                  <a:pt x="12601" y="9475"/>
                </a:cubicBezTo>
                <a:cubicBezTo>
                  <a:pt x="12533" y="9391"/>
                  <a:pt x="12441" y="9281"/>
                  <a:pt x="12353" y="9203"/>
                </a:cubicBezTo>
                <a:cubicBezTo>
                  <a:pt x="12214" y="9080"/>
                  <a:pt x="12037" y="8959"/>
                  <a:pt x="11881" y="8855"/>
                </a:cubicBezTo>
                <a:cubicBezTo>
                  <a:pt x="11797" y="8799"/>
                  <a:pt x="11703" y="8773"/>
                  <a:pt x="11609" y="8731"/>
                </a:cubicBezTo>
                <a:cubicBezTo>
                  <a:pt x="11517" y="8689"/>
                  <a:pt x="11433" y="8642"/>
                  <a:pt x="11336" y="8607"/>
                </a:cubicBezTo>
                <a:cubicBezTo>
                  <a:pt x="11229" y="8568"/>
                  <a:pt x="11120" y="8559"/>
                  <a:pt x="11013" y="8533"/>
                </a:cubicBezTo>
                <a:cubicBezTo>
                  <a:pt x="10897" y="8505"/>
                  <a:pt x="10808" y="8495"/>
                  <a:pt x="10691" y="8483"/>
                </a:cubicBezTo>
                <a:cubicBezTo>
                  <a:pt x="10583" y="8472"/>
                  <a:pt x="10498" y="8479"/>
                  <a:pt x="10393" y="8483"/>
                </a:cubicBezTo>
                <a:cubicBezTo>
                  <a:pt x="10274" y="8487"/>
                  <a:pt x="10161" y="8485"/>
                  <a:pt x="10046" y="8508"/>
                </a:cubicBezTo>
                <a:cubicBezTo>
                  <a:pt x="9941" y="8529"/>
                  <a:pt x="9847" y="8571"/>
                  <a:pt x="9748" y="8607"/>
                </a:cubicBezTo>
                <a:cubicBezTo>
                  <a:pt x="9625" y="8652"/>
                  <a:pt x="9533" y="8713"/>
                  <a:pt x="9426" y="8781"/>
                </a:cubicBezTo>
                <a:cubicBezTo>
                  <a:pt x="9359" y="8824"/>
                  <a:pt x="9293" y="8861"/>
                  <a:pt x="9227" y="8905"/>
                </a:cubicBezTo>
                <a:cubicBezTo>
                  <a:pt x="9157" y="8952"/>
                  <a:pt x="9110" y="9001"/>
                  <a:pt x="9054" y="9054"/>
                </a:cubicBezTo>
                <a:cubicBezTo>
                  <a:pt x="9005" y="9101"/>
                  <a:pt x="8971" y="9153"/>
                  <a:pt x="8930" y="9203"/>
                </a:cubicBezTo>
                <a:cubicBezTo>
                  <a:pt x="8887" y="9255"/>
                  <a:pt x="8851" y="9298"/>
                  <a:pt x="8806" y="9351"/>
                </a:cubicBezTo>
                <a:cubicBezTo>
                  <a:pt x="8763" y="9401"/>
                  <a:pt x="8712" y="9470"/>
                  <a:pt x="8682" y="9525"/>
                </a:cubicBezTo>
                <a:cubicBezTo>
                  <a:pt x="8646" y="9590"/>
                  <a:pt x="8610" y="9657"/>
                  <a:pt x="8582" y="9723"/>
                </a:cubicBezTo>
                <a:cubicBezTo>
                  <a:pt x="8557" y="9783"/>
                  <a:pt x="8537" y="9855"/>
                  <a:pt x="8508" y="9922"/>
                </a:cubicBezTo>
                <a:cubicBezTo>
                  <a:pt x="8488" y="9969"/>
                  <a:pt x="8472" y="10017"/>
                  <a:pt x="8458" y="10071"/>
                </a:cubicBezTo>
                <a:cubicBezTo>
                  <a:pt x="8445" y="10123"/>
                  <a:pt x="8444" y="10169"/>
                  <a:pt x="8434" y="10220"/>
                </a:cubicBezTo>
                <a:cubicBezTo>
                  <a:pt x="8424" y="10274"/>
                  <a:pt x="8413" y="10311"/>
                  <a:pt x="8409" y="10368"/>
                </a:cubicBezTo>
                <a:cubicBezTo>
                  <a:pt x="8400" y="10490"/>
                  <a:pt x="8418" y="10602"/>
                  <a:pt x="8434" y="10716"/>
                </a:cubicBezTo>
                <a:cubicBezTo>
                  <a:pt x="8444" y="10789"/>
                  <a:pt x="8453" y="10852"/>
                  <a:pt x="8483" y="10914"/>
                </a:cubicBezTo>
                <a:cubicBezTo>
                  <a:pt x="8499" y="10947"/>
                  <a:pt x="8517" y="10982"/>
                  <a:pt x="8533" y="11013"/>
                </a:cubicBezTo>
                <a:cubicBezTo>
                  <a:pt x="8553" y="11051"/>
                  <a:pt x="8584" y="11074"/>
                  <a:pt x="8607" y="11112"/>
                </a:cubicBezTo>
                <a:cubicBezTo>
                  <a:pt x="8631" y="11152"/>
                  <a:pt x="8652" y="11199"/>
                  <a:pt x="8682" y="11237"/>
                </a:cubicBezTo>
                <a:cubicBezTo>
                  <a:pt x="8695" y="11253"/>
                  <a:pt x="8758" y="11285"/>
                  <a:pt x="8781" y="11311"/>
                </a:cubicBezTo>
                <a:cubicBezTo>
                  <a:pt x="8797" y="11329"/>
                  <a:pt x="8828" y="11353"/>
                  <a:pt x="8855" y="11385"/>
                </a:cubicBezTo>
                <a:cubicBezTo>
                  <a:pt x="8883" y="11417"/>
                  <a:pt x="8919" y="11473"/>
                  <a:pt x="8954" y="11509"/>
                </a:cubicBezTo>
                <a:cubicBezTo>
                  <a:pt x="8985" y="11541"/>
                  <a:pt x="9037" y="11593"/>
                  <a:pt x="9079" y="11633"/>
                </a:cubicBezTo>
                <a:cubicBezTo>
                  <a:pt x="9116" y="11667"/>
                  <a:pt x="9140" y="11682"/>
                  <a:pt x="9178" y="11708"/>
                </a:cubicBezTo>
                <a:cubicBezTo>
                  <a:pt x="9235" y="11748"/>
                  <a:pt x="9296" y="11769"/>
                  <a:pt x="9351" y="11807"/>
                </a:cubicBezTo>
                <a:cubicBezTo>
                  <a:pt x="9430" y="11861"/>
                  <a:pt x="9501" y="11913"/>
                  <a:pt x="9575" y="11956"/>
                </a:cubicBezTo>
                <a:cubicBezTo>
                  <a:pt x="9622" y="11984"/>
                  <a:pt x="9652" y="12007"/>
                  <a:pt x="9699" y="12030"/>
                </a:cubicBezTo>
                <a:cubicBezTo>
                  <a:pt x="9771" y="12065"/>
                  <a:pt x="9821" y="12098"/>
                  <a:pt x="9897" y="12129"/>
                </a:cubicBezTo>
                <a:cubicBezTo>
                  <a:pt x="9942" y="12148"/>
                  <a:pt x="10002" y="12160"/>
                  <a:pt x="10046" y="12179"/>
                </a:cubicBezTo>
                <a:cubicBezTo>
                  <a:pt x="10098" y="12202"/>
                  <a:pt x="10148" y="12234"/>
                  <a:pt x="10195" y="12254"/>
                </a:cubicBezTo>
                <a:cubicBezTo>
                  <a:pt x="10257" y="12280"/>
                  <a:pt x="10306" y="12305"/>
                  <a:pt x="10368" y="12328"/>
                </a:cubicBezTo>
                <a:cubicBezTo>
                  <a:pt x="10416" y="12346"/>
                  <a:pt x="10468" y="12360"/>
                  <a:pt x="10517" y="12378"/>
                </a:cubicBezTo>
                <a:cubicBezTo>
                  <a:pt x="10573" y="12399"/>
                  <a:pt x="10615" y="12432"/>
                  <a:pt x="10666" y="12452"/>
                </a:cubicBezTo>
                <a:cubicBezTo>
                  <a:pt x="10721" y="12473"/>
                  <a:pt x="10765" y="12483"/>
                  <a:pt x="10815" y="12502"/>
                </a:cubicBezTo>
                <a:cubicBezTo>
                  <a:pt x="10863" y="12521"/>
                  <a:pt x="10913" y="12541"/>
                  <a:pt x="10964" y="12551"/>
                </a:cubicBezTo>
                <a:cubicBezTo>
                  <a:pt x="11007" y="12560"/>
                  <a:pt x="11049" y="12572"/>
                  <a:pt x="11088" y="12576"/>
                </a:cubicBezTo>
                <a:cubicBezTo>
                  <a:pt x="11137" y="12581"/>
                  <a:pt x="11223" y="12598"/>
                  <a:pt x="11261" y="12601"/>
                </a:cubicBezTo>
                <a:cubicBezTo>
                  <a:pt x="11468" y="12616"/>
                  <a:pt x="11716" y="12618"/>
                  <a:pt x="11906" y="12576"/>
                </a:cubicBezTo>
                <a:cubicBezTo>
                  <a:pt x="11964" y="12563"/>
                  <a:pt x="12023" y="12538"/>
                  <a:pt x="12080" y="12526"/>
                </a:cubicBezTo>
                <a:cubicBezTo>
                  <a:pt x="12130" y="12515"/>
                  <a:pt x="12159" y="12515"/>
                  <a:pt x="12204" y="12502"/>
                </a:cubicBezTo>
                <a:cubicBezTo>
                  <a:pt x="12244" y="12490"/>
                  <a:pt x="12286" y="12490"/>
                  <a:pt x="12328" y="12477"/>
                </a:cubicBezTo>
                <a:cubicBezTo>
                  <a:pt x="12367" y="12465"/>
                  <a:pt x="12412" y="12442"/>
                  <a:pt x="12452" y="12427"/>
                </a:cubicBezTo>
                <a:cubicBezTo>
                  <a:pt x="12488" y="12414"/>
                  <a:pt x="12516" y="12392"/>
                  <a:pt x="12551" y="12378"/>
                </a:cubicBezTo>
                <a:cubicBezTo>
                  <a:pt x="12583" y="12365"/>
                  <a:pt x="12619" y="12369"/>
                  <a:pt x="12650" y="12353"/>
                </a:cubicBezTo>
                <a:cubicBezTo>
                  <a:pt x="12682" y="12337"/>
                  <a:pt x="12721" y="12320"/>
                  <a:pt x="12750" y="12303"/>
                </a:cubicBezTo>
                <a:cubicBezTo>
                  <a:pt x="12791" y="12279"/>
                  <a:pt x="12792" y="12269"/>
                  <a:pt x="12824" y="12254"/>
                </a:cubicBezTo>
                <a:cubicBezTo>
                  <a:pt x="12848" y="12243"/>
                  <a:pt x="12871" y="12246"/>
                  <a:pt x="12898" y="12229"/>
                </a:cubicBezTo>
                <a:cubicBezTo>
                  <a:pt x="12938" y="12204"/>
                  <a:pt x="12944" y="12197"/>
                  <a:pt x="12973" y="12179"/>
                </a:cubicBezTo>
                <a:cubicBezTo>
                  <a:pt x="13002" y="12161"/>
                  <a:pt x="13008" y="12156"/>
                  <a:pt x="13047" y="12129"/>
                </a:cubicBezTo>
                <a:cubicBezTo>
                  <a:pt x="13072" y="12111"/>
                  <a:pt x="13084" y="12104"/>
                  <a:pt x="13122" y="12080"/>
                </a:cubicBezTo>
                <a:cubicBezTo>
                  <a:pt x="13149" y="12063"/>
                  <a:pt x="13162" y="12074"/>
                  <a:pt x="13196" y="12055"/>
                </a:cubicBezTo>
                <a:cubicBezTo>
                  <a:pt x="13232" y="12035"/>
                  <a:pt x="13263" y="12003"/>
                  <a:pt x="13295" y="11981"/>
                </a:cubicBezTo>
                <a:cubicBezTo>
                  <a:pt x="13322" y="11962"/>
                  <a:pt x="13351" y="11946"/>
                  <a:pt x="13370" y="11931"/>
                </a:cubicBezTo>
                <a:cubicBezTo>
                  <a:pt x="13385" y="11920"/>
                  <a:pt x="13403" y="11895"/>
                  <a:pt x="13419" y="11881"/>
                </a:cubicBezTo>
              </a:path>
              <a:path w="13990" h="5582">
                <a:moveTo>
                  <a:pt x="11038" y="10021"/>
                </a:moveTo>
                <a:cubicBezTo>
                  <a:pt x="11055" y="10037"/>
                  <a:pt x="11091" y="10078"/>
                  <a:pt x="11112" y="10096"/>
                </a:cubicBezTo>
                <a:cubicBezTo>
                  <a:pt x="11150" y="10127"/>
                  <a:pt x="11195" y="10170"/>
                  <a:pt x="11237" y="10195"/>
                </a:cubicBezTo>
                <a:cubicBezTo>
                  <a:pt x="11306" y="10237"/>
                  <a:pt x="11368" y="10276"/>
                  <a:pt x="11435" y="10319"/>
                </a:cubicBezTo>
                <a:cubicBezTo>
                  <a:pt x="11526" y="10377"/>
                  <a:pt x="11616" y="10435"/>
                  <a:pt x="11708" y="10492"/>
                </a:cubicBezTo>
                <a:cubicBezTo>
                  <a:pt x="11792" y="10545"/>
                  <a:pt x="11872" y="10610"/>
                  <a:pt x="11956" y="10666"/>
                </a:cubicBezTo>
                <a:cubicBezTo>
                  <a:pt x="12042" y="10723"/>
                  <a:pt x="12122" y="10776"/>
                  <a:pt x="12204" y="10840"/>
                </a:cubicBezTo>
                <a:cubicBezTo>
                  <a:pt x="12312" y="10924"/>
                  <a:pt x="12420" y="11004"/>
                  <a:pt x="12526" y="11088"/>
                </a:cubicBezTo>
                <a:cubicBezTo>
                  <a:pt x="12609" y="11154"/>
                  <a:pt x="12691" y="11220"/>
                  <a:pt x="12774" y="11286"/>
                </a:cubicBezTo>
                <a:cubicBezTo>
                  <a:pt x="12855" y="11351"/>
                  <a:pt x="12938" y="11425"/>
                  <a:pt x="13022" y="11485"/>
                </a:cubicBezTo>
                <a:cubicBezTo>
                  <a:pt x="13123" y="11558"/>
                  <a:pt x="13226" y="11626"/>
                  <a:pt x="13320" y="11708"/>
                </a:cubicBezTo>
                <a:cubicBezTo>
                  <a:pt x="13412" y="11788"/>
                  <a:pt x="13496" y="11857"/>
                  <a:pt x="13593" y="11931"/>
                </a:cubicBezTo>
                <a:cubicBezTo>
                  <a:pt x="13740" y="12043"/>
                  <a:pt x="13878" y="12156"/>
                  <a:pt x="14015" y="12278"/>
                </a:cubicBezTo>
                <a:cubicBezTo>
                  <a:pt x="14124" y="12375"/>
                  <a:pt x="14227" y="12481"/>
                  <a:pt x="14337" y="12576"/>
                </a:cubicBezTo>
                <a:cubicBezTo>
                  <a:pt x="14417" y="12645"/>
                  <a:pt x="14507" y="12704"/>
                  <a:pt x="14585" y="12774"/>
                </a:cubicBezTo>
                <a:cubicBezTo>
                  <a:pt x="14678" y="12858"/>
                  <a:pt x="14761" y="12947"/>
                  <a:pt x="14858" y="13022"/>
                </a:cubicBezTo>
                <a:cubicBezTo>
                  <a:pt x="14906" y="13059"/>
                  <a:pt x="14884" y="13047"/>
                  <a:pt x="14932" y="13072"/>
                </a:cubicBezTo>
                <a:cubicBezTo>
                  <a:pt x="14954" y="13084"/>
                  <a:pt x="14933" y="13066"/>
                  <a:pt x="14957" y="13072"/>
                </a:cubicBezTo>
              </a:path>
              <a:path w="13990" h="5582">
                <a:moveTo>
                  <a:pt x="14784" y="12551"/>
                </a:moveTo>
                <a:cubicBezTo>
                  <a:pt x="14814" y="12613"/>
                  <a:pt x="14851" y="12665"/>
                  <a:pt x="14883" y="12725"/>
                </a:cubicBezTo>
                <a:cubicBezTo>
                  <a:pt x="14931" y="12815"/>
                  <a:pt x="15016" y="12918"/>
                  <a:pt x="15081" y="12998"/>
                </a:cubicBezTo>
                <a:cubicBezTo>
                  <a:pt x="15134" y="13064"/>
                  <a:pt x="15218" y="13168"/>
                  <a:pt x="15280" y="13221"/>
                </a:cubicBezTo>
                <a:cubicBezTo>
                  <a:pt x="15304" y="13221"/>
                  <a:pt x="15312" y="13221"/>
                  <a:pt x="15304" y="13246"/>
                </a:cubicBezTo>
                <a:cubicBezTo>
                  <a:pt x="15224" y="13246"/>
                  <a:pt x="15157" y="13262"/>
                  <a:pt x="15081" y="13271"/>
                </a:cubicBezTo>
                <a:cubicBezTo>
                  <a:pt x="15004" y="13280"/>
                  <a:pt x="14932" y="13290"/>
                  <a:pt x="14858" y="13295"/>
                </a:cubicBezTo>
                <a:cubicBezTo>
                  <a:pt x="14826" y="13297"/>
                  <a:pt x="14791" y="13295"/>
                  <a:pt x="14759" y="13295"/>
                </a:cubicBezTo>
              </a:path>
              <a:path w="13990" h="5582">
                <a:moveTo>
                  <a:pt x="12774" y="11733"/>
                </a:moveTo>
                <a:cubicBezTo>
                  <a:pt x="12788" y="11772"/>
                  <a:pt x="12824" y="11757"/>
                  <a:pt x="12874" y="11757"/>
                </a:cubicBezTo>
                <a:cubicBezTo>
                  <a:pt x="12944" y="11757"/>
                  <a:pt x="12983" y="11738"/>
                  <a:pt x="13047" y="11733"/>
                </a:cubicBezTo>
                <a:cubicBezTo>
                  <a:pt x="13106" y="11728"/>
                  <a:pt x="13126" y="11743"/>
                  <a:pt x="13171" y="11757"/>
                </a:cubicBezTo>
                <a:cubicBezTo>
                  <a:pt x="13229" y="11776"/>
                  <a:pt x="13240" y="11769"/>
                  <a:pt x="13246" y="11832"/>
                </a:cubicBezTo>
                <a:cubicBezTo>
                  <a:pt x="13252" y="11893"/>
                  <a:pt x="13290" y="11932"/>
                  <a:pt x="13320" y="11981"/>
                </a:cubicBezTo>
                <a:cubicBezTo>
                  <a:pt x="13347" y="12025"/>
                  <a:pt x="13376" y="12099"/>
                  <a:pt x="13419" y="12129"/>
                </a:cubicBezTo>
                <a:cubicBezTo>
                  <a:pt x="13465" y="12162"/>
                  <a:pt x="13503" y="12188"/>
                  <a:pt x="13543" y="12229"/>
                </a:cubicBezTo>
              </a:path>
              <a:path w="13990" h="5582">
                <a:moveTo>
                  <a:pt x="9525" y="7813"/>
                </a:moveTo>
                <a:cubicBezTo>
                  <a:pt x="9470" y="7868"/>
                  <a:pt x="9459" y="7889"/>
                  <a:pt x="9426" y="7962"/>
                </a:cubicBezTo>
                <a:cubicBezTo>
                  <a:pt x="9384" y="8055"/>
                  <a:pt x="9379" y="8182"/>
                  <a:pt x="9376" y="8285"/>
                </a:cubicBezTo>
                <a:cubicBezTo>
                  <a:pt x="9374" y="8348"/>
                  <a:pt x="9393" y="8469"/>
                  <a:pt x="9451" y="8508"/>
                </a:cubicBezTo>
                <a:cubicBezTo>
                  <a:pt x="9550" y="8575"/>
                  <a:pt x="9675" y="8548"/>
                  <a:pt x="9773" y="8483"/>
                </a:cubicBezTo>
                <a:cubicBezTo>
                  <a:pt x="9840" y="8439"/>
                  <a:pt x="9932" y="8314"/>
                  <a:pt x="9947" y="8235"/>
                </a:cubicBezTo>
                <a:cubicBezTo>
                  <a:pt x="9965" y="8143"/>
                  <a:pt x="9944" y="8041"/>
                  <a:pt x="9897" y="7962"/>
                </a:cubicBezTo>
                <a:cubicBezTo>
                  <a:pt x="9837" y="7861"/>
                  <a:pt x="9775" y="7812"/>
                  <a:pt x="9674" y="7764"/>
                </a:cubicBezTo>
                <a:cubicBezTo>
                  <a:pt x="9639" y="7747"/>
                  <a:pt x="9483" y="7701"/>
                  <a:pt x="9451" y="7714"/>
                </a:cubicBezTo>
                <a:cubicBezTo>
                  <a:pt x="9407" y="7732"/>
                  <a:pt x="9403" y="7753"/>
                  <a:pt x="9376" y="7789"/>
                </a:cubicBezTo>
              </a:path>
              <a:path w="13990" h="5582">
                <a:moveTo>
                  <a:pt x="9004" y="8210"/>
                </a:moveTo>
                <a:cubicBezTo>
                  <a:pt x="9010" y="8222"/>
                  <a:pt x="9120" y="8219"/>
                  <a:pt x="9178" y="8210"/>
                </a:cubicBezTo>
                <a:cubicBezTo>
                  <a:pt x="9326" y="8188"/>
                  <a:pt x="9477" y="8166"/>
                  <a:pt x="9624" y="8136"/>
                </a:cubicBezTo>
                <a:cubicBezTo>
                  <a:pt x="9754" y="8110"/>
                  <a:pt x="9888" y="8092"/>
                  <a:pt x="10021" y="8086"/>
                </a:cubicBezTo>
                <a:cubicBezTo>
                  <a:pt x="10042" y="8085"/>
                  <a:pt x="10183" y="8062"/>
                  <a:pt x="10120" y="8062"/>
                </a:cubicBezTo>
                <a:cubicBezTo>
                  <a:pt x="10096" y="8062"/>
                  <a:pt x="10087" y="8062"/>
                  <a:pt x="10071" y="8062"/>
                </a:cubicBezTo>
              </a:path>
              <a:path w="13990" h="5582">
                <a:moveTo>
                  <a:pt x="12799" y="11237"/>
                </a:moveTo>
                <a:cubicBezTo>
                  <a:pt x="12822" y="11253"/>
                  <a:pt x="12865" y="11279"/>
                  <a:pt x="12898" y="11261"/>
                </a:cubicBezTo>
                <a:cubicBezTo>
                  <a:pt x="12937" y="11240"/>
                  <a:pt x="12965" y="11221"/>
                  <a:pt x="12998" y="11187"/>
                </a:cubicBezTo>
                <a:cubicBezTo>
                  <a:pt x="13043" y="11141"/>
                  <a:pt x="13075" y="11086"/>
                  <a:pt x="13122" y="11038"/>
                </a:cubicBezTo>
                <a:cubicBezTo>
                  <a:pt x="13199" y="10960"/>
                  <a:pt x="13224" y="10864"/>
                  <a:pt x="13271" y="10765"/>
                </a:cubicBezTo>
                <a:cubicBezTo>
                  <a:pt x="13306" y="10691"/>
                  <a:pt x="13298" y="10618"/>
                  <a:pt x="13320" y="10542"/>
                </a:cubicBezTo>
                <a:cubicBezTo>
                  <a:pt x="13335" y="10491"/>
                  <a:pt x="13357" y="10438"/>
                  <a:pt x="13370" y="10393"/>
                </a:cubicBezTo>
                <a:cubicBezTo>
                  <a:pt x="13376" y="10373"/>
                  <a:pt x="13370" y="10340"/>
                  <a:pt x="13370" y="10319"/>
                </a:cubicBezTo>
              </a:path>
              <a:path w="13990" h="5582">
                <a:moveTo>
                  <a:pt x="13047" y="10368"/>
                </a:moveTo>
                <a:cubicBezTo>
                  <a:pt x="13039" y="10376"/>
                  <a:pt x="13030" y="10385"/>
                  <a:pt x="13022" y="10393"/>
                </a:cubicBezTo>
                <a:cubicBezTo>
                  <a:pt x="13059" y="10384"/>
                  <a:pt x="13092" y="10371"/>
                  <a:pt x="13122" y="10344"/>
                </a:cubicBezTo>
                <a:cubicBezTo>
                  <a:pt x="13164" y="10307"/>
                  <a:pt x="13197" y="10284"/>
                  <a:pt x="13246" y="10269"/>
                </a:cubicBezTo>
                <a:cubicBezTo>
                  <a:pt x="13279" y="10259"/>
                  <a:pt x="13352" y="10258"/>
                  <a:pt x="13370" y="10294"/>
                </a:cubicBezTo>
                <a:cubicBezTo>
                  <a:pt x="13385" y="10323"/>
                  <a:pt x="13432" y="10392"/>
                  <a:pt x="13469" y="10418"/>
                </a:cubicBezTo>
                <a:cubicBezTo>
                  <a:pt x="13519" y="10453"/>
                  <a:pt x="13572" y="10476"/>
                  <a:pt x="13618" y="10517"/>
                </a:cubicBezTo>
                <a:cubicBezTo>
                  <a:pt x="13640" y="10539"/>
                  <a:pt x="13645" y="10548"/>
                  <a:pt x="13667" y="10542"/>
                </a:cubicBezTo>
              </a:path>
              <a:path w="13990" h="5582">
                <a:moveTo>
                  <a:pt x="13990" y="10641"/>
                </a:moveTo>
                <a:cubicBezTo>
                  <a:pt x="13947" y="10726"/>
                  <a:pt x="13897" y="10751"/>
                  <a:pt x="13841" y="10815"/>
                </a:cubicBezTo>
                <a:cubicBezTo>
                  <a:pt x="13797" y="10865"/>
                  <a:pt x="13770" y="10950"/>
                  <a:pt x="13767" y="11013"/>
                </a:cubicBezTo>
                <a:cubicBezTo>
                  <a:pt x="13765" y="11052"/>
                  <a:pt x="13767" y="11160"/>
                  <a:pt x="13791" y="11187"/>
                </a:cubicBezTo>
                <a:cubicBezTo>
                  <a:pt x="13837" y="11238"/>
                  <a:pt x="13917" y="11219"/>
                  <a:pt x="13965" y="11212"/>
                </a:cubicBezTo>
                <a:cubicBezTo>
                  <a:pt x="14031" y="11202"/>
                  <a:pt x="14063" y="11175"/>
                  <a:pt x="14089" y="11112"/>
                </a:cubicBezTo>
                <a:cubicBezTo>
                  <a:pt x="14120" y="11037"/>
                  <a:pt x="14161" y="10948"/>
                  <a:pt x="14139" y="10864"/>
                </a:cubicBezTo>
                <a:cubicBezTo>
                  <a:pt x="14122" y="10800"/>
                  <a:pt x="14074" y="10718"/>
                  <a:pt x="14039" y="10666"/>
                </a:cubicBezTo>
                <a:cubicBezTo>
                  <a:pt x="14016" y="10631"/>
                  <a:pt x="13962" y="10538"/>
                  <a:pt x="13915" y="10517"/>
                </a:cubicBezTo>
                <a:cubicBezTo>
                  <a:pt x="13887" y="10517"/>
                  <a:pt x="13877" y="10520"/>
                  <a:pt x="13866" y="10542"/>
                </a:cubicBezTo>
              </a:path>
              <a:path w="13990" h="5582">
                <a:moveTo>
                  <a:pt x="13568" y="10815"/>
                </a:moveTo>
                <a:cubicBezTo>
                  <a:pt x="13645" y="10844"/>
                  <a:pt x="13712" y="10846"/>
                  <a:pt x="13791" y="10864"/>
                </a:cubicBezTo>
                <a:cubicBezTo>
                  <a:pt x="13891" y="10887"/>
                  <a:pt x="13960" y="10914"/>
                  <a:pt x="14064" y="10914"/>
                </a:cubicBezTo>
                <a:cubicBezTo>
                  <a:pt x="14130" y="10914"/>
                  <a:pt x="14147" y="10914"/>
                  <a:pt x="14188" y="10914"/>
                </a:cubicBezTo>
              </a:path>
              <a:path w="13990" h="5582">
                <a:moveTo>
                  <a:pt x="14610" y="10567"/>
                </a:moveTo>
                <a:cubicBezTo>
                  <a:pt x="14586" y="10705"/>
                  <a:pt x="14605" y="10727"/>
                  <a:pt x="14536" y="10815"/>
                </a:cubicBezTo>
              </a:path>
              <a:path w="13990" h="5582">
                <a:moveTo>
                  <a:pt x="1687" y="10418"/>
                </a:moveTo>
                <a:cubicBezTo>
                  <a:pt x="1679" y="10544"/>
                  <a:pt x="1639" y="10642"/>
                  <a:pt x="1612" y="10765"/>
                </a:cubicBezTo>
                <a:cubicBezTo>
                  <a:pt x="1582" y="10902"/>
                  <a:pt x="1531" y="11048"/>
                  <a:pt x="1513" y="11187"/>
                </a:cubicBezTo>
                <a:cubicBezTo>
                  <a:pt x="1502" y="11271"/>
                  <a:pt x="1512" y="11406"/>
                  <a:pt x="1588" y="11460"/>
                </a:cubicBezTo>
                <a:cubicBezTo>
                  <a:pt x="1667" y="11516"/>
                  <a:pt x="1753" y="11513"/>
                  <a:pt x="1836" y="11485"/>
                </a:cubicBezTo>
                <a:cubicBezTo>
                  <a:pt x="2011" y="11427"/>
                  <a:pt x="2063" y="11259"/>
                  <a:pt x="2084" y="11088"/>
                </a:cubicBezTo>
                <a:cubicBezTo>
                  <a:pt x="2102" y="10943"/>
                  <a:pt x="2035" y="10832"/>
                  <a:pt x="1960" y="10716"/>
                </a:cubicBezTo>
                <a:cubicBezTo>
                  <a:pt x="1903" y="10628"/>
                  <a:pt x="1837" y="10533"/>
                  <a:pt x="1761" y="10468"/>
                </a:cubicBezTo>
                <a:cubicBezTo>
                  <a:pt x="1702" y="10417"/>
                  <a:pt x="1693" y="10419"/>
                  <a:pt x="1662" y="10393"/>
                </a:cubicBezTo>
              </a:path>
              <a:path w="13990" h="5582">
                <a:moveTo>
                  <a:pt x="1315" y="10790"/>
                </a:moveTo>
                <a:cubicBezTo>
                  <a:pt x="1365" y="10880"/>
                  <a:pt x="1421" y="10878"/>
                  <a:pt x="1538" y="10889"/>
                </a:cubicBezTo>
                <a:cubicBezTo>
                  <a:pt x="1692" y="10904"/>
                  <a:pt x="1854" y="10889"/>
                  <a:pt x="2009" y="10889"/>
                </a:cubicBezTo>
              </a:path>
              <a:path w="13990" h="5582">
                <a:moveTo>
                  <a:pt x="2456" y="10046"/>
                </a:moveTo>
                <a:cubicBezTo>
                  <a:pt x="2438" y="10180"/>
                  <a:pt x="2407" y="10270"/>
                  <a:pt x="2381" y="10393"/>
                </a:cubicBezTo>
                <a:cubicBezTo>
                  <a:pt x="2370" y="10446"/>
                  <a:pt x="2381" y="10513"/>
                  <a:pt x="2381" y="10567"/>
                </a:cubicBezTo>
              </a:path>
              <a:path w="13990" h="5582">
                <a:moveTo>
                  <a:pt x="2654" y="11038"/>
                </a:moveTo>
                <a:cubicBezTo>
                  <a:pt x="2737" y="11053"/>
                  <a:pt x="2797" y="11063"/>
                  <a:pt x="2877" y="11063"/>
                </a:cubicBezTo>
              </a:path>
              <a:path w="13990" h="5582">
                <a:moveTo>
                  <a:pt x="2580" y="11237"/>
                </a:moveTo>
                <a:cubicBezTo>
                  <a:pt x="2667" y="11260"/>
                  <a:pt x="2737" y="11261"/>
                  <a:pt x="2828" y="11261"/>
                </a:cubicBezTo>
                <a:cubicBezTo>
                  <a:pt x="2861" y="11261"/>
                  <a:pt x="2894" y="11261"/>
                  <a:pt x="2927" y="11261"/>
                </a:cubicBezTo>
              </a:path>
              <a:path w="13990" h="5582">
                <a:moveTo>
                  <a:pt x="3274" y="10641"/>
                </a:moveTo>
                <a:cubicBezTo>
                  <a:pt x="3312" y="10613"/>
                  <a:pt x="3325" y="10616"/>
                  <a:pt x="3373" y="10616"/>
                </a:cubicBezTo>
                <a:cubicBezTo>
                  <a:pt x="3431" y="10616"/>
                  <a:pt x="3499" y="10617"/>
                  <a:pt x="3547" y="10641"/>
                </a:cubicBezTo>
                <a:cubicBezTo>
                  <a:pt x="3580" y="10657"/>
                  <a:pt x="3586" y="10736"/>
                  <a:pt x="3572" y="10765"/>
                </a:cubicBezTo>
                <a:cubicBezTo>
                  <a:pt x="3546" y="10818"/>
                  <a:pt x="3473" y="10863"/>
                  <a:pt x="3423" y="10889"/>
                </a:cubicBezTo>
                <a:cubicBezTo>
                  <a:pt x="3382" y="10911"/>
                  <a:pt x="3328" y="10902"/>
                  <a:pt x="3299" y="10939"/>
                </a:cubicBezTo>
                <a:cubicBezTo>
                  <a:pt x="3299" y="10947"/>
                  <a:pt x="3299" y="10956"/>
                  <a:pt x="3299" y="10964"/>
                </a:cubicBezTo>
                <a:cubicBezTo>
                  <a:pt x="3363" y="10964"/>
                  <a:pt x="3419" y="10971"/>
                  <a:pt x="3473" y="11013"/>
                </a:cubicBezTo>
                <a:cubicBezTo>
                  <a:pt x="3535" y="11062"/>
                  <a:pt x="3582" y="11161"/>
                  <a:pt x="3597" y="11237"/>
                </a:cubicBezTo>
                <a:cubicBezTo>
                  <a:pt x="3610" y="11306"/>
                  <a:pt x="3552" y="11381"/>
                  <a:pt x="3522" y="11435"/>
                </a:cubicBezTo>
                <a:cubicBezTo>
                  <a:pt x="3481" y="11508"/>
                  <a:pt x="3454" y="11509"/>
                  <a:pt x="3373" y="11509"/>
                </a:cubicBezTo>
                <a:cubicBezTo>
                  <a:pt x="3334" y="11509"/>
                  <a:pt x="3263" y="11483"/>
                  <a:pt x="3249" y="11435"/>
                </a:cubicBezTo>
                <a:cubicBezTo>
                  <a:pt x="3233" y="11380"/>
                  <a:pt x="3269" y="11348"/>
                  <a:pt x="3299" y="11311"/>
                </a:cubicBezTo>
              </a:path>
              <a:path w="13990" h="5582">
                <a:moveTo>
                  <a:pt x="3919" y="10716"/>
                </a:moveTo>
                <a:cubicBezTo>
                  <a:pt x="3904" y="10853"/>
                  <a:pt x="3864" y="10953"/>
                  <a:pt x="3820" y="11088"/>
                </a:cubicBezTo>
                <a:cubicBezTo>
                  <a:pt x="3791" y="11176"/>
                  <a:pt x="3750" y="11265"/>
                  <a:pt x="3770" y="11361"/>
                </a:cubicBezTo>
                <a:cubicBezTo>
                  <a:pt x="3782" y="11418"/>
                  <a:pt x="3820" y="11523"/>
                  <a:pt x="3870" y="11559"/>
                </a:cubicBezTo>
                <a:cubicBezTo>
                  <a:pt x="3933" y="11604"/>
                  <a:pt x="4004" y="11587"/>
                  <a:pt x="4068" y="11559"/>
                </a:cubicBezTo>
                <a:cubicBezTo>
                  <a:pt x="4131" y="11531"/>
                  <a:pt x="4189" y="11472"/>
                  <a:pt x="4217" y="11410"/>
                </a:cubicBezTo>
                <a:cubicBezTo>
                  <a:pt x="4241" y="11357"/>
                  <a:pt x="4246" y="11274"/>
                  <a:pt x="4192" y="11237"/>
                </a:cubicBezTo>
                <a:cubicBezTo>
                  <a:pt x="4124" y="11191"/>
                  <a:pt x="4059" y="11252"/>
                  <a:pt x="4018" y="11311"/>
                </a:cubicBezTo>
                <a:cubicBezTo>
                  <a:pt x="3966" y="11385"/>
                  <a:pt x="3980" y="11390"/>
                  <a:pt x="3994" y="11460"/>
                </a:cubicBezTo>
                <a:cubicBezTo>
                  <a:pt x="4007" y="11525"/>
                  <a:pt x="3998" y="11534"/>
                  <a:pt x="4068" y="11534"/>
                </a:cubicBezTo>
              </a:path>
              <a:path w="13990" h="5582">
                <a:moveTo>
                  <a:pt x="4390" y="10740"/>
                </a:moveTo>
                <a:cubicBezTo>
                  <a:pt x="4370" y="10843"/>
                  <a:pt x="4312" y="10928"/>
                  <a:pt x="4291" y="11038"/>
                </a:cubicBezTo>
                <a:cubicBezTo>
                  <a:pt x="4276" y="11117"/>
                  <a:pt x="4250" y="11228"/>
                  <a:pt x="4266" y="11311"/>
                </a:cubicBezTo>
                <a:cubicBezTo>
                  <a:pt x="4277" y="11368"/>
                  <a:pt x="4316" y="11473"/>
                  <a:pt x="4366" y="11509"/>
                </a:cubicBezTo>
                <a:cubicBezTo>
                  <a:pt x="4422" y="11549"/>
                  <a:pt x="4465" y="11578"/>
                  <a:pt x="4514" y="11509"/>
                </a:cubicBezTo>
                <a:cubicBezTo>
                  <a:pt x="4579" y="11418"/>
                  <a:pt x="4610" y="11296"/>
                  <a:pt x="4614" y="11187"/>
                </a:cubicBezTo>
                <a:cubicBezTo>
                  <a:pt x="4618" y="11088"/>
                  <a:pt x="4581" y="11002"/>
                  <a:pt x="4539" y="10914"/>
                </a:cubicBezTo>
                <a:cubicBezTo>
                  <a:pt x="4507" y="10847"/>
                  <a:pt x="4496" y="10798"/>
                  <a:pt x="4415" y="10790"/>
                </a:cubicBezTo>
                <a:cubicBezTo>
                  <a:pt x="4407" y="10790"/>
                  <a:pt x="4398" y="10790"/>
                  <a:pt x="4390" y="10790"/>
                </a:cubicBezTo>
              </a:path>
              <a:path w="13990" h="5582">
                <a:moveTo>
                  <a:pt x="4713" y="11162"/>
                </a:moveTo>
                <a:cubicBezTo>
                  <a:pt x="4821" y="11154"/>
                  <a:pt x="4865" y="11135"/>
                  <a:pt x="4961" y="11088"/>
                </a:cubicBezTo>
              </a:path>
              <a:path w="13990" h="5582">
                <a:moveTo>
                  <a:pt x="5110" y="10716"/>
                </a:moveTo>
                <a:cubicBezTo>
                  <a:pt x="5174" y="10687"/>
                  <a:pt x="5243" y="10644"/>
                  <a:pt x="5308" y="10691"/>
                </a:cubicBezTo>
                <a:cubicBezTo>
                  <a:pt x="5320" y="10700"/>
                  <a:pt x="5395" y="10782"/>
                  <a:pt x="5358" y="10815"/>
                </a:cubicBezTo>
                <a:cubicBezTo>
                  <a:pt x="5322" y="10848"/>
                  <a:pt x="5232" y="10903"/>
                  <a:pt x="5184" y="10914"/>
                </a:cubicBezTo>
                <a:cubicBezTo>
                  <a:pt x="5132" y="10926"/>
                  <a:pt x="5100" y="10920"/>
                  <a:pt x="5085" y="10964"/>
                </a:cubicBezTo>
                <a:cubicBezTo>
                  <a:pt x="5093" y="10988"/>
                  <a:pt x="5145" y="11006"/>
                  <a:pt x="5184" y="11013"/>
                </a:cubicBezTo>
                <a:cubicBezTo>
                  <a:pt x="5275" y="11029"/>
                  <a:pt x="5300" y="11043"/>
                  <a:pt x="5358" y="11112"/>
                </a:cubicBezTo>
                <a:cubicBezTo>
                  <a:pt x="5412" y="11176"/>
                  <a:pt x="5417" y="11209"/>
                  <a:pt x="5383" y="11286"/>
                </a:cubicBezTo>
                <a:cubicBezTo>
                  <a:pt x="5352" y="11356"/>
                  <a:pt x="5284" y="11435"/>
                  <a:pt x="5209" y="11460"/>
                </a:cubicBezTo>
                <a:cubicBezTo>
                  <a:pt x="5174" y="11472"/>
                  <a:pt x="5139" y="11466"/>
                  <a:pt x="5135" y="11435"/>
                </a:cubicBezTo>
                <a:cubicBezTo>
                  <a:pt x="5135" y="11410"/>
                  <a:pt x="5135" y="11402"/>
                  <a:pt x="5135" y="11385"/>
                </a:cubicBezTo>
              </a:path>
              <a:path w="13990" h="5582">
                <a:moveTo>
                  <a:pt x="5655" y="10765"/>
                </a:moveTo>
                <a:cubicBezTo>
                  <a:pt x="5655" y="10908"/>
                  <a:pt x="5613" y="11074"/>
                  <a:pt x="5631" y="11212"/>
                </a:cubicBezTo>
                <a:cubicBezTo>
                  <a:pt x="5641" y="11288"/>
                  <a:pt x="5663" y="11363"/>
                  <a:pt x="5680" y="11435"/>
                </a:cubicBezTo>
                <a:cubicBezTo>
                  <a:pt x="5699" y="11519"/>
                  <a:pt x="5700" y="11445"/>
                  <a:pt x="5730" y="11385"/>
                </a:cubicBezTo>
              </a:path>
              <a:path w="13990" h="5582">
                <a:moveTo>
                  <a:pt x="6127" y="10716"/>
                </a:moveTo>
                <a:cubicBezTo>
                  <a:pt x="6070" y="10716"/>
                  <a:pt x="6037" y="10712"/>
                  <a:pt x="6003" y="10765"/>
                </a:cubicBezTo>
                <a:cubicBezTo>
                  <a:pt x="5950" y="10847"/>
                  <a:pt x="5983" y="10951"/>
                  <a:pt x="6003" y="11038"/>
                </a:cubicBezTo>
                <a:cubicBezTo>
                  <a:pt x="6032" y="11163"/>
                  <a:pt x="6072" y="11282"/>
                  <a:pt x="6077" y="11410"/>
                </a:cubicBezTo>
                <a:cubicBezTo>
                  <a:pt x="6080" y="11483"/>
                  <a:pt x="6087" y="11550"/>
                  <a:pt x="6052" y="11609"/>
                </a:cubicBezTo>
                <a:cubicBezTo>
                  <a:pt x="5985" y="11659"/>
                  <a:pt x="5963" y="11597"/>
                  <a:pt x="5928" y="11534"/>
                </a:cubicBezTo>
                <a:cubicBezTo>
                  <a:pt x="5890" y="11464"/>
                  <a:pt x="5904" y="11399"/>
                  <a:pt x="5953" y="11336"/>
                </a:cubicBezTo>
                <a:cubicBezTo>
                  <a:pt x="6007" y="11267"/>
                  <a:pt x="6082" y="11211"/>
                  <a:pt x="6152" y="11162"/>
                </a:cubicBezTo>
                <a:cubicBezTo>
                  <a:pt x="6232" y="11108"/>
                  <a:pt x="6263" y="11088"/>
                  <a:pt x="6325" y="110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4429080"/>
            <a:ext cx="785880" cy="438120"/>
          </a:xfrm>
          <a:custGeom>
            <a:avLst/>
            <a:gdLst/>
            <a:ahLst/>
            <a:rect l="l" t="t" r="r" b="b"/>
            <a:pathLst>
              <a:path w="2184" h="1217">
                <a:moveTo>
                  <a:pt x="2729" y="12502"/>
                </a:moveTo>
                <a:cubicBezTo>
                  <a:pt x="2829" y="12518"/>
                  <a:pt x="2931" y="12535"/>
                  <a:pt x="3026" y="12551"/>
                </a:cubicBezTo>
                <a:cubicBezTo>
                  <a:pt x="3043" y="12551"/>
                  <a:pt x="3059" y="12551"/>
                  <a:pt x="3076" y="12551"/>
                </a:cubicBezTo>
              </a:path>
              <a:path w="2184" h="1217">
                <a:moveTo>
                  <a:pt x="2679" y="12774"/>
                </a:moveTo>
                <a:cubicBezTo>
                  <a:pt x="2763" y="12795"/>
                  <a:pt x="2863" y="12816"/>
                  <a:pt x="2952" y="12799"/>
                </a:cubicBezTo>
                <a:cubicBezTo>
                  <a:pt x="2977" y="12791"/>
                  <a:pt x="3001" y="12782"/>
                  <a:pt x="3026" y="12774"/>
                </a:cubicBezTo>
              </a:path>
              <a:path w="2184" h="1217">
                <a:moveTo>
                  <a:pt x="3547" y="12427"/>
                </a:moveTo>
                <a:cubicBezTo>
                  <a:pt x="3487" y="12508"/>
                  <a:pt x="3432" y="12595"/>
                  <a:pt x="3373" y="12675"/>
                </a:cubicBezTo>
                <a:cubicBezTo>
                  <a:pt x="3364" y="12687"/>
                  <a:pt x="3324" y="12754"/>
                  <a:pt x="3349" y="12774"/>
                </a:cubicBezTo>
                <a:cubicBezTo>
                  <a:pt x="3370" y="12791"/>
                  <a:pt x="3449" y="12819"/>
                  <a:pt x="3473" y="12824"/>
                </a:cubicBezTo>
                <a:cubicBezTo>
                  <a:pt x="3571" y="12844"/>
                  <a:pt x="3729" y="12838"/>
                  <a:pt x="3820" y="12799"/>
                </a:cubicBezTo>
              </a:path>
              <a:path w="2184" h="1217">
                <a:moveTo>
                  <a:pt x="3820" y="12303"/>
                </a:moveTo>
                <a:cubicBezTo>
                  <a:pt x="3763" y="12425"/>
                  <a:pt x="3748" y="12522"/>
                  <a:pt x="3721" y="12650"/>
                </a:cubicBezTo>
                <a:cubicBezTo>
                  <a:pt x="3692" y="12784"/>
                  <a:pt x="3696" y="12911"/>
                  <a:pt x="3696" y="13047"/>
                </a:cubicBezTo>
                <a:cubicBezTo>
                  <a:pt x="3696" y="13196"/>
                  <a:pt x="3696" y="13593"/>
                  <a:pt x="3696" y="13444"/>
                </a:cubicBezTo>
              </a:path>
              <a:path w="2184" h="1217">
                <a:moveTo>
                  <a:pt x="3969" y="12601"/>
                </a:moveTo>
                <a:cubicBezTo>
                  <a:pt x="4098" y="12517"/>
                  <a:pt x="4148" y="12416"/>
                  <a:pt x="4266" y="12526"/>
                </a:cubicBezTo>
                <a:cubicBezTo>
                  <a:pt x="4338" y="12593"/>
                  <a:pt x="4341" y="12632"/>
                  <a:pt x="4341" y="12725"/>
                </a:cubicBezTo>
                <a:cubicBezTo>
                  <a:pt x="4341" y="12815"/>
                  <a:pt x="4293" y="12902"/>
                  <a:pt x="4242" y="12973"/>
                </a:cubicBezTo>
                <a:cubicBezTo>
                  <a:pt x="4199" y="13033"/>
                  <a:pt x="4098" y="13123"/>
                  <a:pt x="4043" y="13171"/>
                </a:cubicBezTo>
                <a:cubicBezTo>
                  <a:pt x="4013" y="13197"/>
                  <a:pt x="3932" y="13250"/>
                  <a:pt x="3919" y="13295"/>
                </a:cubicBezTo>
                <a:cubicBezTo>
                  <a:pt x="3903" y="13351"/>
                  <a:pt x="3971" y="13407"/>
                  <a:pt x="4018" y="13419"/>
                </a:cubicBezTo>
                <a:cubicBezTo>
                  <a:pt x="4080" y="13435"/>
                  <a:pt x="4153" y="13448"/>
                  <a:pt x="4217" y="13469"/>
                </a:cubicBezTo>
                <a:cubicBezTo>
                  <a:pt x="4296" y="13494"/>
                  <a:pt x="4329" y="13519"/>
                  <a:pt x="4415" y="13519"/>
                </a:cubicBezTo>
                <a:cubicBezTo>
                  <a:pt x="4483" y="13519"/>
                  <a:pt x="4502" y="13522"/>
                  <a:pt x="4539" y="13494"/>
                </a:cubicBezTo>
              </a:path>
              <a:path w="2184" h="1217">
                <a:moveTo>
                  <a:pt x="4688" y="12353"/>
                </a:moveTo>
                <a:cubicBezTo>
                  <a:pt x="4670" y="12371"/>
                  <a:pt x="4558" y="12448"/>
                  <a:pt x="4589" y="12502"/>
                </a:cubicBezTo>
                <a:cubicBezTo>
                  <a:pt x="4616" y="12549"/>
                  <a:pt x="4692" y="12573"/>
                  <a:pt x="4738" y="12576"/>
                </a:cubicBezTo>
                <a:cubicBezTo>
                  <a:pt x="4766" y="12578"/>
                  <a:pt x="4850" y="12591"/>
                  <a:pt x="4862" y="12551"/>
                </a:cubicBezTo>
                <a:cubicBezTo>
                  <a:pt x="4882" y="12487"/>
                  <a:pt x="4836" y="12436"/>
                  <a:pt x="4787" y="12402"/>
                </a:cubicBezTo>
                <a:cubicBezTo>
                  <a:pt x="4723" y="12370"/>
                  <a:pt x="4694" y="12350"/>
                  <a:pt x="4663" y="123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73200" y="3544920"/>
            <a:ext cx="3278160" cy="206280"/>
          </a:xfrm>
          <a:custGeom>
            <a:avLst/>
            <a:gdLst/>
            <a:ahLst/>
            <a:rect l="l" t="t" r="r" b="b"/>
            <a:pathLst>
              <a:path w="9104" h="572">
                <a:moveTo>
                  <a:pt x="6871" y="9847"/>
                </a:moveTo>
                <a:cubicBezTo>
                  <a:pt x="7657" y="9847"/>
                  <a:pt x="8444" y="9842"/>
                  <a:pt x="9227" y="9897"/>
                </a:cubicBezTo>
                <a:cubicBezTo>
                  <a:pt x="9501" y="9916"/>
                  <a:pt x="9771" y="9961"/>
                  <a:pt x="10046" y="9971"/>
                </a:cubicBezTo>
                <a:cubicBezTo>
                  <a:pt x="10445" y="9985"/>
                  <a:pt x="10839" y="10052"/>
                  <a:pt x="11237" y="10071"/>
                </a:cubicBezTo>
                <a:cubicBezTo>
                  <a:pt x="11659" y="10091"/>
                  <a:pt x="12080" y="10152"/>
                  <a:pt x="12502" y="10170"/>
                </a:cubicBezTo>
                <a:cubicBezTo>
                  <a:pt x="12950" y="10189"/>
                  <a:pt x="13394" y="10226"/>
                  <a:pt x="13841" y="10269"/>
                </a:cubicBezTo>
                <a:cubicBezTo>
                  <a:pt x="14294" y="10312"/>
                  <a:pt x="14750" y="10386"/>
                  <a:pt x="15205" y="10393"/>
                </a:cubicBezTo>
                <a:cubicBezTo>
                  <a:pt x="15383" y="10396"/>
                  <a:pt x="15551" y="10425"/>
                  <a:pt x="15726" y="10393"/>
                </a:cubicBezTo>
                <a:cubicBezTo>
                  <a:pt x="15806" y="10378"/>
                  <a:pt x="15859" y="10359"/>
                  <a:pt x="15925" y="10319"/>
                </a:cubicBezTo>
                <a:cubicBezTo>
                  <a:pt x="15949" y="10305"/>
                  <a:pt x="15965" y="10250"/>
                  <a:pt x="15974" y="102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3:25:22Z</dcterms:created>
  <dc:creator>jnewman</dc:creator>
  <dc:description/>
  <dc:language>en-US</dc:language>
  <cp:lastModifiedBy>abeason</cp:lastModifiedBy>
  <dcterms:modified xsi:type="dcterms:W3CDTF">2008-10-06T18:21:12Z</dcterms:modified>
  <cp:revision>7</cp:revision>
  <dc:subject/>
  <dc:title>Lesson 4.4 part one</dc:title>
</cp:coreProperties>
</file>